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D523-E868-4C88-A872-1D87B758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1ECB-9549-4CA3-898D-6AB6B29F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609E-1A7D-482C-807C-838161955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341B-7BED-4EDD-AD50-AA24E9F47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40BE-7CEE-43E5-B286-84DDA59BF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0735-A226-44E1-975D-AD0AB3EC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11B1-3585-4168-81BE-DD834F8A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8581-9FEF-4020-B095-D07B6B4E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EE4A-61E8-409F-A803-2621FF7A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4BE9-7C9D-4F49-9E09-D424AC9B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1B34-0214-44AB-AEBD-3598D6A4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2FA6-61E2-4713-85EA-9B21FEE3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3F40-AC14-4C16-B601-2FA1DBD4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DB34-CBB9-4B7F-902C-BE3E3418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FEBB-0A94-4753-A20A-26E3E87F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6A87-F2EE-451E-A3E1-B0ADE50D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01C6-3A53-4F4C-AAC3-5A6B81C82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4934C-74C0-4948-AF15-83A817C3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114C5-CEF3-4399-B1E5-9F623FF7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E265B-1EB9-477C-862A-960DBD24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87E5E-D534-4884-8E78-D21A6129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986E1-BA37-476A-BA28-7E7EAD98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F9C6-D386-4B90-9BD2-9282F12B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F88F4-4842-42C0-BC30-A83E7D4F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7444B-1F8B-4948-9D7D-10F3FAEB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4B563-00BC-42CD-8637-C451F767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23721-9A8C-487A-AD57-62199B7B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06917-E086-4DA2-99D3-5A0BFE1D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0802A-B1A9-48A6-8A82-F0AAEF6AF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AF092-859C-47B5-BACC-29533EEF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5F89-B381-432D-9B48-A9C2352F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DD4A-AC52-46CF-B37A-58BCB6D4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5A67-D117-479E-A5A4-DF32A787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A673-7F69-40D7-A1AF-3B2A1904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DE27-2CED-49F1-ADCD-96937705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B106-A794-43F2-ACF2-1E58F98A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3D26-6065-4426-916B-3323B0914F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E633-ADF2-4BC5-9E0A-829A2B5B470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A62F-8BFC-4295-81B3-96A6119C066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35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sson 16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rs and Bus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用英语数一数下面的汽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066320" y="2209680"/>
            <a:ext cx="762012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twenty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二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thirty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三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总结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1760" y="2363760"/>
            <a:ext cx="792468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wenty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二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irty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ar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汽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u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共汽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axi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出租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ike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行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ow do you 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…by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car 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小汽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7620120" cy="4343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bus 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公共汽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62120" y="304920"/>
            <a:ext cx="7095960" cy="41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4952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taxi 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出租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7848360" cy="403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5714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bike 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自行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8610480" cy="4648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228960" y="152280"/>
            <a:ext cx="5257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you go to schoo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-360" y="2133360"/>
            <a:ext cx="4724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o to school by bik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259092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怎样去上学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骑自行车去上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1600200" y="2282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w do you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o to the zoo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362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o to the zoo by tax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3429000"/>
            <a:ext cx="3581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怎样去动物园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乘出租车去动物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ow do you go to the restaura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00600" y="502884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o to the restau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5638680"/>
            <a:ext cx="3962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怎样去餐馆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开车去餐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ow do you go hom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04920" y="5257440"/>
            <a:ext cx="46483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o home by b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38680" y="525780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怎样回家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乘坐公共汽车回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1T04:45:32Z</dcterms:created>
  <dc:creator/>
  <dc:description/>
  <dc:language>en-US</dc:language>
  <cp:lastModifiedBy>微软用户</cp:lastModifiedBy>
  <dcterms:modified xsi:type="dcterms:W3CDTF">2017-05-22T07:20:35Z</dcterms:modified>
  <cp:revision>7</cp:revision>
  <dc:subject/>
  <dc:title/>
</cp:coreProperties>
</file>