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D38-ED6B-4A5F-8AD3-3758137F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BA0-A2AE-486B-B01E-1269266D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E5C-DC00-4BA2-B6CC-210E6A9D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553-3E0E-44C6-BD5A-49701FBF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ABDB-4553-448C-A86C-9BD42590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B89C-C227-4149-996B-5C53B941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3DA2-8C30-416E-A8E4-1FBCD030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DAC2-4BD8-4D29-BB05-20BFA44F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D083-5D23-4CDB-84CE-D44D3D92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E8F9-425D-4982-8487-671844D6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0136-AA24-4A53-A827-90D66065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FC4-BAE3-45B8-A2A0-109FAFB6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E6D3-91AB-4D98-91FE-D646A819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3AAD-BEAA-4A54-BE0E-B97042F8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5927-C412-4FBD-8CF7-319A702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6F90-ED05-45BF-A032-C0FE9774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66C2-7939-4573-9FAB-B114C8B2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FF29-0BD8-4E4E-8C20-5F9597DF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116C-52EA-41FE-9BCC-9030A1FE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DED02-AFE7-4670-A4E6-E42D1FB2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912B-19DD-4C19-A83C-A092C947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BADF-0C11-4748-A79C-1A7FD842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F7E-BB1B-4C6B-A7EA-CA8B2FC0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E897-29EF-487E-BF3E-20D0CB34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6D12-0297-4166-8DDF-A274B7F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09CE-049A-48E5-92AF-4F97E50D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1553-2113-4292-81F6-957D9F5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E793-7466-452F-8F89-BBBAF6D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EE03-F047-466E-AC13-483B3BDC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442F0-FD40-4590-A3BD-44FF61E3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1DE-72F5-42FD-B331-8E6EEBAC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FA4-BC39-4678-9B3F-C0C8C829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C85-1AE7-4F90-995F-A7EA1649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44F-F9BA-445F-B948-B7E96018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5DB-5409-4951-8FA9-1264DFB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C35-31DD-4381-80D9-092E212A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9D91-6655-4879-8586-D985840101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0376-8222-42E2-8D20-0B8A148194B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5DF6-2F87-4853-B786-30510A4F06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76520" y="1905120"/>
            <a:ext cx="12953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esson13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27672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600" y="1905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0574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429000"/>
            <a:ext cx="685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son 1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29222" r="19492" b="0"/>
          <a:stretch/>
        </p:blipFill>
        <p:spPr>
          <a:xfrm>
            <a:off x="0" y="26668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762120" y="3049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playground</a:t>
            </a:r>
            <a:endParaRPr b="0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16002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ˈpleiɡraund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2578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66680" y="2438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124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6680" y="24382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3276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3733920"/>
            <a:ext cx="3124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6094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12950"/>
                </a:moveTo>
                <a:lnTo>
                  <a:pt x="17806" y="5943"/>
                </a:lnTo>
                <a:lnTo>
                  <a:pt x="17806" y="199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52480" y="5335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_ssr_ _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1676520"/>
            <a:ext cx="4267080" cy="87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sch_ _</a:t>
            </a:r>
            <a:r>
              <a:rPr b="0" lang="zh-CN" sz="4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31240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_br_r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42670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l_ _gr_ _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971800" y="609480"/>
            <a:ext cx="2590920" cy="779760"/>
            <a:chOff x="2971800" y="609480"/>
            <a:chExt cx="2590920" cy="779760"/>
          </a:xfrm>
        </p:grpSpPr>
        <p:sp>
          <p:nvSpPr>
            <p:cNvPr id="183" name=""/>
            <p:cNvSpPr/>
            <p:nvPr/>
          </p:nvSpPr>
          <p:spPr>
            <a:xfrm>
              <a:off x="2971800" y="60948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8320" y="6858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o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124080" y="1752480"/>
            <a:ext cx="24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3200400"/>
            <a:ext cx="2590920" cy="703440"/>
            <a:chOff x="3657600" y="3200400"/>
            <a:chExt cx="2590920" cy="703440"/>
          </a:xfrm>
        </p:grpSpPr>
        <p:sp>
          <p:nvSpPr>
            <p:cNvPr id="187" name=""/>
            <p:cNvSpPr/>
            <p:nvPr/>
          </p:nvSpPr>
          <p:spPr>
            <a:xfrm>
              <a:off x="3657600" y="320040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2004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6400" y="32004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657600" y="4267080"/>
            <a:ext cx="2666880" cy="855720"/>
            <a:chOff x="3657600" y="4267080"/>
            <a:chExt cx="2666880" cy="855720"/>
          </a:xfrm>
        </p:grpSpPr>
        <p:sp>
          <p:nvSpPr>
            <p:cNvPr id="191" name=""/>
            <p:cNvSpPr/>
            <p:nvPr/>
          </p:nvSpPr>
          <p:spPr>
            <a:xfrm>
              <a:off x="3657600" y="42670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a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52880" y="441936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ou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114800" y="17524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1600200" y="1981080"/>
            <a:ext cx="6705720" cy="703440"/>
            <a:chOff x="1600200" y="1981080"/>
            <a:chExt cx="6705720" cy="703440"/>
          </a:xfrm>
        </p:grpSpPr>
        <p:sp>
          <p:nvSpPr>
            <p:cNvPr id="195" name=""/>
            <p:cNvSpPr/>
            <p:nvPr/>
          </p:nvSpPr>
          <p:spPr>
            <a:xfrm>
              <a:off x="1600200" y="1981080"/>
              <a:ext cx="670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ere’s  the ________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2240" y="1981080"/>
              <a:ext cx="173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librar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905120" y="106668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 want  to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ad  a  boo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33720" y="1371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4876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[ iks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73392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cuse  me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3733920"/>
            <a:ext cx="14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E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3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1371600"/>
            <a:ext cx="846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’s  the ___________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1295280"/>
            <a:ext cx="45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mputer 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2057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: I  can  show  you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28954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  it  is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505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: Thank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6858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: Excuse  me 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304920"/>
            <a:ext cx="8610480" cy="1434960"/>
            <a:chOff x="0" y="304920"/>
            <a:chExt cx="8610480" cy="1434960"/>
          </a:xfrm>
        </p:grpSpPr>
        <p:sp>
          <p:nvSpPr>
            <p:cNvPr id="209" name=""/>
            <p:cNvSpPr/>
            <p:nvPr/>
          </p:nvSpPr>
          <p:spPr>
            <a:xfrm>
              <a:off x="0" y="304920"/>
              <a:ext cx="7975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)1.—  _____! Where is the library ?                    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60120" y="838440"/>
              <a:ext cx="27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Here it is  .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43000" y="1219320"/>
              <a:ext cx="746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.Sorry   B.Excuse me     C. H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-444600" y="2666880"/>
            <a:ext cx="9588240" cy="977760"/>
            <a:chOff x="-444600" y="2666880"/>
            <a:chExt cx="9588240" cy="977760"/>
          </a:xfrm>
        </p:grpSpPr>
        <p:sp>
          <p:nvSpPr>
            <p:cNvPr id="213" name=""/>
            <p:cNvSpPr/>
            <p:nvPr/>
          </p:nvSpPr>
          <p:spPr>
            <a:xfrm>
              <a:off x="-444600" y="2666880"/>
              <a:ext cx="75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)3.—____ ?   — It’s a library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680" y="3124080"/>
              <a:ext cx="859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.What is it B.Where is it C.How are you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-520560" y="1676520"/>
            <a:ext cx="9054720" cy="1053720"/>
            <a:chOff x="-520560" y="1676520"/>
            <a:chExt cx="9054720" cy="1053720"/>
          </a:xfrm>
        </p:grpSpPr>
        <p:sp>
          <p:nvSpPr>
            <p:cNvPr id="216" name=""/>
            <p:cNvSpPr/>
            <p:nvPr/>
          </p:nvSpPr>
          <p:spPr>
            <a:xfrm>
              <a:off x="-520560" y="1676520"/>
              <a:ext cx="65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)2.I can  _____ you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4320" y="2209680"/>
              <a:ext cx="798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. meet  B.  show  C. po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0" y="3581280"/>
            <a:ext cx="8991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)4.—  Excuse  me , Miss  Zhang . 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re  it  is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4572000"/>
            <a:ext cx="906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  can  show  you . B. What  is  i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Where  is  the  librar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5400000">
            <a:off x="7079400" y="1378440"/>
            <a:ext cx="2763720" cy="4636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课堂练习：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581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3000" y="33526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brary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943600" cy="2438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64008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95280" y="76320"/>
            <a:ext cx="6934320" cy="4038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 rot="60000">
            <a:off x="1677960" y="4114800"/>
            <a:ext cx="5560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chool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219320" y="152280"/>
            <a:ext cx="70866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90720" y="3048120"/>
            <a:ext cx="6629400" cy="3297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assro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715000" cy="2514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6781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400" y="2895480"/>
            <a:ext cx="6781680" cy="3297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yground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2666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219320" y="0"/>
            <a:ext cx="6858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95280" y="7621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omework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297180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omplete lesson13 part3 Draw your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514600" y="1295280"/>
            <a:ext cx="3657600" cy="236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bye!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3505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ok, this i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school</a:t>
            </a: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6300"/>
            </a:br>
            <a:br>
              <a:rPr sz="6300"/>
            </a:br>
            <a:br>
              <a:rPr sz="63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-Your school is great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952880" cy="5410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399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5867280" cy="3733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0" y="457200"/>
            <a:ext cx="4191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Futura Lt BT"/>
              </a:rPr>
              <a:t>library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Futura Lt BT"/>
              <a:ea typeface="Futura Lt BT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ˈlaibrəri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674800"/>
            <a:ext cx="6248520" cy="41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52280"/>
            <a:ext cx="4190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classro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556272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057400" y="1600200"/>
            <a:ext cx="58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ˈklɑ:sru:m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5562720" cy="3738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16:35Z</dcterms:created>
  <dc:creator/>
  <dc:description/>
  <dc:language>en-US</dc:language>
  <cp:lastModifiedBy>微软用户</cp:lastModifiedBy>
  <dcterms:modified xsi:type="dcterms:W3CDTF">2017-05-05T06:58:43Z</dcterms:modified>
  <cp:revision>3</cp:revision>
  <dc:subject/>
  <dc:title/>
</cp:coreProperties>
</file>