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99D-69DA-4FC9-B0B8-B7AB4467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037-CACF-4C62-B2E7-173FA45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1C6-52B6-4483-B81C-73FDD2A4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EA2-E2D7-4874-8788-55AA4406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1E9C-3FFB-4ABF-A420-7EE0878F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4E00-4199-4BFF-9B5C-CB759223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735E-39C3-4EB3-810F-2B7085A7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9922-97AD-47C0-BF07-99A7AE7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7B3-60CE-4426-AE4F-88F7A2E2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285A-19C5-43DA-9CC8-A0F73EF1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2C7-7EA8-4D98-B5A6-4AFF3C6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514-31D9-42D3-AA98-83715FC9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F284-7C69-4D86-8BA7-E055F00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B6BC-9BB5-448F-8469-ECDDA08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C65C-73B5-4568-9201-B123302E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17F2-63A3-4A16-BDAC-0E2D49D2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27CC-DC53-433C-9B02-6E41E861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A93B-D3FA-4D84-AFE1-BF93EB1B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DCFA-9572-4C49-8918-32504D63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2EF3-AABF-4448-BFD0-97ECA7F3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3771-B9F4-401F-B2A5-9F038B1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5D93-2B79-4F7B-90CF-43070CB7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3E5-60E1-460E-9370-6A8EAFE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82E9-03A4-4FF6-BBD8-ABC0ED5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721B-A7F6-404D-BC63-E6F5E8FC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CED9-E94A-4F6A-950E-81969A5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B796-A8D0-4A56-A62A-CF9BB82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8DB7-5C60-4648-ADB4-94FFDB29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DD8D-251A-43DC-AB42-09995AA9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8307-2314-4C60-AD46-8F01CB93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994-4C9B-421E-82AB-60B94AEF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974-7688-4261-BC75-043E7D9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5BA-F339-4493-8D70-F285705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28B-CCC8-49FE-ABD2-0495869E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F7A-2CCC-4E8B-B86C-066642B8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70A-AB08-4701-850A-C047BEE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BC1-B228-4DAB-88E5-4677975F65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275-5E85-43C5-9B54-AD7D19E43C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33D8-E172-4FD8-87FD-68DAEB4BC0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华文楷体"/>
              </a:rPr>
              <a:t>冀教版小学英语第三册（三起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Unit 4   </a:t>
            </a:r>
            <a:r>
              <a:rPr b="0" lang="zh-CN" sz="2800" spc="-1" strike="noStrike">
                <a:solidFill>
                  <a:srgbClr val="660033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660033"/>
                </a:solidFill>
                <a:latin typeface="Comic Sans MS"/>
              </a:rPr>
              <a:t>Lesson2</a:t>
            </a:r>
            <a:r>
              <a:rPr b="0" lang="en-US" sz="4000" spc="-1" strike="noStrike">
                <a:solidFill>
                  <a:srgbClr val="660033"/>
                </a:solidFill>
                <a:latin typeface="Comic Sans MS"/>
              </a:rPr>
              <a:t>4</a:t>
            </a:r>
            <a:r>
              <a:rPr b="0" lang="zh-CN" sz="4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Comic Sans MS"/>
              </a:rPr>
              <a:t>   </a:t>
            </a:r>
            <a:r>
              <a:rPr b="0" lang="zh-CN" sz="4000" spc="-1" strike="noStrike">
                <a:solidFill>
                  <a:srgbClr val="660033"/>
                </a:solidFill>
                <a:latin typeface="Comic Sans MS"/>
              </a:rPr>
              <a:t>Etta’s Teddy 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Comic Sans MS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Mother: Let’s go to the ______ _________ to buy a new teddy bear.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Etta: I don’t like the new _____ ______.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Mother: Let’s go to the ______ ________ to buy a new skirt.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Etta: I would like a new skirt. But I want my _____ back.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Mother: Let’s go to the _____ ______ to eat pizza and ____ _____.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Etta: But I can’t forget my ____ 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华文楷体"/>
              </a:rPr>
              <a:t>二、教学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（一）知识与技能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1.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能够利用上下文、插图以及已有的知识经验理解故事内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2.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能够根据老师给出的问题，运用阅读策略，在故事材料中迅速找出答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能够在理解故事的基础上进行角色表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3300"/>
                </a:solidFill>
                <a:latin typeface="华文楷体"/>
                <a:ea typeface="华文楷体"/>
              </a:rPr>
              <a:t>（二）过程与方法目标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  通过“任务型”教学，让学生通过一系列的自主活动而完成学习任务，引导学生积极参与课堂活动，并培养学生合作意识。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3300"/>
                </a:solidFill>
                <a:latin typeface="华文楷体"/>
                <a:ea typeface="华文楷体"/>
              </a:rPr>
              <a:t>（三）情感态度与价值观的目标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  激发学生在英语阅读方面上的兴趣，树立学生学习英语的自信心，以贴近学生心理特点的故事情节树立学生的好习惯意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华文楷体"/>
              </a:rPr>
              <a:t>三、教学重点、难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（一）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1.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能引导学生快速准确地提炼出关键信息并进行归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2.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能复述故事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（二）教学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</a:t>
            </a: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能复述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四、评价方式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华文楷体"/>
              </a:rPr>
              <a:t>1.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华文楷体"/>
              </a:rPr>
              <a:t>教师评价；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华文楷体"/>
              </a:rPr>
              <a:t>2.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  <a:ea typeface="华文楷体"/>
              </a:rPr>
              <a:t>学生自评互评。</a:t>
            </a:r>
            <a:br>
              <a:rPr sz="4000"/>
            </a:b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  <a:ea typeface="华文楷体"/>
              </a:rPr>
              <a:t>五、教学过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  <a:ea typeface="华文楷体"/>
              </a:rPr>
              <a:t>Step I: 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1.Greeting (3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2.Leading in (3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  <a:ea typeface="华文楷体"/>
              </a:rPr>
              <a:t>3.Introduce the modes of appraisement(1’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MEALS.wav" descr="8363626281442471072726.png"/>
          <p:cNvPicPr/>
          <p:nvPr/>
        </p:nvPicPr>
        <p:blipFill>
          <a:blip r:embed="rId1"/>
          <a:stretch/>
        </p:blipFill>
        <p:spPr>
          <a:xfrm>
            <a:off x="78487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3300"/>
                </a:solidFill>
                <a:latin typeface="Comic Sans MS"/>
                <a:ea typeface="华文楷体"/>
              </a:rPr>
              <a:t>Step II: While Reading</a:t>
            </a: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</a:t>
            </a: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</a:t>
            </a:r>
            <a:r>
              <a:rPr b="0" lang="zh-CN" sz="25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skimming (4’)        </a:t>
            </a: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  </a:t>
            </a: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reading aloud with the tape (10’)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jigsaw reading (6’)  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retell the story (7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447920" y="27432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447920" y="38098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447920" y="18288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830528601442471072766.jpg"/>
          <p:cNvPicPr/>
          <p:nvPr/>
        </p:nvPicPr>
        <p:blipFill>
          <a:blip r:embed="rId1"/>
          <a:stretch/>
        </p:blipFill>
        <p:spPr>
          <a:xfrm>
            <a:off x="6095880" y="53352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6713821442471072771.jpg"/>
          <p:cNvPicPr/>
          <p:nvPr/>
        </p:nvPicPr>
        <p:blipFill>
          <a:blip r:embed="rId2"/>
          <a:stretch/>
        </p:blipFill>
        <p:spPr>
          <a:xfrm>
            <a:off x="6248520" y="3124080"/>
            <a:ext cx="2420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660033"/>
                </a:solidFill>
                <a:latin typeface="华文楷体"/>
                <a:ea typeface="华文楷体"/>
              </a:rPr>
              <a:t> </a:t>
            </a:r>
            <a:r>
              <a:rPr b="1" lang="zh-CN" sz="3000" spc="-1" strike="noStrike">
                <a:solidFill>
                  <a:srgbClr val="cc3300"/>
                </a:solidFill>
                <a:latin typeface="Comic Sans MS"/>
                <a:ea typeface="华文楷体"/>
              </a:rPr>
              <a:t>Step III: After Reading</a:t>
            </a:r>
            <a:r>
              <a:rPr b="0" lang="zh-CN" sz="3000" spc="-1" strike="noStrike">
                <a:solidFill>
                  <a:srgbClr val="660033"/>
                </a:solidFill>
                <a:latin typeface="华文楷体"/>
                <a:ea typeface="华文楷体"/>
              </a:rPr>
              <a:t> </a:t>
            </a:r>
            <a:br>
              <a:rPr sz="3000"/>
            </a:br>
            <a:r>
              <a:rPr b="0" lang="zh-CN" sz="3000" spc="-1" strike="noStrike">
                <a:solidFill>
                  <a:srgbClr val="660033"/>
                </a:solidFill>
                <a:latin typeface="华文楷体"/>
                <a:ea typeface="华文楷体"/>
              </a:rPr>
              <a:t>  </a:t>
            </a:r>
            <a:r>
              <a:rPr b="0" lang="zh-CN" sz="30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</a:t>
            </a:r>
            <a:br>
              <a:rPr sz="3000"/>
            </a:br>
            <a:r>
              <a:rPr b="0" lang="zh-CN" sz="30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1.Follow up; (4’)</a:t>
            </a:r>
            <a:br>
              <a:rPr sz="3000"/>
            </a:br>
            <a:r>
              <a:rPr b="0" lang="zh-CN" sz="30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2.Homework. (2’)</a:t>
            </a:r>
            <a:br>
              <a:rPr sz="3000"/>
            </a:br>
            <a:r>
              <a:rPr b="0" lang="zh-CN" sz="3000" spc="-1" strike="noStrike">
                <a:solidFill>
                  <a:srgbClr val="660033"/>
                </a:solidFill>
                <a:latin typeface="Comic Sans MS"/>
                <a:ea typeface="华文楷体"/>
              </a:rPr>
              <a:t>       If you want to go shopping with your mother, where do you want to go and what do you want to buy? (at least 3 places)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9038942271442471072760.jpg"/>
          <p:cNvPicPr/>
          <p:nvPr/>
        </p:nvPicPr>
        <p:blipFill>
          <a:blip r:embed="rId1"/>
          <a:stretch/>
        </p:blipFill>
        <p:spPr>
          <a:xfrm>
            <a:off x="2590920" y="4800600"/>
            <a:ext cx="1355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06-23T03:29:0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