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AC4-F46E-4826-B3BA-18BE55B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868-1FBF-415A-A5EF-191FBFAF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7ED-B633-453E-8C74-C5AC6CFF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979-FE20-4130-AB49-EA38E75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25C0-0719-4DBF-9F7D-82781925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18A-A370-4220-B92D-A1A676FF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DAD7-5FDA-4C4A-86BA-F878C078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8B7-BD34-4A7B-8CB0-B1FC0A4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2F67-BDA7-41E6-BFDB-C3697D52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331D-5EF2-48FA-A4E8-78CF86C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BD4B-4FD4-431B-BB13-AE45067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67F-C60C-4F8E-9E8E-425A3CFD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F25E-0EC4-4699-A112-BABBB4D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0A66-3144-4938-97A4-ACC51DB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0303-0A8F-402C-8730-0D467F7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2805-15DD-40EF-ADEB-337090F6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7E86-7AF9-4DB0-A38F-03AA24DC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EE32-B184-4E75-A82C-23A6D5F3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49FF-24AE-4FC5-960C-802B744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8A27-3510-4166-AABE-61A27967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5484-EC4F-41B9-8911-0CE1E331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1FDE-E98A-4899-BCB7-AEC6688E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33F-0FF5-4848-9A4D-22F0FD9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C601-D0A4-4AF9-A848-30B22AD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2FD2-85DC-40D3-9037-0C22812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D4C0-11DC-4F5D-A043-589DCB2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1363-1B90-47C3-AC9B-871BA110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785E-6D17-4EDD-9393-15785DE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E2FC-2C93-471F-B1D6-C3261CA4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33E1-A5AC-42A9-A6FD-FA4946CC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330-2965-4A2F-B397-DD2D8FB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D9C-7C56-4982-8D52-B521073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363-95B6-4D3C-A58B-73043B9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D81-0C6F-40BB-AA9F-7ABED31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23D-1D6E-47D0-B641-B43B3DC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68C-55FE-44FB-AB9C-5684A2E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617-2694-4090-81ED-18373249B7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7B6-5967-4B10-B206-E07C995B84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A98E-B760-401F-89A0-CEC753EEBF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9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DFKai-SB"/>
              </a:rPr>
              <a:t>Lesson 22</a:t>
            </a:r>
            <a:br>
              <a:rPr sz="11700"/>
            </a:br>
            <a:r>
              <a:rPr b="1" i="1" lang="en-US" sz="7200" spc="-1" strike="noStrike">
                <a:solidFill>
                  <a:srgbClr val="ff0066"/>
                </a:solidFill>
                <a:latin typeface="Times New Roman"/>
                <a:ea typeface="DFKai-SB"/>
              </a:rPr>
              <a:t>At the Supermark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80880"/>
            <a:ext cx="9144000" cy="1152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3. Talk and wr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2168280" cy="287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1363680" cy="2860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76320" y="1676160"/>
            <a:ext cx="9067680" cy="1676160"/>
          </a:xfrm>
          <a:prstGeom prst="wedgeRoundRectCallout">
            <a:avLst>
              <a:gd name="adj1" fmla="val -32444"/>
              <a:gd name="adj2" fmla="val -7200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I want to buy some tomatoes,potat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and candy.What do you want to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343400" y="3809880"/>
            <a:ext cx="2209680" cy="1447920"/>
          </a:xfrm>
          <a:prstGeom prst="cloudCallout">
            <a:avLst>
              <a:gd name="adj1" fmla="val -87550"/>
              <a:gd name="adj2" fmla="val -1280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488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74520" y="533520"/>
            <a:ext cx="9294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运用下列句型和你的同伴互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完成自己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Shopping List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: I want to buy  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at do you want to bu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B: I want to buy____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14400"/>
            <a:ext cx="62485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solidFill>
                    <a:srgbClr val="ffffff"/>
                  </a:solidFill>
                </a:ln>
                <a:solidFill>
                  <a:srgbClr val="cc33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Exercise</a:t>
            </a:r>
            <a:r>
              <a:rPr b="1" lang="zh-CN" sz="1800" spc="-1" strike="noStrike">
                <a:ln w="0">
                  <a:solidFill>
                    <a:srgbClr val="ffffff"/>
                  </a:solidFill>
                </a:ln>
                <a:solidFill>
                  <a:srgbClr val="cc33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！</a:t>
            </a:r>
            <a:endParaRPr b="1" lang="en-US" sz="1800" spc="-1" strike="noStrike">
              <a:ln w="0">
                <a:solidFill>
                  <a:srgbClr val="ffffff"/>
                </a:solidFill>
              </a:ln>
              <a:solidFill>
                <a:srgbClr val="cc33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22860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当 堂 检 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5" name=""/>
          <p:cNvSpPr/>
          <p:nvPr/>
        </p:nvSpPr>
        <p:spPr>
          <a:xfrm>
            <a:off x="6480" y="990720"/>
            <a:ext cx="916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会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_m_ t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西红柿）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p_ t_t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土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c_ nd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糖果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b_ 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包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sh_ p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购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当小小翻译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t’s buy some vegetab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ndy isn't good for your tee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is my  shopping ba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like it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0200" y="1523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    a 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3440" y="1523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 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56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412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13372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2160" y="3657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让我们去买些蔬菜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1920" y="487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糖果对牙齿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17220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66480" y="6019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这是我的购物包，我喜欢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19848600">
            <a:off x="456840" y="1600200"/>
            <a:ext cx="6477120" cy="20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oodbye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1680" y="-111240"/>
            <a:ext cx="9750600" cy="7083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70280" y="1981080"/>
            <a:ext cx="9424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9d8e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学习单词：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tomato(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西红柿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) bag (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包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                       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candy(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糖果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) potato(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土豆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2.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理解第</a:t>
            </a: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部分课文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3.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能运用课文中句型进行简单的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   </a:t>
            </a:r>
            <a:r>
              <a:rPr b="1" lang="zh-CN" sz="4000" spc="-1" strike="noStrike">
                <a:solidFill>
                  <a:srgbClr val="d9d8ec"/>
                </a:solidFill>
                <a:latin typeface="Times New Roman"/>
                <a:ea typeface="黑体"/>
              </a:rPr>
              <a:t>练习及表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48400" y="919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 rot="20191800">
            <a:off x="380520" y="1295280"/>
            <a:ext cx="76233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What's this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3733920"/>
            <a:ext cx="421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66"/>
                </a:solidFill>
                <a:latin typeface="Times New Roman"/>
                <a:ea typeface="DFKai-SB"/>
              </a:rPr>
              <a:t>tomato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0280" y="3657600"/>
            <a:ext cx="38458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d9d8ec"/>
                </a:solidFill>
                <a:latin typeface="Times New Roman"/>
                <a:ea typeface="DFKai-SB"/>
              </a:rPr>
              <a:t>potato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038480" cy="3543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000" y="1219320"/>
            <a:ext cx="3621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d9d8ec"/>
                </a:solidFill>
                <a:latin typeface="Times New Roman"/>
                <a:ea typeface="DFKai-SB"/>
              </a:rPr>
              <a:t>cand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4160" y="1219320"/>
            <a:ext cx="2276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66"/>
                </a:solidFill>
                <a:latin typeface="Times New Roman"/>
                <a:ea typeface="DFKai-SB"/>
              </a:rPr>
              <a:t>bag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57360"/>
            <a:ext cx="9144000" cy="115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2. At the supermark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274320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98680" y="37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47920"/>
            <a:ext cx="70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回答下列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9880"/>
            <a:ext cx="31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80" y="2133720"/>
            <a:ext cx="9239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many people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are there in this text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Does Danny like tomatoes or potat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680" y="3276720"/>
            <a:ext cx="93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Three. They are Danny, Jenny and Mrs Smi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40680" y="40384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otat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9360" y="5335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Read and Thi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26520" y="76320"/>
            <a:ext cx="506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99"/>
                </a:solidFill>
                <a:latin typeface="Comic Sans MS"/>
              </a:rPr>
              <a:t>pair 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295280"/>
            <a:ext cx="70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自读课文，找出自己不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　句子和单词，组内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243828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ndy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isn't good 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r tee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1680" y="2971800"/>
            <a:ext cx="50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How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ome fr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560" y="3581280"/>
            <a:ext cx="59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, don't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u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ba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We hav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our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shopping ba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44800" y="4800600"/>
            <a:ext cx="10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小组自读课文，然后展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752480" y="1371600"/>
            <a:ext cx="5029200" cy="35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Times New Roman"/>
              </a:rPr>
              <a:t>Let's act!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4:35Z</dcterms:created>
  <dc:creator/>
  <dc:description/>
  <dc:language>en-US</dc:language>
  <cp:lastModifiedBy>微软用户</cp:lastModifiedBy>
  <dcterms:modified xsi:type="dcterms:W3CDTF">2017-05-05T07:09:28Z</dcterms:modified>
  <cp:revision>3</cp:revision>
  <dc:subject/>
  <dc:title/>
</cp:coreProperties>
</file>