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7.gif" ContentType="image/gif"/>
  <Override PartName="/ppt/media/image16.gif" ContentType="image/gif"/>
  <Override PartName="/ppt/media/image2.png" ContentType="image/png"/>
  <Override PartName="/ppt/media/image15.wmf" ContentType="image/x-wmf"/>
  <Override PartName="/ppt/media/image14.gif" ContentType="image/gif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C947-C58B-4ABD-8F54-887BDCC7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056C-FCF8-4858-94B1-D08F910B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2326-F619-4135-B040-439E7789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07F-EADC-4C1D-A4A5-E0EFFD5A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ABCC-6174-49DC-985F-DA353200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11A7-5B5F-4551-9166-26B445C5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23F6-726E-4DD7-909C-7EDD8640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3568-516B-42A0-BD57-70A31929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F83E-C1A6-47BB-9B07-1FF455BA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6999-0899-4971-B817-1B97D52C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2055-6BD6-4D68-907D-5AD5569F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3D5-4345-4521-ADD0-49ED7676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A71C-33BC-42CB-A99D-0BF5897C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BDF7-EF77-4DD5-AB05-323EA4F2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57B0-03D2-4421-8C90-34452BA2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44E3-90E9-471E-83E2-BCA34B46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3919-9949-4992-AF59-D60F7688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C0532-0CC9-467E-8386-875DF0F7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2EC10-7EB7-4979-AEFF-A923DAA3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4B13E-65D9-42E3-A8EA-26BDDFA6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E3162-D7F6-4F77-815C-B533E9D9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B2950-0747-4BAD-9F03-3FA0BE20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F110-60A9-451C-B99E-AFA457B1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ADBD7-14C3-4321-95CF-33963EE7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ED0BE-ACE8-4103-A34F-3B97409F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CAC5E-C1C8-46F4-9BC2-DC3833A3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485E4-028F-47A7-9751-03538B5D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9D35A-6853-4E4E-A15A-88E1836C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2FB77-FD90-4537-ABF7-B22E3E8B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E505-4987-44E3-A4BA-90EAB554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1C0-9CBA-4D60-B248-14EBD8C3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507C-4ADD-402C-803A-6E5A4365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C712-BF4F-4B7B-BD7D-4DE0D991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2738-87EC-45A4-85C3-FC6ACC76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20BE-5F64-4561-8377-369A310B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3B87-767A-43F9-AF5C-B9FA4FF5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8EF4-CE6A-49C2-9CFE-48693C08CB6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191F-1CE6-441C-8F15-AA54E646E83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96B4-AC14-4A74-B751-EFDD81AD8D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2192813391442472276712.png"/>
          <p:cNvPicPr/>
          <p:nvPr/>
        </p:nvPicPr>
        <p:blipFill>
          <a:blip r:embed="rId1"/>
          <a:srcRect l="4909" t="5568" r="0" b="0"/>
          <a:stretch/>
        </p:blipFill>
        <p:spPr>
          <a:xfrm>
            <a:off x="4986360" y="1701720"/>
            <a:ext cx="3840120" cy="244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93720"/>
            <a:ext cx="8229600" cy="5824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100" spc="-1" strike="noStrike">
                <a:solidFill>
                  <a:srgbClr val="ff0000"/>
                </a:solidFill>
                <a:latin typeface="Arial"/>
              </a:rPr>
              <a:t>1. New or Old?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6251404581442472276728.jpg"/>
          <p:cNvPicPr/>
          <p:nvPr/>
        </p:nvPicPr>
        <p:blipFill>
          <a:blip r:embed="rId2"/>
          <a:stretch/>
        </p:blipFill>
        <p:spPr>
          <a:xfrm>
            <a:off x="612720" y="1701720"/>
            <a:ext cx="3673440" cy="26622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547640" y="3785760"/>
            <a:ext cx="22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ff0000"/>
                </a:solidFill>
                <a:latin typeface="Times New Roman"/>
              </a:rPr>
              <a:t>new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730120" y="3785760"/>
            <a:ext cx="125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33cc33"/>
                </a:solidFill>
                <a:latin typeface="Times New Roman"/>
              </a:rPr>
              <a:t>ol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4643280" y="333360"/>
            <a:ext cx="1800360" cy="719280"/>
          </a:xfrm>
          <a:prstGeom prst="wedgeRoundRectCallout">
            <a:avLst>
              <a:gd name="adj1" fmla="val -3703"/>
              <a:gd name="adj2" fmla="val 44337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Times New Roman"/>
              </a:rPr>
              <a:t>Th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3" descr="AV1E{NL_M0SM5DWL[G30~A3"/>
          <p:cNvPicPr/>
          <p:nvPr/>
        </p:nvPicPr>
        <p:blipFill>
          <a:blip r:embed="rId1"/>
          <a:stretch/>
        </p:blipFill>
        <p:spPr>
          <a:xfrm>
            <a:off x="4718160" y="3645000"/>
            <a:ext cx="1082520" cy="280836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4"/>
          <p:cNvSpPr/>
          <p:nvPr/>
        </p:nvSpPr>
        <p:spPr>
          <a:xfrm>
            <a:off x="250920" y="549360"/>
            <a:ext cx="3529080" cy="576000"/>
          </a:xfrm>
          <a:prstGeom prst="wedgeRoundRectCallout">
            <a:avLst>
              <a:gd name="adj1" fmla="val -20175"/>
              <a:gd name="adj2" fmla="val 35495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cc33"/>
                </a:solidFill>
                <a:latin typeface="Times New Roman"/>
              </a:rPr>
              <a:t>I like your skirt</a:t>
            </a:r>
            <a:r>
              <a:rPr b="0" i="1" lang="zh-CN" sz="2800" spc="-1" strike="noStrike">
                <a:solidFill>
                  <a:srgbClr val="33cc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1258920" y="1700280"/>
            <a:ext cx="2592360" cy="720720"/>
          </a:xfrm>
          <a:prstGeom prst="wedgeRoundRectCallout">
            <a:avLst>
              <a:gd name="adj1" fmla="val -27893"/>
              <a:gd name="adj2" fmla="val 29779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3cc33"/>
                </a:solidFill>
                <a:latin typeface="Times New Roman"/>
              </a:rPr>
              <a:t>Is it new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5651640" y="1558800"/>
            <a:ext cx="3313080" cy="1438560"/>
          </a:xfrm>
          <a:prstGeom prst="wedgeRoundRectCallout">
            <a:avLst>
              <a:gd name="adj1" fmla="val -45449"/>
              <a:gd name="adj2" fmla="val 13400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Times New Roman"/>
              </a:rPr>
              <a:t>Yes. It's my birthday gi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QQ图片20141231204303"/>
          <p:cNvPicPr/>
          <p:nvPr/>
        </p:nvPicPr>
        <p:blipFill>
          <a:blip r:embed="rId2"/>
          <a:stretch/>
        </p:blipFill>
        <p:spPr>
          <a:xfrm>
            <a:off x="2052720" y="3502080"/>
            <a:ext cx="129708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250920" y="476280"/>
            <a:ext cx="4537080" cy="1114560"/>
          </a:xfrm>
          <a:prstGeom prst="wedgeRoundRectCallout">
            <a:avLst>
              <a:gd name="adj1" fmla="val -21587"/>
              <a:gd name="adj2" fmla="val 23148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Times New Roman"/>
              </a:rPr>
              <a:t>I like your trousers. Are they new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6013440" y="549360"/>
            <a:ext cx="3095640" cy="792000"/>
          </a:xfrm>
          <a:prstGeom prst="wedgeRoundRectCallout">
            <a:avLst>
              <a:gd name="adj1" fmla="val 17796"/>
              <a:gd name="adj2" fmla="val 552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cc33"/>
                </a:solidFill>
                <a:latin typeface="Times New Roman"/>
              </a:rPr>
              <a:t>No. They’re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1332000" y="1989000"/>
            <a:ext cx="2952720" cy="720720"/>
          </a:xfrm>
          <a:prstGeom prst="wedgeRoundRectCallout">
            <a:avLst>
              <a:gd name="adj1" fmla="val -48925"/>
              <a:gd name="adj2" fmla="val 20881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Times New Roman"/>
              </a:rPr>
              <a:t>They 're n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4359240" y="1844640"/>
            <a:ext cx="4676760" cy="1008000"/>
          </a:xfrm>
          <a:prstGeom prst="wedgeRoundRectCallout">
            <a:avLst>
              <a:gd name="adj1" fmla="val 14527"/>
              <a:gd name="adj2" fmla="val 18874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cc33"/>
                </a:solidFill>
                <a:latin typeface="Times New Roman"/>
              </a:rPr>
              <a:t>They’re my favourite trous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6" descr="QQ图片20141231204540"/>
          <p:cNvPicPr/>
          <p:nvPr/>
        </p:nvPicPr>
        <p:blipFill>
          <a:blip r:embed="rId1"/>
          <a:stretch/>
        </p:blipFill>
        <p:spPr>
          <a:xfrm>
            <a:off x="1765440" y="3284640"/>
            <a:ext cx="1654200" cy="3397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QQ图片20141231204531"/>
          <p:cNvPicPr/>
          <p:nvPr/>
        </p:nvPicPr>
        <p:blipFill>
          <a:blip r:embed="rId2"/>
          <a:stretch/>
        </p:blipFill>
        <p:spPr>
          <a:xfrm>
            <a:off x="5219640" y="3357720"/>
            <a:ext cx="2016360" cy="33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200" spc="-1" strike="noStrike">
                <a:solidFill>
                  <a:srgbClr val="008000"/>
                </a:solidFill>
                <a:latin typeface="Arial"/>
              </a:rPr>
              <a:t>Let's act 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822636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1. Make up(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编）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a dialogue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（对话）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, ple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2. Let's a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气氛high起来"/>
          <p:cNvPicPr/>
          <p:nvPr/>
        </p:nvPicPr>
        <p:blipFill>
          <a:blip r:embed="rId1"/>
          <a:stretch/>
        </p:blipFill>
        <p:spPr>
          <a:xfrm>
            <a:off x="4140360" y="2925720"/>
            <a:ext cx="3101760" cy="31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755640" y="2494080"/>
            <a:ext cx="784872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宋体"/>
              </a:rPr>
              <a:t>Practice makes perfect!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0" name="Picture 3" descr="练习"/>
          <p:cNvPicPr/>
          <p:nvPr/>
        </p:nvPicPr>
        <p:blipFill>
          <a:blip r:embed="rId1"/>
          <a:stretch/>
        </p:blipFill>
        <p:spPr>
          <a:xfrm>
            <a:off x="469800" y="622440"/>
            <a:ext cx="5672160" cy="1295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加油学"/>
          <p:cNvPicPr/>
          <p:nvPr/>
        </p:nvPicPr>
        <p:blipFill>
          <a:blip r:embed="rId2"/>
          <a:stretch/>
        </p:blipFill>
        <p:spPr>
          <a:xfrm>
            <a:off x="4213080" y="3718080"/>
            <a:ext cx="2803680" cy="28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403280" y="333000"/>
            <a:ext cx="77724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Goodby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再见"/>
          <p:cNvPicPr/>
          <p:nvPr/>
        </p:nvPicPr>
        <p:blipFill>
          <a:blip r:embed="rId1"/>
          <a:stretch/>
        </p:blipFill>
        <p:spPr>
          <a:xfrm>
            <a:off x="2773440" y="1558800"/>
            <a:ext cx="4305240" cy="43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5941729721442472276747.png"/>
          <p:cNvPicPr/>
          <p:nvPr/>
        </p:nvPicPr>
        <p:blipFill>
          <a:blip r:embed="rId1"/>
          <a:stretch/>
        </p:blipFill>
        <p:spPr>
          <a:xfrm>
            <a:off x="396720" y="909720"/>
            <a:ext cx="4391280" cy="29509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1620720" y="3498480"/>
            <a:ext cx="22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ff0000"/>
                </a:solidFill>
                <a:latin typeface="Times New Roman"/>
              </a:rPr>
              <a:t>new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3884769881442472276755.jpg"/>
          <p:cNvPicPr/>
          <p:nvPr/>
        </p:nvPicPr>
        <p:blipFill>
          <a:blip r:embed="rId2"/>
          <a:stretch/>
        </p:blipFill>
        <p:spPr>
          <a:xfrm>
            <a:off x="5364000" y="765000"/>
            <a:ext cx="2806920" cy="31640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5940360" y="3641400"/>
            <a:ext cx="18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33cc33"/>
                </a:solidFill>
                <a:latin typeface="Times New Roman"/>
              </a:rPr>
              <a:t>ol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7816688901442472276760.png"/>
          <p:cNvPicPr/>
          <p:nvPr/>
        </p:nvPicPr>
        <p:blipFill>
          <a:blip r:embed="rId1"/>
          <a:stretch/>
        </p:blipFill>
        <p:spPr>
          <a:xfrm>
            <a:off x="5003640" y="549360"/>
            <a:ext cx="2733840" cy="3241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4416480" y="3246480"/>
            <a:ext cx="19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416480" y="3246480"/>
            <a:ext cx="137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[VNRG~H{`@%P[VFD`]2@X[O"/>
          <p:cNvPicPr/>
          <p:nvPr/>
        </p:nvPicPr>
        <p:blipFill>
          <a:blip r:embed="rId2"/>
          <a:stretch/>
        </p:blipFill>
        <p:spPr>
          <a:xfrm>
            <a:off x="1620720" y="406440"/>
            <a:ext cx="2951280" cy="3429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5585760" y="3714480"/>
            <a:ext cx="125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33cc33"/>
                </a:solidFill>
                <a:latin typeface="Times New Roman"/>
              </a:rPr>
              <a:t>ol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981080" y="3714480"/>
            <a:ext cx="22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ff0000"/>
                </a:solidFill>
                <a:latin typeface="Times New Roman"/>
              </a:rPr>
              <a:t>new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828720" y="327096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cc33"/>
                </a:solidFill>
                <a:latin typeface="Times New Roman"/>
              </a:rPr>
              <a:t>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i="1" lang="zh-CN" sz="3200" spc="-1" strike="noStrike">
                <a:solidFill>
                  <a:srgbClr val="33cc33"/>
                </a:solidFill>
                <a:latin typeface="Times New Roman"/>
              </a:rPr>
              <a:t>a new sw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716360" y="3282120"/>
            <a:ext cx="41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cc33"/>
                </a:solidFill>
                <a:latin typeface="Times New Roman"/>
              </a:rPr>
              <a:t>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Times New Roman"/>
              </a:rPr>
              <a:t>an</a:t>
            </a:r>
            <a:r>
              <a:rPr b="0" i="1" lang="zh-CN" sz="3200" spc="-1" strike="noStrike">
                <a:solidFill>
                  <a:srgbClr val="33cc33"/>
                </a:solidFill>
                <a:latin typeface="Times New Roman"/>
              </a:rPr>
              <a:t> old sw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5941729721442472276747.png"/>
          <p:cNvPicPr/>
          <p:nvPr/>
        </p:nvPicPr>
        <p:blipFill>
          <a:blip r:embed="rId1"/>
          <a:stretch/>
        </p:blipFill>
        <p:spPr>
          <a:xfrm>
            <a:off x="396720" y="339840"/>
            <a:ext cx="439128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3884769881442472276755.jpg"/>
          <p:cNvPicPr/>
          <p:nvPr/>
        </p:nvPicPr>
        <p:blipFill>
          <a:blip r:embed="rId2"/>
          <a:stretch/>
        </p:blipFill>
        <p:spPr>
          <a:xfrm>
            <a:off x="5292720" y="-20520"/>
            <a:ext cx="2806560" cy="31622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253080" y="443520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33cc"/>
                </a:solidFill>
                <a:latin typeface="Times New Roman"/>
              </a:rPr>
              <a:t>This is a new swe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866480" y="4508640"/>
            <a:ext cx="33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Times New Roman"/>
              </a:rPr>
              <a:t>This is </a:t>
            </a:r>
            <a:r>
              <a:rPr b="0" i="1" lang="zh-CN" sz="2800" spc="-1" strike="noStrike">
                <a:solidFill>
                  <a:srgbClr val="ff3300"/>
                </a:solidFill>
                <a:latin typeface="Times New Roman"/>
              </a:rPr>
              <a:t>an</a:t>
            </a:r>
            <a:r>
              <a:rPr b="0" i="1" lang="zh-CN" sz="2800" spc="-1" strike="noStrike">
                <a:solidFill>
                  <a:srgbClr val="3333cc"/>
                </a:solidFill>
                <a:latin typeface="Times New Roman"/>
              </a:rPr>
              <a:t> old swe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7816688901442472276760.png"/>
          <p:cNvPicPr/>
          <p:nvPr/>
        </p:nvPicPr>
        <p:blipFill>
          <a:blip r:embed="rId1"/>
          <a:stretch/>
        </p:blipFill>
        <p:spPr>
          <a:xfrm>
            <a:off x="5508720" y="117360"/>
            <a:ext cx="2733480" cy="3240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4416480" y="3246480"/>
            <a:ext cx="19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416480" y="3246480"/>
            <a:ext cx="137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5" descr="[VNRG~H{`@%P[VFD`]2@X[O"/>
          <p:cNvPicPr/>
          <p:nvPr/>
        </p:nvPicPr>
        <p:blipFill>
          <a:blip r:embed="rId2"/>
          <a:stretch/>
        </p:blipFill>
        <p:spPr>
          <a:xfrm>
            <a:off x="900000" y="0"/>
            <a:ext cx="2951280" cy="3429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5875200" y="3427200"/>
            <a:ext cx="23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3cc33"/>
                </a:solidFill>
                <a:latin typeface="Times New Roman"/>
              </a:rPr>
              <a:t>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6767ff"/>
                </a:solidFill>
                <a:latin typeface="Times New Roman"/>
              </a:rPr>
              <a:t>old tro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828720" y="342252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3cc33"/>
                </a:solidFill>
                <a:latin typeface="Times New Roman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6767ff"/>
                </a:solidFill>
                <a:latin typeface="Times New Roman"/>
              </a:rPr>
              <a:t>new tro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59560" y="4581360"/>
            <a:ext cx="35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Times New Roman"/>
              </a:rPr>
              <a:t>These are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 new trous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937760" y="4581360"/>
            <a:ext cx="34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Times New Roman"/>
              </a:rPr>
              <a:t>These are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old trous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8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8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8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8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6360" y="4428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s is a new sweater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是一件新毛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s is an old sweater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是一件旧毛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This is …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这是……（指单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se are new trousers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是一条新裤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se are old trousers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是一条旧裤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These are …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这些是……（指复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0" y="190080"/>
            <a:ext cx="868536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500" spc="-1" strike="noStrike">
                <a:solidFill>
                  <a:srgbClr val="000000"/>
                </a:solidFill>
                <a:latin typeface="Arial"/>
              </a:rPr>
              <a:t>Can you introduce(</a:t>
            </a:r>
            <a:r>
              <a:rPr b="0" i="1" lang="zh-CN" sz="2500" spc="-1" strike="noStrike">
                <a:solidFill>
                  <a:srgbClr val="000000"/>
                </a:solidFill>
                <a:latin typeface="Arial"/>
              </a:rPr>
              <a:t>介绍） </a:t>
            </a:r>
            <a:r>
              <a:rPr b="0" i="1" lang="zh-CN" sz="2500" spc="-1" strike="noStrike">
                <a:solidFill>
                  <a:srgbClr val="000000"/>
                </a:solidFill>
                <a:latin typeface="Arial"/>
              </a:rPr>
              <a:t>the pictures</a:t>
            </a:r>
            <a:r>
              <a:rPr b="0" i="1" lang="zh-CN" sz="2500" spc="-1" strike="noStrike">
                <a:solidFill>
                  <a:srgbClr val="000000"/>
                </a:solidFill>
                <a:latin typeface="Arial"/>
              </a:rPr>
              <a:t>（图片）</a:t>
            </a:r>
            <a:r>
              <a:rPr b="0" i="1" lang="zh-CN" sz="25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5941729721442472276747.png"/>
          <p:cNvPicPr/>
          <p:nvPr/>
        </p:nvPicPr>
        <p:blipFill>
          <a:blip r:embed="rId1"/>
          <a:stretch/>
        </p:blipFill>
        <p:spPr>
          <a:xfrm>
            <a:off x="1406520" y="838080"/>
            <a:ext cx="2374920" cy="2519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3884769881442472276755.jpg"/>
          <p:cNvPicPr/>
          <p:nvPr/>
        </p:nvPicPr>
        <p:blipFill>
          <a:blip r:embed="rId2"/>
          <a:stretch/>
        </p:blipFill>
        <p:spPr>
          <a:xfrm>
            <a:off x="5508720" y="765000"/>
            <a:ext cx="2158920" cy="2521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[VNRG~H{`@%P[VFD`]2@X[O"/>
          <p:cNvPicPr/>
          <p:nvPr/>
        </p:nvPicPr>
        <p:blipFill>
          <a:blip r:embed="rId3"/>
          <a:stretch/>
        </p:blipFill>
        <p:spPr>
          <a:xfrm>
            <a:off x="1476360" y="3500280"/>
            <a:ext cx="2303640" cy="2421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7816688901442472276760.png"/>
          <p:cNvPicPr/>
          <p:nvPr/>
        </p:nvPicPr>
        <p:blipFill>
          <a:blip r:embed="rId4"/>
          <a:stretch/>
        </p:blipFill>
        <p:spPr>
          <a:xfrm>
            <a:off x="5508720" y="3429000"/>
            <a:ext cx="2228760" cy="244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976320" y="1483200"/>
            <a:ext cx="2884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8000"/>
                </a:solidFill>
                <a:latin typeface="Times New Roman"/>
              </a:rPr>
              <a:t>This is 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zh-CN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0" i="1" lang="zh-CN" sz="2400" spc="-1" strike="noStrike">
                <a:solidFill>
                  <a:srgbClr val="008000"/>
                </a:solidFill>
                <a:latin typeface="Times New Roman"/>
              </a:rPr>
              <a:t> swe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792320" y="2346840"/>
            <a:ext cx="2936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ff"/>
                </a:solidFill>
                <a:latin typeface="Times New Roman"/>
              </a:rPr>
              <a:t>This is 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</a:rPr>
              <a:t>an old</a:t>
            </a:r>
            <a:r>
              <a:rPr b="0" i="1" lang="zh-CN" sz="2400" spc="-1" strike="noStrike">
                <a:solidFill>
                  <a:srgbClr val="0000ff"/>
                </a:solidFill>
                <a:latin typeface="Times New Roman"/>
              </a:rPr>
              <a:t> swe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88680" y="3930840"/>
            <a:ext cx="309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0000"/>
                </a:solidFill>
                <a:latin typeface="Times New Roman"/>
              </a:rPr>
              <a:t>These are</a:t>
            </a:r>
            <a:r>
              <a:rPr b="0" i="1" lang="zh-CN" sz="2400" spc="-1" strike="noStrike">
                <a:solidFill>
                  <a:srgbClr val="0000ff"/>
                </a:solidFill>
                <a:latin typeface="Times New Roman"/>
              </a:rPr>
              <a:t> new tro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4936320" y="4794480"/>
            <a:ext cx="2995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0000"/>
                </a:solidFill>
                <a:latin typeface="Times New Roman"/>
              </a:rPr>
              <a:t>These are</a:t>
            </a:r>
            <a:r>
              <a:rPr b="0" i="1" lang="zh-CN" sz="2400" spc="-1" strike="noStrike">
                <a:solidFill>
                  <a:srgbClr val="0000ff"/>
                </a:solidFill>
                <a:latin typeface="Times New Roman"/>
              </a:rPr>
              <a:t> old tro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35HZYJD[F7R]~_TD)N(3NT8"/>
          <p:cNvPicPr/>
          <p:nvPr/>
        </p:nvPicPr>
        <p:blipFill>
          <a:blip r:embed="rId1"/>
          <a:stretch/>
        </p:blipFill>
        <p:spPr>
          <a:xfrm>
            <a:off x="252360" y="909720"/>
            <a:ext cx="8682120" cy="5877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6809040" y="277848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0000"/>
                </a:solidFill>
                <a:latin typeface="Times New Roman"/>
              </a:rPr>
              <a:t>tro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881040" y="32817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0000"/>
                </a:solidFill>
                <a:latin typeface="Times New Roman"/>
              </a:rPr>
              <a:t>sw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020000" y="3813120"/>
            <a:ext cx="19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7025040" y="39294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0000"/>
                </a:solidFill>
                <a:latin typeface="Times New Roman"/>
              </a:rPr>
              <a:t>ski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229600" cy="5824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800" spc="-1" strike="noStrike">
                <a:solidFill>
                  <a:srgbClr val="ff0000"/>
                </a:solidFill>
                <a:latin typeface="Arial"/>
              </a:rPr>
              <a:t>2.Let's do it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100" spc="-1" strike="noStrike">
                <a:solidFill>
                  <a:srgbClr val="ff0000"/>
                </a:solidFill>
                <a:latin typeface="Arial"/>
              </a:rPr>
              <a:t>3. I like your skirt</a:t>
            </a:r>
            <a:r>
              <a:rPr b="0" lang="zh-CN" sz="5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QQ图片20141230211030"/>
          <p:cNvPicPr/>
          <p:nvPr/>
        </p:nvPicPr>
        <p:blipFill>
          <a:blip r:embed="rId1"/>
          <a:stretch/>
        </p:blipFill>
        <p:spPr>
          <a:xfrm>
            <a:off x="2340000" y="2349360"/>
            <a:ext cx="3673440" cy="2303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6161040" y="4504680"/>
            <a:ext cx="10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Times New Roman"/>
              </a:rPr>
              <a:t>ski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1T06:09:43Z</dcterms:created>
  <dc:creator/>
  <dc:description/>
  <dc:language>en-US</dc:language>
  <cp:lastModifiedBy>微软用户</cp:lastModifiedBy>
  <dcterms:modified xsi:type="dcterms:W3CDTF">2017-06-23T02:41:41Z</dcterms:modified>
  <cp:revision>3</cp:revision>
  <dc:subject/>
  <dc:title>2. New or Old?</dc:title>
</cp:coreProperties>
</file>