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9A5-9EAD-4A8F-A699-A2E9D44D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96E-EF40-4808-B863-869A2FF5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B0B-0B53-48E3-BBF4-167CDF5A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052-31EE-4A65-9D6C-A1D096BB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9394-D096-4676-AA05-5B196398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4947-7B4E-4788-8A13-EC129BBB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90BB-B62B-45E8-B7C1-A496F193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B098-3313-4452-8C41-C9C614CF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905C-9C9D-48E8-97AB-20E001B4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FD0C-6E79-45CE-A918-D403462F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ED15-624B-49E4-BED3-FBD78BE6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BF1-086E-43DB-B9B0-23178BAC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76C7-16EB-4C70-AF9B-15EEC5C8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8B04-8942-476D-B5D9-9BD2262E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4EEA-6C8B-4227-BDE3-C30BB4D1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1D18-B64C-43E2-8A9E-D3FC1866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AE3C-4E56-4A68-B837-2851F1D5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CE805-42A3-4788-8D00-5455B877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A859F-24D5-424D-95D7-285C2FB3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DD92D-8946-481B-8C85-2E7BEA18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2667-EB13-491B-8217-5982D345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7902-BAFA-4D89-8870-861C8622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DEE-85CA-4295-BD24-0FAAD631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E89EF-26C7-4303-B354-59958AF9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E4310-0C3C-40AD-83A3-ADA9C861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EF7D-C28C-4963-84F7-E2186425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3A44-B54E-4B40-812B-660B446D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AC1D-9BD7-4F00-8960-536E8E0F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DD02-1676-47AC-91B7-9D6F9568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8601E-2C58-4826-8F34-3C9AEF98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0E4-6FF0-458D-B18A-1C785C20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6F2-63DE-4303-9284-BED36F20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932-2A5C-4356-A0B3-7E69E211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AF2-66A7-49C8-AEEB-490840B6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1E9-3F42-4023-BFBE-7B8935FC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36D-B71E-4C3A-9636-FAAFB0A1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11A-F1D8-45E6-B5BB-B1D16205C2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C8F2-C223-4E35-AC59-9AC7800B15C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9890-DFC8-417D-A428-A9170AF7FA1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3284640"/>
            <a:ext cx="8726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sson 23 shopping online</a:t>
            </a:r>
            <a:endParaRPr b="1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1989000"/>
            <a:ext cx="4895640" cy="719280"/>
          </a:xfrm>
          <a:prstGeom prst="rect">
            <a:avLst/>
          </a:prstGeom>
          <a:solidFill>
            <a:srgbClr val="a3f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ant to do …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要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620640"/>
            <a:ext cx="2881440" cy="790560"/>
          </a:xfrm>
          <a:prstGeom prst="rect">
            <a:avLst/>
          </a:prstGeom>
          <a:solidFill>
            <a:srgbClr val="a3f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line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1916280"/>
            <a:ext cx="4896000" cy="718920"/>
          </a:xfrm>
          <a:prstGeom prst="rect">
            <a:avLst/>
          </a:prstGeom>
          <a:solidFill>
            <a:srgbClr val="f074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Shop online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网上购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4941720"/>
            <a:ext cx="4896000" cy="719280"/>
          </a:xfrm>
          <a:prstGeom prst="rect">
            <a:avLst/>
          </a:prstGeom>
          <a:solidFill>
            <a:srgbClr val="a3f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much ….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询问价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637000"/>
            <a:ext cx="9144000" cy="422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2708280"/>
            <a:ext cx="4895640" cy="719280"/>
          </a:xfrm>
          <a:prstGeom prst="rect">
            <a:avLst/>
          </a:prstGeom>
          <a:solidFill>
            <a:srgbClr val="a3f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un and easy…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单又有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63840"/>
            <a:ext cx="9144000" cy="439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3500280"/>
            <a:ext cx="100800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4221000"/>
            <a:ext cx="100800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00360" y="4869000"/>
            <a:ext cx="1008000" cy="43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6165720"/>
            <a:ext cx="100800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268280"/>
            <a:ext cx="9144000" cy="2795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076640"/>
            <a:ext cx="9144000" cy="223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896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01:49Z</dcterms:created>
  <dc:creator/>
  <dc:description/>
  <dc:language>en-US</dc:language>
  <cp:lastModifiedBy>微软用户</cp:lastModifiedBy>
  <dcterms:modified xsi:type="dcterms:W3CDTF">2017-05-05T07:11:18Z</dcterms:modified>
  <cp:revision>4</cp:revision>
  <dc:subject/>
  <dc:title/>
</cp:coreProperties>
</file>