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7C1-50F6-4CED-BE99-947AACD5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51A-5A8F-438B-8054-58F7CAC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714-5934-46FE-B1CF-0A782425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577-A75C-4216-B584-A2EBF82B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36E-DD97-47BC-98FC-B102612C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72C-9B8B-40D5-A797-5431D5F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EC8C-10B3-47C9-B9BD-41A574B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E14-6B5A-40A3-91FA-11828B1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F367-0D89-4556-A70E-182D6FB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F138-8445-471C-ADAE-28875D9C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1E15-6FB7-4E6D-B237-C531AFB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E21-069A-4EED-97D6-19CEFFCB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6D3-DA2F-42C1-B55A-EE0FD42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9D0-07FE-44E6-82BE-AFF6417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F0E-B8F5-49EC-8369-F863E2A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7F6F-F84D-4870-8412-11D51E52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A6C9-F1AA-40BE-B5A4-C2AB972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91CD-697F-4217-90B1-8957FFAC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BCEA-F0DF-4FE9-8C92-E6B1CCE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89E0-4494-4CDE-812E-08B843B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7449-3231-48C6-9DA7-D19C19E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0D69-5653-4655-9D83-3703AAD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DD5-9609-42C4-AD96-DCA3E01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E387-185C-49F8-B4FD-8200E43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08BC-F1D6-42E6-A807-BE54747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CD48-F770-4F81-9C1E-105458E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0DC2-1382-4FD5-838F-1DCE47B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E4EF-50C0-46AB-A6E7-45CD39E7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3276-E4D8-4AE8-9571-E07D14F3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EF23-29D1-4354-BB1B-33E6E7EF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73F-81C6-4597-A7C1-E0B6860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BF8-02D7-48ED-9849-9C93B9D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3EA-93D0-49B7-957C-051A71E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839-F503-4B47-974F-0B88AB2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95F-EC3E-4C76-BC57-E67139A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1DB-AEEE-40EB-8E58-3E779C0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E5E-ED72-4104-BCAB-5D306CDD7A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4F7-C35E-4E8A-82DD-B43833EEFA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69A-A7A4-4D8E-974A-F966941257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27280" y="1700280"/>
            <a:ext cx="3384720" cy="20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sson 17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’m Lo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476280"/>
            <a:ext cx="5545080" cy="1657440"/>
          </a:xfrm>
          <a:prstGeom prst="wedgeEllipseCallout">
            <a:avLst>
              <a:gd name="adj1" fmla="val -45703"/>
              <a:gd name="adj2" fmla="val 8467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bus sto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852640"/>
            <a:ext cx="7129440" cy="3024360"/>
          </a:xfrm>
          <a:prstGeom prst="wedgeRoundRectCallout">
            <a:avLst>
              <a:gd name="adj1" fmla="val -35416"/>
              <a:gd name="adj2" fmla="val 71467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straight and turn right at the traffic lights. The bus stop is the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549360"/>
            <a:ext cx="3313080" cy="2016000"/>
          </a:xfrm>
          <a:prstGeom prst="cloudCallout">
            <a:avLst>
              <a:gd name="adj1" fmla="val -42958"/>
              <a:gd name="adj2" fmla="val 4787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2133720"/>
            <a:ext cx="4176720" cy="2590560"/>
          </a:xfrm>
          <a:prstGeom prst="cloudCallout">
            <a:avLst>
              <a:gd name="adj1" fmla="val -35175"/>
              <a:gd name="adj2" fmla="val 894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’re wel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9"/>
          <p:cNvSpPr/>
          <p:nvPr/>
        </p:nvSpPr>
        <p:spPr>
          <a:xfrm>
            <a:off x="571680" y="1428840"/>
            <a:ext cx="82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c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e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k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k:  d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ch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  clo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: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:  mor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eve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walk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.Stop or g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5" descr="u=1614013338,3037787276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720" y="4429080"/>
            <a:ext cx="5715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6" descr="u=1266826640,2612328816&amp;fm=23&amp;gp=0.jpg"/>
          <p:cNvPicPr/>
          <p:nvPr/>
        </p:nvPicPr>
        <p:blipFill>
          <a:blip r:embed="rId2"/>
          <a:stretch/>
        </p:blipFill>
        <p:spPr>
          <a:xfrm>
            <a:off x="3286080" y="642960"/>
            <a:ext cx="31431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u=2182340652,208911926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286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d is stop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aa64034f78f0f7361a5d38ff0b55b319eac413a8.jpg"/>
          <p:cNvPicPr/>
          <p:nvPr/>
        </p:nvPicPr>
        <p:blipFill>
          <a:blip r:embed="rId2"/>
          <a:stretch/>
        </p:blipFill>
        <p:spPr>
          <a:xfrm>
            <a:off x="3143160" y="35712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6" descr="u=46686721,2601228096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矩形 5"/>
          <p:cNvSpPr/>
          <p:nvPr/>
        </p:nvSpPr>
        <p:spPr>
          <a:xfrm flipH="1">
            <a:off x="6071400" y="1214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een is go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6" descr="u=2993479477,2612829847&amp;fm=90&amp;gp=0.jpg"/>
          <p:cNvPicPr/>
          <p:nvPr/>
        </p:nvPicPr>
        <p:blipFill>
          <a:blip r:embed="rId2"/>
          <a:stretch/>
        </p:blipFill>
        <p:spPr>
          <a:xfrm>
            <a:off x="2786040" y="500040"/>
            <a:ext cx="31431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6" descr="u=2336155107,719996605&amp;fm=52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8480" y="4285800"/>
            <a:ext cx="6000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Yellow is wait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u=227842040,3848369262&amp;fm=21&amp;gp=0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Where  is the resraur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268280"/>
            <a:ext cx="7920000" cy="3240360"/>
          </a:xfrm>
          <a:prstGeom prst="wedgeEllipseCallout">
            <a:avLst>
              <a:gd name="adj1" fmla="val -45111"/>
              <a:gd name="adj2" fmla="val 5401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cuse me, I’m lost. Where is Happy  Restaur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549360"/>
            <a:ext cx="7632720" cy="3600360"/>
          </a:xfrm>
          <a:prstGeom prst="wedgeEllipseCallout">
            <a:avLst>
              <a:gd name="adj1" fmla="val -39435"/>
              <a:gd name="adj2" fmla="val 4276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ll, It’s far from here .You   can go there by bu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3:26Z</dcterms:created>
  <dc:creator/>
  <dc:description/>
  <dc:language>en-US</dc:language>
  <cp:lastModifiedBy>微软用户</cp:lastModifiedBy>
  <dcterms:modified xsi:type="dcterms:W3CDTF">2017-05-22T07:22:38Z</dcterms:modified>
  <cp:revision>50</cp:revision>
  <dc:subject/>
  <dc:title/>
</cp:coreProperties>
</file>