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BBD-28A5-4A0B-B8E6-630C514C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560-0B0F-4995-80EE-95216EC2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8D4-33A2-4347-8784-B4266839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DD8-3BA8-4B4F-827D-17F3927A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790A-C3A2-4BF6-A2E4-9F92F8A0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E620-52B3-4200-93E2-124DB87C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C76A-1CAB-4DA5-A77E-E88BE2F8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DD76-588E-4C22-AA4C-307AF7D1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A899-C08B-4526-9EE7-7A5FCA25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E0E0-A82D-4433-B358-5A21446D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E7DF-6FE3-4CDE-B508-6C0294B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9A0-5F6A-4F0D-96D5-8892681E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9C04-7ABF-4EFD-B5FE-F0780EC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AAFF-6FA9-4169-9B66-B34B5A8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186-D1D8-4321-88BE-77A7F5A9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6B9C-7636-40F2-B4D6-380E9EF4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EAA6-9A98-4FEE-9C3C-1B36C96A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104A-6D37-4865-A662-05A12BA0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9C1B-A8DF-4DFD-AE7F-CDCB92A5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6882-FCF8-4CD8-B446-9404DDF3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0396-FF10-4F9D-A856-C95C5DB0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86F9-7B41-45E0-80CC-2843ABED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1B4-0B98-4AC1-8ACF-8B1B9E52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DD49-E5E1-4A06-ADCE-78D2CB7B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F502-0943-4A07-AC55-8766343F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8D49-B31B-4F40-96A4-D5A4074E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7A67-091A-44C7-9F60-9868FDF2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360C-3565-4656-BEA9-5202DB22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6559-F42C-4407-B62F-B20EE5F2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E807-D1C5-41BF-90CE-D35061B8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1CE-F96E-4FB7-A0A7-A94886DF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DFB-5130-47C4-A138-077D58B0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C94-EB8A-4390-BE70-8A8E26FC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987-B603-4256-A06C-5B055C5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BE4-B55F-463F-A31C-CF6FB39F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5C8-FFD1-44EF-95ED-1DCA3A6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C777-A559-4068-8E1F-246EF51EDE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8191-8189-4BEC-9B4D-20A0A8C2046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2124-96F5-4701-86B4-629DC1BE592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85800" y="1295280"/>
          <a:ext cx="7924680" cy="4876920"/>
        </p:xfrm>
        <a:graphic>
          <a:graphicData uri="http://schemas.openxmlformats.org/drawingml/2006/table">
            <a:tbl>
              <a:tblPr/>
              <a:tblGrid>
                <a:gridCol w="1111320"/>
                <a:gridCol w="1109520"/>
                <a:gridCol w="1111320"/>
                <a:gridCol w="1544760"/>
                <a:gridCol w="1143000"/>
                <a:gridCol w="914400"/>
                <a:gridCol w="99036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828800" y="0"/>
            <a:ext cx="49528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day i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’s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457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4998" t="4000" r="3000" b="6665"/>
          <a:stretch/>
        </p:blipFill>
        <p:spPr>
          <a:xfrm>
            <a:off x="0" y="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68580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upon a ti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2971800" cy="2101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91080" y="27432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53341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        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6760" y="533412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5000" y="5334120"/>
            <a:ext cx="12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60958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写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42775E-006 L 0.4375 -0.00879 E">
                                      <p:cBhvr>
                                        <p:cTn id="20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75 -0.00879 L -0.0125 0.15769 E">
                                      <p:cBhvr>
                                        <p:cTn id="22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15769 L 0.55417 0.15769 E">
                                      <p:cBhvr>
                                        <p:cTn id="22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4998" t="4000" r="3000" b="6665"/>
          <a:stretch/>
        </p:blipFill>
        <p:spPr>
          <a:xfrm>
            <a:off x="0" y="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68580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upon a ti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1080" y="27432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76720" y="2438280"/>
            <a:ext cx="3504960" cy="2556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rcRect l="30902" t="0" r="0" b="0"/>
          <a:stretch/>
        </p:blipFill>
        <p:spPr>
          <a:xfrm>
            <a:off x="5029200" y="2514600"/>
            <a:ext cx="2044800" cy="187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66680" y="50292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        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2880" y="502920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6360" y="50292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4520" y="502920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fo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34640" y="5410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571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我的故事画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344 0.18636 C -0.12847 0.16532 -0.12569 0.12601 -0.11545 0.10589 C -0.11458 0.10011 -0.11302 0.0948 -0.11232 0.08901 C -0.11215 0.08717 -0.11146 0.07052 -0.1092 0.06566 C -0.10521 0.05688 -0.08854 0.04601 -0.08055 0.04254 C -0.07291 0.02682 -0.08316 0.04462 -0.071 0.03399 C -0.06944 0.0326 -0.06944 0.0289 -0.06788 0.02774 C -0.06545 0.02589 -0.0625 0.02636 -0.05989 0.02566 C -0.05677 0.02289 -0.05243 0.02127 -0.05034 0.01711 C -0.0467 0.00994 -0.04548 0.00717 -0.03923 0.00439 C -0.02291 -0.01018 0.00591 -0.01156 0.02413 -0.01457 C 0.06129 -0.01318 0.075 -0.01226 0.10521 -0.00833 C 0.11875 -0.00162 0.104 -0.00833 0.13525 -0.00393 C 0.14115 -0.00301 0.14688 -0.0007 0.15278 0.00023 C 0.16372 0.00601 0.17066 0.00693 0.18299 0.00878 C 0.18455 0.01086 0.18577 0.01364 0.18768 0.01503 C 0.19063 0.01711 0.19722 0.01919 0.19722 0.01942 C 0.19983 0.03352 0.20712 0.04624 0.21788 0.05086 C 0.22257 0.05734 0.22222 0.06058 0.229 0.06358 C 0.23004 0.06566 0.23091 0.06797 0.23212 0.07006 C 0.23351 0.07237 0.23559 0.07375 0.23681 0.0763 C 0.23872 0.08023 0.23976 0.08508 0.24167 0.08901 C 0.24323 0.0978 0.24479 0.10173 0.24966 0.10797 C 0.25087 0.12717 0.25278 0.13965 0.25278 0.15884 E">
                                      <p:cBhvr>
                                        <p:cTn id="271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sing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ong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8120" y="76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124080" y="5562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唱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90560" y="4879440"/>
            <a:ext cx="464796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l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971800" y="5715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玩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0648 C 0.14497 0.00046 0.17118 -0.00555 0.18038 -0.00555 C 0.23872 -0.00555 0.29844 0.08879 0.29844 0.18312 C 0.29844 0.13549 0.32847 0.08879 0.35677 0.08879 C 0.38681 0.08879 0.4151 0.13619 0.4151 0.18312 C 0.4151 0.15954 0.43003 0.13549 0.44497 0.13549 C 0.4599 0.13549 0.475 0.15885 0.475 0.18312 C 0.475 0.17087 0.48247 0.15954 0.48993 0.15954 C 0.4974 0.15954 0.50486 0.17156 0.50486 0.18312 C 0.50486 0.17688 0.50885 0.17087 0.51233 0.17087 C 0.51424 0.17087 0.51979 0.17688 0.51979 0.18312 C 0.51979 0.17989 0.52188 0.17688 0.52378 0.17688 C 0.52378 0.17781 0.5276 0.17989 0.5276 0.18312 C 0.5276 0.1815 0.5276 0.17989 0.52969 0.17989 C 0.52969 0.18081 0.5316 0.1815 0.5316 0.18312 C 0.5316 0.1822 0.5316 0.1815 0.5316 0.18081 C 0.53351 0.18081 0.53351 0.1815 0.53351 0.18243 C 0.53542 0.18243 0.53542 0.1815 0.53542 0.18081 C 0.5375 0.18081 0.5375 0.1815 0.5375 0.18243 E">
                                      <p:cBhvr>
                                        <p:cTn id="324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35880" y="333000"/>
            <a:ext cx="213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nday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2520" y="4574880"/>
            <a:ext cx="221004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295520" cy="2857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438280" y="4572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ash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5410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洗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4956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the way I __________ on a _________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419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 my clot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5791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我洗衣服的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3047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the way I __________ on a _________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581280" y="106668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9d8ec"/>
                </a:solidFill>
                <a:latin typeface="Arial"/>
              </a:rPr>
              <a:t>Sun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day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星期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6760" y="1143000"/>
            <a:ext cx="365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9d8ec"/>
                </a:solidFill>
                <a:latin typeface="Arial"/>
              </a:rPr>
              <a:t>Mon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星期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9810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9d8ec"/>
                </a:solidFill>
                <a:latin typeface="Arial"/>
              </a:rPr>
              <a:t>Tues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星期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9718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9d8ec"/>
                </a:solidFill>
                <a:latin typeface="Arial"/>
              </a:rPr>
              <a:t>We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5400" spc="-1" strike="noStrike">
                <a:solidFill>
                  <a:srgbClr val="d9d8ec"/>
                </a:solidFill>
                <a:latin typeface="Arial"/>
              </a:rPr>
              <a:t>nes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day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8098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9d8ec"/>
                </a:solidFill>
                <a:latin typeface="Arial"/>
              </a:rPr>
              <a:t>Thurs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day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四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97180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9d8ec"/>
                </a:solidFill>
                <a:latin typeface="Arial"/>
              </a:rPr>
              <a:t>Satur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day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六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4197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9d8ec"/>
                </a:solidFill>
                <a:latin typeface="Arial"/>
              </a:rPr>
              <a:t>Fri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day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52280" y="685800"/>
          <a:ext cx="8915400" cy="401796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19320"/>
                <a:gridCol w="1600200"/>
                <a:gridCol w="1371600"/>
                <a:gridCol w="1066680"/>
                <a:gridCol w="12952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o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u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edn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hur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ri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atur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5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school and 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school and 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28800" y="23623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t 2     At Ho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3886200" cy="2590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172200" y="3352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家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52280" y="685800"/>
          <a:ext cx="8915400" cy="401796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19320"/>
                <a:gridCol w="1600200"/>
                <a:gridCol w="1371600"/>
                <a:gridCol w="1066680"/>
                <a:gridCol w="12952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o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u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edn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hur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ri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atur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5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school and 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school and 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hool schedu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95280" y="1143000"/>
          <a:ext cx="7010640" cy="4379760"/>
        </p:xfrm>
        <a:graphic>
          <a:graphicData uri="http://schemas.openxmlformats.org/drawingml/2006/table">
            <a:tbl>
              <a:tblPr/>
              <a:tblGrid>
                <a:gridCol w="2667240"/>
                <a:gridCol w="434340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752480" y="1676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876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2560" y="495288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5880" y="167652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up and go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8880" y="274320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8520" y="373392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219320" y="1142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eve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2133720"/>
            <a:ext cx="3886200" cy="1752480"/>
          </a:xfrm>
          <a:prstGeom prst="wedgeRoundRectCallout">
            <a:avLst>
              <a:gd name="adj1" fmla="val 16666"/>
              <a:gd name="adj2" fmla="val -747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助动词（帮助构成否定句、疑问句，没有词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2286000"/>
            <a:ext cx="4038480" cy="990720"/>
          </a:xfrm>
          <a:prstGeom prst="wedgeRoundRectCallout">
            <a:avLst>
              <a:gd name="adj1" fmla="val -51453"/>
              <a:gd name="adj2" fmla="val -10753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，干，办（某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572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你晚上干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15000" y="38098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038480" y="4389480"/>
            <a:ext cx="51055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230508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933520" y="4419720"/>
            <a:ext cx="25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200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31240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3276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家庭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343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even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057400" y="4879800"/>
            <a:ext cx="40384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3105360" cy="3333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438280" y="5562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读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62880" y="49068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960" y="4876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07:09Z</dcterms:created>
  <dc:creator/>
  <dc:description/>
  <dc:language>en-US</dc:language>
  <cp:lastModifiedBy>微软用户</cp:lastModifiedBy>
  <dcterms:modified xsi:type="dcterms:W3CDTF">2017-05-22T07:09:57Z</dcterms:modified>
  <cp:revision>4</cp:revision>
  <dc:subject/>
  <dc:title/>
</cp:coreProperties>
</file>