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7D7-50CC-411A-841C-AF8426C1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A3E-387E-4123-A5B6-B888131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93B-8A0F-49C5-94D1-59FDD511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209-2EE2-4D6A-9535-636AB722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0CE2-0F32-49E0-9FDB-D9AB7C36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37F7-17AC-40DD-ABB8-3CBC528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7D56-42F5-44AA-BB0B-700EAD98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FEE1-5B4D-466F-B6DD-9F1050B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4032-CDC3-457C-8229-37FC838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7723-93D8-498F-97F9-CAF22282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44FC-A416-44F9-8FDB-2C78E3B3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A0B-8509-49C4-AF0F-E520D195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728-F2CA-4948-969F-D9F4583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797F-BCAF-41A9-B4FB-C04B174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5BDC-9136-491F-A17B-B84AB5B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0BA6-B94B-427B-9CF1-55FF0922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5E0A-4DD0-4C12-9D24-0812DBE8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7F60-3D17-4114-BC79-D98A667F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5B20-E3F6-4D66-BB3F-5E6E8148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3E44-006F-4FDC-9E1C-95FE3827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0D34-0F74-4139-8DF3-B586ACB2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4A4E-00BC-431A-BC95-13A4782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C8B-CD2D-42AC-86C8-72AF6BA9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50C5-0FC3-4920-831C-81605634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A5F2-193E-4234-A2DC-6E6D02D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2FBF-3C66-4844-8454-DDDBF169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A50B-AAB7-4DA1-9228-906AAAB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4F2F-2130-4202-AD88-8BA25296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55C8-609E-4311-9273-B4A9AC8E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2156-BBC6-4FC1-ABF2-0A3D130E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D92-0EA8-4EF9-9D9C-4A8CFC94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78E-76E8-48B6-BEC3-A8290F9A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D5D-F19F-4B0D-9844-DB892D3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C96-1B1F-46C7-A1D2-5EFF30AF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DC6-30D3-4B9E-8AED-33CB244C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0B2-7207-4790-851C-59BC422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C02-F288-466B-970B-627187E207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89F-E73D-4A62-B92E-1A1393C170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759-2DA9-472B-BFF6-0FB1EF5B6E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u=1124884124,1386176319&amp;fm=21&amp;gp=0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050920" y="1125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Arial"/>
              </a:rPr>
              <a:t>Lesson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87280" y="2205000"/>
            <a:ext cx="68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At the Sh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94999335314411615676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32623431441161567652.jpg"/>
          <p:cNvPicPr/>
          <p:nvPr/>
        </p:nvPicPr>
        <p:blipFill>
          <a:blip r:embed="rId2"/>
          <a:stretch/>
        </p:blipFill>
        <p:spPr>
          <a:xfrm>
            <a:off x="5632560" y="26028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971640" y="404640"/>
            <a:ext cx="3743280" cy="2374920"/>
          </a:xfrm>
          <a:prstGeom prst="cloudCallout">
            <a:avLst>
              <a:gd name="adj1" fmla="val 68787"/>
              <a:gd name="adj2" fmla="val 38435"/>
            </a:avLst>
          </a:prstGeom>
          <a:solidFill>
            <a:srgbClr val="cccc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show you. This way ,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3105015301441161567614.jpg"/>
          <p:cNvPicPr/>
          <p:nvPr/>
        </p:nvPicPr>
        <p:blipFill>
          <a:blip r:embed="rId3"/>
          <a:stretch/>
        </p:blipFill>
        <p:spPr>
          <a:xfrm>
            <a:off x="108000" y="3573360"/>
            <a:ext cx="3598920" cy="2729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3995640" y="4726080"/>
            <a:ext cx="4535640" cy="1439640"/>
          </a:xfrm>
          <a:custGeom>
            <a:avLst/>
            <a:gdLst>
              <a:gd name="textAreaLeft" fmla="*/ 0 w 4535640"/>
              <a:gd name="textAreaRight" fmla="*/ 4536000 w 4535640"/>
              <a:gd name="textAreaTop" fmla="*/ 186480 h 1439640"/>
              <a:gd name="textAreaBottom" fmla="*/ 1253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I 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5435640" y="5373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94999335314411615676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9743097031441161567732.jpg"/>
          <p:cNvPicPr/>
          <p:nvPr/>
        </p:nvPicPr>
        <p:blipFill>
          <a:blip r:embed="rId2"/>
          <a:srcRect l="2688" t="0" r="0" b="3804"/>
          <a:stretch/>
        </p:blipFill>
        <p:spPr>
          <a:xfrm>
            <a:off x="428760" y="189000"/>
            <a:ext cx="3782880" cy="3740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32623431441161567652.jpg"/>
          <p:cNvPicPr/>
          <p:nvPr/>
        </p:nvPicPr>
        <p:blipFill>
          <a:blip r:embed="rId3"/>
          <a:stretch/>
        </p:blipFill>
        <p:spPr>
          <a:xfrm>
            <a:off x="5580000" y="836640"/>
            <a:ext cx="333396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7"/>
          <p:cNvSpPr/>
          <p:nvPr/>
        </p:nvSpPr>
        <p:spPr>
          <a:xfrm>
            <a:off x="971640" y="4221000"/>
            <a:ext cx="3095640" cy="1584360"/>
          </a:xfrm>
          <a:prstGeom prst="wedgeEllipseCallout">
            <a:avLst>
              <a:gd name="adj1" fmla="val 80050"/>
              <a:gd name="adj2" fmla="val -194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Here they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94999335314411615676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32623431441161567652.jpg"/>
          <p:cNvPicPr/>
          <p:nvPr/>
        </p:nvPicPr>
        <p:blipFill>
          <a:blip r:embed="rId2"/>
          <a:stretch/>
        </p:blipFill>
        <p:spPr>
          <a:xfrm>
            <a:off x="5810400" y="260280"/>
            <a:ext cx="3333600" cy="439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372946001441161567738.jpg"/>
          <p:cNvPicPr/>
          <p:nvPr/>
        </p:nvPicPr>
        <p:blipFill>
          <a:blip r:embed="rId3"/>
          <a:stretch/>
        </p:blipFill>
        <p:spPr>
          <a:xfrm>
            <a:off x="0" y="3068640"/>
            <a:ext cx="2583000" cy="35272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6"/>
          <p:cNvSpPr/>
          <p:nvPr/>
        </p:nvSpPr>
        <p:spPr>
          <a:xfrm>
            <a:off x="2411280" y="1844640"/>
            <a:ext cx="3384720" cy="1224000"/>
          </a:xfrm>
          <a:prstGeom prst="wedgeRectCallout">
            <a:avLst>
              <a:gd name="adj1" fmla="val 72842"/>
              <a:gd name="adj2" fmla="val 29898"/>
            </a:avLst>
          </a:prstGeom>
          <a:solidFill>
            <a:srgbClr val="cccc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Yes? May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324000" y="692280"/>
            <a:ext cx="3311280" cy="936360"/>
          </a:xfrm>
          <a:prstGeom prst="wedgeEllipseCallout">
            <a:avLst>
              <a:gd name="adj1" fmla="val -35620"/>
              <a:gd name="adj2" fmla="val 208305"/>
            </a:avLst>
          </a:prstGeom>
          <a:solidFill>
            <a:srgbClr val="cc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Excus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556000" y="4221000"/>
            <a:ext cx="3744720" cy="151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Where’s th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ce cre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94999335314411615676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32623431441161567652.jpg"/>
          <p:cNvPicPr/>
          <p:nvPr/>
        </p:nvPicPr>
        <p:blipFill>
          <a:blip r:embed="rId2"/>
          <a:stretch/>
        </p:blipFill>
        <p:spPr>
          <a:xfrm>
            <a:off x="5796000" y="260280"/>
            <a:ext cx="3333600" cy="43941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250920" y="907920"/>
            <a:ext cx="4968720" cy="4321440"/>
          </a:xfrm>
          <a:prstGeom prst="wedgeEllipseCallout">
            <a:avLst>
              <a:gd name="adj1" fmla="val 67986"/>
              <a:gd name="adj2" fmla="val 1291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ce cream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’m sorry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This shop h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shoe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clothe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toy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ook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d bik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no ice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571760" y="2142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任务三：朗读课文我最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714840" y="1571760"/>
            <a:ext cx="4143240" cy="857160"/>
          </a:xfrm>
          <a:prstGeom prst="bevel">
            <a:avLst>
              <a:gd name="adj" fmla="val 1263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小组内组长领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2357280" y="3143160"/>
            <a:ext cx="4786560" cy="857520"/>
          </a:xfrm>
          <a:prstGeom prst="bevel">
            <a:avLst>
              <a:gd name="adj" fmla="val 12639"/>
            </a:avLst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小组内分角色朗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1357200" y="4714920"/>
            <a:ext cx="5429520" cy="928800"/>
          </a:xfrm>
          <a:prstGeom prst="bevel">
            <a:avLst>
              <a:gd name="adj" fmla="val 1040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代表展示，全班跟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 flipH="1" rot="18321000">
            <a:off x="2590560" y="2239920"/>
            <a:ext cx="107460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 flipH="1" rot="18321000">
            <a:off x="1375920" y="3954240"/>
            <a:ext cx="1074600" cy="60192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u=127373975,756254073&amp;fm=21&amp;gp=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4140360" y="476280"/>
            <a:ext cx="453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现在准备属于你自己的对话吧，加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57160" y="285840"/>
            <a:ext cx="250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任务四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5021009351441161567743.jpg"/>
          <p:cNvPicPr/>
          <p:nvPr/>
        </p:nvPicPr>
        <p:blipFill>
          <a:blip r:embed="rId1"/>
          <a:stretch/>
        </p:blipFill>
        <p:spPr>
          <a:xfrm>
            <a:off x="0" y="0"/>
            <a:ext cx="9301320" cy="6840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1260360" y="1557360"/>
            <a:ext cx="314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kirt     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weater      coat         cap          scarf        dress      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gloves    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hirt       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076720" y="429264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appl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pear  orange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water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167520" y="1887480"/>
            <a:ext cx="258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teddy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ball   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539640" y="333360"/>
            <a:ext cx="52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Arial"/>
              </a:rPr>
              <a:t>clothes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869080" y="620640"/>
            <a:ext cx="31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toy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203640" y="4941720"/>
            <a:ext cx="166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</a:rPr>
              <a:t>fruit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500040" y="285840"/>
            <a:ext cx="72151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: May I help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Yes, please.  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I want to buy ____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Where are the _____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: I’ll show you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his way, pleas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ere they 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: Thank you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You’re welc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500040" y="285840"/>
            <a:ext cx="72151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642960" y="-531720"/>
            <a:ext cx="77868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英汉互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At the shop__________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 Excuse me__________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 This way please.__________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们一起去购物吧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 Can I help you?__________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000240" y="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当堂小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500040" y="285840"/>
            <a:ext cx="72151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594720"/>
            <a:ext cx="8429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71880" y="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当堂小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5400" y="-1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5000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May I help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you    B.You   C.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 ) 2. Where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ice cre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am    B.is   C.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 ) 3. I want to buy an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red dress    B. black dress   C. orange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 ) 4. Where is Mei Yangyang?  ---- She is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on    B. at   C.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 ) 5. What do you want to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buy    B. buying   C. bu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u=1525454664,503545194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900000" y="112536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11280" y="10526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能听懂，会说，认读并拼读下列单词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nt, to, buy,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2276640"/>
            <a:ext cx="820872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能朗读并运用下列句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y I help you ? Where are the …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 way ,please.  Here  they ar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189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课我要做到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11280" y="47973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自编并表演购物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u=2000977484,4044759714&amp;fm=21&amp;gp=0"/>
          <p:cNvPicPr/>
          <p:nvPr/>
        </p:nvPicPr>
        <p:blipFill>
          <a:blip r:embed="rId1"/>
          <a:stretch/>
        </p:blipFill>
        <p:spPr>
          <a:xfrm>
            <a:off x="0" y="46080"/>
            <a:ext cx="9202680" cy="6840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u=545867583,3134245792&amp;fm=21&amp;gp=0"/>
          <p:cNvPicPr/>
          <p:nvPr/>
        </p:nvPicPr>
        <p:blipFill>
          <a:blip r:embed="rId2"/>
          <a:stretch/>
        </p:blipFill>
        <p:spPr>
          <a:xfrm>
            <a:off x="2413080" y="3068640"/>
            <a:ext cx="3743280" cy="37450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1836720" y="836640"/>
            <a:ext cx="568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Arial"/>
              </a:rPr>
              <a:t>Good 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745680" y="1011240"/>
            <a:ext cx="16426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记得要想我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u=1525454664,503545194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940360" y="3860640"/>
            <a:ext cx="295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00120" y="5000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Let’s play a g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571760" y="2000160"/>
            <a:ext cx="50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让我们帮这些商品找找它们的家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u=4182571012,593484473&amp;fm=21&amp;gp=0"/>
          <p:cNvPicPr/>
          <p:nvPr/>
        </p:nvPicPr>
        <p:blipFill>
          <a:blip r:embed="rId2"/>
          <a:stretch/>
        </p:blipFill>
        <p:spPr>
          <a:xfrm>
            <a:off x="6323040" y="857160"/>
            <a:ext cx="2820960" cy="5214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-241920" y="642960"/>
            <a:ext cx="1399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售货员说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214720" y="404640"/>
            <a:ext cx="3581280" cy="1368720"/>
          </a:xfrm>
          <a:prstGeom prst="wedgeRoundRectCallout">
            <a:avLst>
              <a:gd name="adj1" fmla="val 88361"/>
              <a:gd name="adj2" fmla="val 54523"/>
              <a:gd name="adj3" fmla="val 16667"/>
            </a:avLst>
          </a:prstGeom>
          <a:solidFill>
            <a:srgbClr val="cccc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ay 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643040" y="2071800"/>
            <a:ext cx="4457880" cy="2500200"/>
          </a:xfrm>
          <a:prstGeom prst="cloudCallout">
            <a:avLst>
              <a:gd name="adj1" fmla="val 68787"/>
              <a:gd name="adj2" fmla="val 38435"/>
            </a:avLst>
          </a:prstGeom>
          <a:solidFill>
            <a:srgbClr val="cccc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show you. This way ,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643040" y="4786200"/>
            <a:ext cx="3667320" cy="1584360"/>
          </a:xfrm>
          <a:prstGeom prst="wedgeEllipseCallout">
            <a:avLst>
              <a:gd name="adj1" fmla="val 80050"/>
              <a:gd name="adj2" fmla="val -194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Here they a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u=668597389,1278085816&amp;fm=21&amp;gp=0"/>
          <p:cNvPicPr/>
          <p:nvPr/>
        </p:nvPicPr>
        <p:blipFill>
          <a:blip r:embed="rId2"/>
          <a:stretch/>
        </p:blipFill>
        <p:spPr>
          <a:xfrm>
            <a:off x="108000" y="642960"/>
            <a:ext cx="2454120" cy="5072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6"/>
          <p:cNvSpPr/>
          <p:nvPr/>
        </p:nvSpPr>
        <p:spPr>
          <a:xfrm>
            <a:off x="3419640" y="1928880"/>
            <a:ext cx="4392360" cy="4092480"/>
          </a:xfrm>
          <a:prstGeom prst="wedgeRoundRectCallout">
            <a:avLst>
              <a:gd name="adj1" fmla="val -72625"/>
              <a:gd name="adj2" fmla="val 3310"/>
              <a:gd name="adj3" fmla="val 16667"/>
            </a:avLst>
          </a:prstGeom>
          <a:solidFill>
            <a:srgbClr val="cccc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Yes ,please. I want to buy ___. Where are the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143160" y="35712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顾客说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5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571760" y="2142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任务一：朗读句子我最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42960" y="135720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 May I help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2. I want to buy a dress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 Where are the dress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  I’ll show you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5. This way, please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6. Here they 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00040" y="21420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任务二：听录音跟读课文，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0040" y="1143000"/>
          <a:ext cx="8285040" cy="5356080"/>
        </p:xfrm>
        <a:graphic>
          <a:graphicData uri="http://schemas.openxmlformats.org/drawingml/2006/table">
            <a:tbl>
              <a:tblPr/>
              <a:tblGrid>
                <a:gridCol w="8285040"/>
              </a:tblGrid>
              <a:tr h="53560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Where are Jenny and Danny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What </a:t>
                      </a: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doe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Jenny want to buy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What </a:t>
                      </a: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doe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Danny want to buy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8"/>
          <p:cNvSpPr/>
          <p:nvPr/>
        </p:nvSpPr>
        <p:spPr>
          <a:xfrm>
            <a:off x="1214280" y="192888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They are at the clothes sh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428840" y="378612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She wan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to buy a dres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571760" y="557208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He wan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to buy ice cre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u=2058766250,736585750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28760" y="428760"/>
          <a:ext cx="7999200" cy="5427360"/>
        </p:xfrm>
        <a:graphic>
          <a:graphicData uri="http://schemas.openxmlformats.org/drawingml/2006/table">
            <a:tbl>
              <a:tblPr/>
              <a:tblGrid>
                <a:gridCol w="7999200"/>
              </a:tblGrid>
              <a:tr h="54273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观察图一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are the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resses</a:t>
                      </a:r>
                      <a:r>
                        <a:rPr b="0" lang="zh-CN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?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sse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是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s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二中的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ll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全写形式是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四中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hop</a:t>
                      </a:r>
                      <a:r>
                        <a:rPr b="1" lang="zh-CN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s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es, clothes, toys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汉语意思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与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关系？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7"/>
          <p:cNvSpPr/>
          <p:nvPr/>
        </p:nvSpPr>
        <p:spPr>
          <a:xfrm>
            <a:off x="900000" y="3865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785960" y="22147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938840" y="10810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复数形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58880" y="465300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的三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9499933531441161567644.gif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32623431441161567652.jpg"/>
          <p:cNvPicPr/>
          <p:nvPr/>
        </p:nvPicPr>
        <p:blipFill>
          <a:blip r:embed="rId2"/>
          <a:stretch/>
        </p:blipFill>
        <p:spPr>
          <a:xfrm>
            <a:off x="6323040" y="0"/>
            <a:ext cx="2820960" cy="37162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6"/>
          <p:cNvSpPr/>
          <p:nvPr/>
        </p:nvSpPr>
        <p:spPr>
          <a:xfrm>
            <a:off x="2700360" y="404640"/>
            <a:ext cx="3095640" cy="1368720"/>
          </a:xfrm>
          <a:prstGeom prst="wedgeRoundRectCallout">
            <a:avLst>
              <a:gd name="adj1" fmla="val 88361"/>
              <a:gd name="adj2" fmla="val 54523"/>
              <a:gd name="adj3" fmla="val 16667"/>
            </a:avLst>
          </a:prstGeom>
          <a:solidFill>
            <a:srgbClr val="cccc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ay 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9868201421441161567657.jpg"/>
          <p:cNvPicPr/>
          <p:nvPr/>
        </p:nvPicPr>
        <p:blipFill>
          <a:blip r:embed="rId3"/>
          <a:stretch/>
        </p:blipFill>
        <p:spPr>
          <a:xfrm>
            <a:off x="108000" y="2060640"/>
            <a:ext cx="2454120" cy="43941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/>
          <p:cNvSpPr/>
          <p:nvPr/>
        </p:nvSpPr>
        <p:spPr>
          <a:xfrm>
            <a:off x="3419640" y="3933720"/>
            <a:ext cx="4392360" cy="2087640"/>
          </a:xfrm>
          <a:prstGeom prst="wedgeRoundRectCallout">
            <a:avLst>
              <a:gd name="adj1" fmla="val -72625"/>
              <a:gd name="adj2" fmla="val 3310"/>
              <a:gd name="adj3" fmla="val 16667"/>
            </a:avLst>
          </a:prstGeom>
          <a:solidFill>
            <a:srgbClr val="cccc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Yes ,please. I want to buy a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ress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 Where are the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resses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52:43Z</dcterms:created>
  <dc:creator>微软用户</dc:creator>
  <dc:description/>
  <dc:language>en-US</dc:language>
  <cp:lastModifiedBy>微软用户</cp:lastModifiedBy>
  <dcterms:modified xsi:type="dcterms:W3CDTF">2017-06-23T03:22:44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