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084-4404-4C0A-8D4B-49077797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B7C-6099-4084-AA88-1A5BBC2D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96E-79DE-4434-A5E6-F76DD40A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288-E630-4FF6-894E-CB633D90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102F-8629-47BC-9897-0F2BBBDC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0732-4009-4D59-A7A7-0E102BEF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64FC-B3D5-46AB-BA8D-42BFC1AF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DA0C-A145-4C35-B235-0BD4750A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6AE9-84E9-45DD-BEF4-3A2020BE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1C9E-883B-4D2E-A28D-54256390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AF2E-1C27-4B5F-9B34-7300A67C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08F-DC04-48C2-B8C3-3C3CF3B3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F59D-9B08-434C-B294-2D8B34D3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0092-04A6-43C4-8F9F-AAA7A1A8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FD58-E903-46C6-80F0-61E9E0B9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0812-5CA7-4F84-9B31-1D0C8E4B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9FE5-5D5F-4600-9BA5-CC16C84F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6958-D8B8-4190-B50B-6671AAE2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C9DD-1B72-476E-98E9-AD906905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13C5-AA54-49FF-BFBC-831816A4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66C3-A3C6-431F-ACC0-F465A6DA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A3FE-A0B4-400F-ABAE-BA820EF1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6F4-2188-4F6B-9B0B-B3E8D8D2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7912-6D92-479F-B82D-9E250627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6921-8C92-458C-A3F7-C268CFC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E0F6-DA1D-4FD7-B923-6090ADB3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107A-D068-40FB-9E3A-C8825C8D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E9B4-E7D0-4746-A133-A91A6CC0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7882-20FB-4635-8301-BA3BB967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0BAC-82CD-4212-AC07-141ACEC2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B05-ED4F-41E1-84F4-DD173970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06C-0089-43DD-88D6-D70D5A4E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676-9F91-461F-AEB9-403A0F9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63A-83CC-47CB-BF12-C90AFC52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B2F-2C8F-4090-80E1-B33E1A2D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ADF-2E9B-4D1F-8D65-207D1ED0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11C4-AAA5-4A6E-B2CA-D0592B2FA2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B9AC-EB6B-4AD7-8F17-0CB96604BD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A267-D8D7-485C-A3AB-F804AE1AB5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762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冀教版四年英语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7432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nit 1 The Clothes We W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03200" y="420840"/>
            <a:ext cx="27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t'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1447920"/>
            <a:ext cx="4898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Are these his sho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N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Y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447920"/>
            <a:ext cx="363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Is this her 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N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Y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95280" y="2590920"/>
            <a:ext cx="29718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ea8fe"/>
                    </a:gs>
                    <a:gs pos="100000">
                      <a:srgbClr val="ff00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y aren't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fea8fe"/>
                  </a:gs>
                  <a:gs pos="100000">
                    <a:srgbClr val="ff00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371600" y="3886200"/>
            <a:ext cx="23623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e8efe"/>
                    </a:gs>
                    <a:gs pos="100000">
                      <a:srgbClr val="ff00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y are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fe8efe"/>
                  </a:gs>
                  <a:gs pos="100000">
                    <a:srgbClr val="ff00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5880" y="2590920"/>
            <a:ext cx="22860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66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isn't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50000">
                    <a:srgbClr val="ff66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48520" y="3809880"/>
            <a:ext cx="13716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66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is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50000">
                    <a:srgbClr val="ff66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838080"/>
            <a:ext cx="342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88416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are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286000" y="2666880"/>
            <a:ext cx="2286000" cy="2819520"/>
            <a:chOff x="2286000" y="2666880"/>
            <a:chExt cx="2286000" cy="2819520"/>
          </a:xfrm>
        </p:grpSpPr>
        <p:sp>
          <p:nvSpPr>
            <p:cNvPr id="192" name=""/>
            <p:cNvSpPr/>
            <p:nvPr/>
          </p:nvSpPr>
          <p:spPr>
            <a:xfrm flipH="1">
              <a:off x="2286000" y="2666880"/>
              <a:ext cx="2286000" cy="281952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14600" y="2880000"/>
              <a:ext cx="1981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shi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swea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ski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dres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553080" y="2743200"/>
            <a:ext cx="2363760" cy="2819520"/>
            <a:chOff x="6553080" y="2743200"/>
            <a:chExt cx="2363760" cy="2819520"/>
          </a:xfrm>
        </p:grpSpPr>
        <p:sp>
          <p:nvSpPr>
            <p:cNvPr id="195" name=""/>
            <p:cNvSpPr/>
            <p:nvPr/>
          </p:nvSpPr>
          <p:spPr>
            <a:xfrm flipH="1">
              <a:off x="6553080" y="2743200"/>
              <a:ext cx="2363760" cy="2819520"/>
            </a:xfrm>
            <a:prstGeom prst="vertic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9080" y="3114000"/>
              <a:ext cx="1829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Times New Roman"/>
                </a:rPr>
                <a:t>trouser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Times New Roman"/>
                </a:rPr>
                <a:t>sock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Times New Roman"/>
                </a:rPr>
                <a:t>shor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Times New Roman"/>
                </a:rPr>
                <a:t>sho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219320"/>
            <a:ext cx="2057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o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1295280"/>
            <a:ext cx="1981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152280"/>
            <a:ext cx="2590920" cy="63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衬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裤子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裙子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毛衣，线衣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旧的，年老的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这些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他们，她们，它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帽子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大衣；外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新的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这，这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676520" y="533160"/>
            <a:ext cx="144756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676520" y="1447920"/>
            <a:ext cx="1523880" cy="838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048120"/>
            <a:ext cx="1600200" cy="2057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733920"/>
            <a:ext cx="175248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209680" y="1066320"/>
            <a:ext cx="990720" cy="3429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133360" y="2057400"/>
            <a:ext cx="1066680" cy="3124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885840" y="1676520"/>
            <a:ext cx="2895480" cy="4038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952880" y="2209680"/>
            <a:ext cx="182880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419360" y="2743200"/>
            <a:ext cx="2361960" cy="3429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85840" y="3276720"/>
            <a:ext cx="2895480" cy="30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81280" y="3048120"/>
            <a:ext cx="3200400" cy="761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562720" y="4114440"/>
            <a:ext cx="121896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762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冀教版四年英语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251460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esson 4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hoes and S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898560"/>
            <a:ext cx="4419720" cy="5961240"/>
            <a:chOff x="0" y="898560"/>
            <a:chExt cx="4419720" cy="596124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898560"/>
              <a:ext cx="44197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09480" y="5851440"/>
              <a:ext cx="3024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skir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572000" y="898560"/>
            <a:ext cx="3809880" cy="5961240"/>
            <a:chOff x="4572000" y="898560"/>
            <a:chExt cx="3809880" cy="5961240"/>
          </a:xfrm>
        </p:grpSpPr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4572000" y="898560"/>
              <a:ext cx="380988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638680" y="5851440"/>
              <a:ext cx="198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600cc"/>
                  </a:solidFill>
                  <a:latin typeface="Times New Roman"/>
                </a:rPr>
                <a:t>dres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380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Part 1 What are they wearing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04920"/>
            <a:ext cx="4427640" cy="5808600"/>
            <a:chOff x="0" y="304920"/>
            <a:chExt cx="4427640" cy="58086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4427640" cy="50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5410080"/>
              <a:ext cx="25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trous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610160" y="1447920"/>
            <a:ext cx="4533840" cy="4665600"/>
            <a:chOff x="4610160" y="1447920"/>
            <a:chExt cx="4533840" cy="466560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4610160" y="1447920"/>
              <a:ext cx="45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172200" y="54100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Times New Roman"/>
                </a:rPr>
                <a:t>shor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304920"/>
            <a:ext cx="4876920" cy="5549400"/>
            <a:chOff x="0" y="304920"/>
            <a:chExt cx="4876920" cy="554940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48769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447920" y="502920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9900"/>
                  </a:solidFill>
                  <a:latin typeface="Times New Roman"/>
                </a:rPr>
                <a:t>shoe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876920" y="228600"/>
            <a:ext cx="4267080" cy="5717160"/>
            <a:chOff x="4876920" y="228600"/>
            <a:chExt cx="4267080" cy="571716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876920" y="228600"/>
              <a:ext cx="426708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172200" y="5181480"/>
              <a:ext cx="167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9900"/>
                  </a:solidFill>
                  <a:latin typeface="Times New Roman"/>
                </a:rPr>
                <a:t>sock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00200" y="5334120"/>
            <a:ext cx="6019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is wearing shorts. He is c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he is wearing a dress.She looks 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1148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1523880"/>
            <a:ext cx="3429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hirt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weater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kirt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dres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1523880"/>
            <a:ext cx="3886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are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rouser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ock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hort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hoe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533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Part 2 Let’s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4572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Part3 Are these his shorts? Is this her d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62120" y="1523880"/>
          <a:ext cx="3276360" cy="4064040"/>
        </p:xfrm>
        <a:graphic>
          <a:graphicData uri="http://schemas.openxmlformats.org/drawingml/2006/table">
            <a:tbl>
              <a:tblPr/>
              <a:tblGrid>
                <a:gridCol w="1599840"/>
                <a:gridCol w="1676520"/>
              </a:tblGrid>
              <a:tr h="58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称代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y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4343400" y="3505320"/>
            <a:ext cx="4114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微软雅黑"/>
                <a:ea typeface="微软雅黑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m wearing a sh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is is </a:t>
            </a:r>
            <a:r>
              <a:rPr b="0" lang="en-US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avourite sh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2:55:37Z</dcterms:created>
  <dc:creator/>
  <dc:description/>
  <dc:language>en-US</dc:language>
  <cp:lastModifiedBy>微软用户</cp:lastModifiedBy>
  <dcterms:modified xsi:type="dcterms:W3CDTF">2017-05-05T06:44:3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