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F11-3C80-4EBF-9B25-48A29130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213-1570-4576-A33A-1282C03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D3E-D135-451E-AB4A-70D7196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04E-B794-4BFD-A0BC-068F886C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4D52-5541-459A-BDFF-C97536D2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630-EC7B-462F-9B13-64B1C2E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2992-9426-42E4-8887-BF512C5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FCF-20A6-4C1C-BEB1-5E9F5C00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1D2D-4B96-46D5-8632-3DE58FC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392C-7AF5-41EF-9028-317B6A9F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B15-B93C-473E-8084-EBB51DE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96C-573F-467E-9C14-C136FD1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65A0-A577-4792-9F0D-0DBDB8D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B9D-40F8-422D-BF83-03C50F6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7EC6-0219-4BF4-A677-F5B9D1CC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53B5-D7CC-4ACC-AFD5-ED8A25DE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8E57-57DA-4D92-A62A-59D4E83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C10C-D80B-49ED-B64C-0DB09587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733D-2DEB-4A8D-ACBE-69B3E1F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B259-A1B8-49A1-A029-A271586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1C6C-A716-4873-9E9D-64C936C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A7C2-0CB8-4F9D-9066-50DBBB8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5E2-4614-457A-A276-1BEBDCF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099E-8617-43CC-81E1-7221FBC3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963E-F476-4C60-84C8-57380BD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DCF0-6D34-4C9C-9286-F720E4EE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F297-F4E1-4093-9E5E-62EB75B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D8B6-1166-4095-8CFA-3DB709A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EBD2-C0E8-4C7C-9B6F-B595D748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A5BA-B457-4D7F-B795-80FF32AF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C81-A8DB-48E2-9337-CF8E449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4C0-BEB7-4E8A-B45D-EB26BC1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FDA-6892-485F-8921-2F6F45AA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47E-C56E-4BFD-970D-D0397A7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7A9-37EA-48EF-9F7A-D84C6CE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563-9D8A-4484-B77C-764D6C2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14B-25E3-42DB-BA41-D563F9C4E0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C0B0-804F-422B-A352-739CFDCFBF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E54-722C-4396-B0A1-06F72C1B61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143000"/>
            <a:ext cx="7696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 and O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971800" cy="34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124080" cy="325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4800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new sw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new sweate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old swe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640" y="472428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ld swe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school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new school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old schoolb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2840" y="487692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schoolba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1960" y="48006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3600" y="48006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560" y="571500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50120" y="57913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4800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trous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 new tro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 old tro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5720" y="4724280"/>
            <a:ext cx="28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ld tro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2562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4952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 penc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penc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58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penci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7960" y="495288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 penc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3353040" cy="35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12360" y="571500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6440" y="579132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7400" y="48006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764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6769080" cy="1656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900000" y="3110040"/>
            <a:ext cx="7559640" cy="305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02:49:17Z</dcterms:created>
  <dc:creator/>
  <dc:description/>
  <dc:language>en-US</dc:language>
  <cp:lastModifiedBy>微软用户</cp:lastModifiedBy>
  <dcterms:modified xsi:type="dcterms:W3CDTF">2017-05-22T07:01:49Z</dcterms:modified>
  <cp:revision>2</cp:revision>
  <dc:subject/>
  <dc:title/>
</cp:coreProperties>
</file>