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3D8-C286-4DE4-92F7-16462166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6B5-F967-4615-9F8C-D21DB8D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AFF-4EDB-4443-A666-CD594276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FBA-EC33-4747-81D6-FA6398C4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F86-6151-4D85-AB2F-D7FB8E03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5EEC-C275-408F-B888-61F3FB5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B55-89AD-4773-B1EF-F24B6B8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841-E7FD-4DAB-A801-A09F1559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9020-DC9F-4794-BFF1-93370F5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98FF-9552-4A93-8576-5B34CD3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9EEF-8962-4E87-8DA3-446EBCD3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F93-02EB-4FD6-A167-9766E60C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6E54-3390-43C1-935B-CE032297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68DA-305B-4345-BE16-2F7B377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A839-FC35-4341-AB75-BFCC050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7CB-424A-4757-B211-2E069ACE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7282-DF22-4F9C-9FF1-0AF0D3A8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220D-C816-439F-BB8E-DBA042A9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FD0D-D307-4608-93B5-211F6CD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3EAB-88C4-4B4F-A7AC-94DC28E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9EC5-49A0-4324-A0AC-6717B38E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DCE2-0DEE-45A6-9543-BAD4802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142-6823-456A-88D5-8C0B290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7C25-BEE8-49EF-8CAF-DD3B1E1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5EF3-9D42-4278-BFB7-B2E42EE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D779-52DC-4561-A47A-FCF9239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2D3E-4AE7-4C8B-9C38-853BE4F1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B91F-2C7D-4F3B-AAE4-DEC429B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2D6A-BE03-405A-BC53-1E9ACA3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6C40-D32E-4F15-A303-F040493F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3A8-2965-4A30-AFD6-279B8BA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D03-5E40-40FB-8772-8FACFEBE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FC2-C2CC-4698-8554-47B1975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020-A338-408D-9754-8EEFC72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2FD-3280-4B72-9537-BB342D0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9AE-6E21-447C-96B4-877D678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4EE-3FE0-4076-8175-E02196D9B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02B-3C62-4064-9640-1177D43867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E28-ED67-44B9-AD33-66B9C84763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55627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sson 20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468360" y="549360"/>
            <a:ext cx="7775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a book----go to the book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a ball----go to the toy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a skirt---go to the clothes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755640" y="10526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some apples---go to the fruit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a bike---go to the bike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y a ____--- go to the ____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: May I help you?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: Yes, please. 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 want to buy ____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re are the _____?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: I’ll show you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way, please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re they ar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1628280"/>
            <a:ext cx="662472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How much is it?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B: It’s _____ yuan.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A: I’ll take it, please.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B:   Here you are.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A:     Thanks.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B: You’re welc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0:39Z</dcterms:created>
  <dc:creator/>
  <dc:description/>
  <dc:language>en-US</dc:language>
  <cp:lastModifiedBy>微软用户</cp:lastModifiedBy>
  <dcterms:modified xsi:type="dcterms:W3CDTF">2017-05-05T07:07:17Z</dcterms:modified>
  <cp:revision>2</cp:revision>
  <dc:subject/>
  <dc:title/>
</cp:coreProperties>
</file>