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D6B-5759-4C51-8087-A989C919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59F-70A3-4696-B92B-F0BE5755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4B3-24D1-4984-9AF3-CCCB4756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880-2EDC-4D7F-A2E1-56CCEFC2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1F75-B23C-4644-AF16-02CBAB96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5C04-F895-4820-99B3-D1E47FAB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E093-FBAA-4E77-9D96-4C2699FE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09B2-182C-4B13-9A40-137D1F23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41C1-BB01-4F34-8F25-11C8068A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252F-09EA-498D-BDB0-141DA6A9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75D5-C946-47AB-81A4-9D9B2E38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021-1F24-4E39-8AB5-38EC1BFD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51A9-9048-4D9D-AFBF-5A07B0E3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FE3A-95AC-4B53-B2F4-CCD6BD49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1310-CAE6-4118-A131-0A07E211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E41A-7752-445C-A07D-EAC003CF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8E9B-BD17-4F7C-8ED7-B2BB0649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592C-7D91-41B0-9814-552AC250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E7185-FB0C-44DE-B6D0-8F0B403C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704F-8B14-464E-B146-569F8BF0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C0601-9058-4CE9-90D4-48B0A447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126E-7EA7-4062-99B0-10B973C8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EE3-C21C-4AFB-B1CA-08BD18B2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1EA5-D0DC-4D7D-9771-6062C209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69895-9D26-44A7-9C8D-459B1B95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2F41-F4B8-4895-BC72-D3CD2029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C733-EF1D-484C-B7A4-D1BE9D03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C823-ACC5-4788-B385-E929BA6E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B665-E436-4009-8982-3CB6F752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D64F-53D1-4D50-9ECD-BBAE8A81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E08-7A26-4966-A3A0-B07E0AC7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EBA-25CC-4192-8DA2-F2BE4377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DAE-79B0-443B-B34E-370A6F61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05F-8659-42CD-9FF9-E2A66B7C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55A-D374-4373-8E8A-AD678A62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9E2-9EF4-4D5A-906C-237BB59E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515A-E139-41EC-9888-F32BC85686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0094-EDCD-4AD5-90AB-26EEA1FEA6C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5C77-D310-4AC6-A339-97F5CFB6622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9558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Unit 1 The Clothes We W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2492280"/>
            <a:ext cx="4105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esson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ays of the W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95280" y="2276640"/>
            <a:ext cx="572472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ank you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339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et’s pl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14842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Simon 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2781360"/>
            <a:ext cx="655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要求：根据指令做动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如果指令开头用了“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Simon says”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就做出动作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如果指令开头没有用“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Simon says”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则不做出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00360" y="765000"/>
            <a:ext cx="1440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星期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765000"/>
            <a:ext cx="1942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un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on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ues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ednes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hurs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ri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tur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790560"/>
            <a:ext cx="151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13080" y="836640"/>
            <a:ext cx="54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9900"/>
                </a:solidFill>
                <a:latin typeface="微软雅黑"/>
                <a:ea typeface="微软雅黑"/>
              </a:rPr>
              <a:t>在西方，犹太教和基督教星期日要做礼拜，这一天他们叫做“礼拜日”，一星期七天称“一个礼拜”。敬神这样的事情自然要优先，所以放在每星期的第一天来做，于是星期日也就是每星期的第一天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9900"/>
                </a:solidFill>
                <a:latin typeface="微软雅黑"/>
                <a:ea typeface="微软雅黑"/>
              </a:rPr>
              <a:t>另外，从语义上来说，</a:t>
            </a:r>
            <a:r>
              <a:rPr b="1" lang="zh-CN" sz="2400" spc="-1" strike="noStrike">
                <a:solidFill>
                  <a:srgbClr val="009900"/>
                </a:solidFill>
                <a:latin typeface="微软雅黑"/>
                <a:ea typeface="微软雅黑"/>
              </a:rPr>
              <a:t>Sunday</a:t>
            </a:r>
            <a:r>
              <a:rPr b="1" lang="zh-CN" sz="2400" spc="-1" strike="noStrike">
                <a:solidFill>
                  <a:srgbClr val="009900"/>
                </a:solidFill>
                <a:latin typeface="微软雅黑"/>
                <a:ea typeface="微软雅黑"/>
              </a:rPr>
              <a:t>是太阳日的意思，太阳是所有天体中对人类来说最伟大的，这一天当然是一星期之中最重要的一天，自然应该用来敬神，也就是每星期的第一天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664000" cy="3105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56000" y="1125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2133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It is a 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40053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Times New Roman"/>
                <a:ea typeface="微软雅黑"/>
              </a:rPr>
              <a:t>What day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3175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508720" y="1125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at day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2565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t is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Monda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1844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at day is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toda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450864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How many days are there in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week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5157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re are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seve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days in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56000" y="216000"/>
            <a:ext cx="6588000" cy="1412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1413000"/>
            <a:ext cx="86342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1. 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He’s wearing red trousers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Sun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2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She’s wearing a green dress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Mon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3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She’s wearing a white sweater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Tues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4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He’s wearing a blue coat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Wednes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5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He’s wearing a brown shorts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Thurs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6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She’s wearing black shoes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Friday 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微软雅黑"/>
                <a:ea typeface="微软雅黑"/>
              </a:rPr>
              <a:t>7.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 He’s wearing a yellow cap, on a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Saturday</a:t>
            </a:r>
            <a:r>
              <a:rPr b="1" lang="en-US" sz="2600" spc="-1" strike="noStrike">
                <a:solidFill>
                  <a:srgbClr val="9900ff"/>
                </a:solidFill>
                <a:latin typeface="Times New Roman"/>
              </a:rPr>
              <a:t> mo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76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et’s s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800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1700280"/>
            <a:ext cx="1872000" cy="3024000"/>
          </a:xfrm>
          <a:prstGeom prst="downArrowCallout">
            <a:avLst>
              <a:gd name="adj1" fmla="val 25002"/>
              <a:gd name="adj2" fmla="val 25000"/>
              <a:gd name="adj3" fmla="val 26923"/>
              <a:gd name="adj4" fmla="val 6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47242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1700280"/>
            <a:ext cx="1800360" cy="3024000"/>
          </a:xfrm>
          <a:prstGeom prst="downArrowCallout">
            <a:avLst>
              <a:gd name="adj1" fmla="val 25002"/>
              <a:gd name="adj2" fmla="val 25000"/>
              <a:gd name="adj3" fmla="val 27994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22160" y="4724280"/>
            <a:ext cx="11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b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1700280"/>
            <a:ext cx="1800360" cy="3024000"/>
          </a:xfrm>
          <a:prstGeom prst="downArrowCallout">
            <a:avLst>
              <a:gd name="adj1" fmla="val 25002"/>
              <a:gd name="adj2" fmla="val 25000"/>
              <a:gd name="adj3" fmla="val 27994"/>
              <a:gd name="adj4" fmla="val 6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51640" y="4724280"/>
            <a:ext cx="13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fil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987640" y="1700280"/>
            <a:ext cx="1871640" cy="3024000"/>
          </a:xfrm>
          <a:prstGeom prst="downArrowCallout">
            <a:avLst>
              <a:gd name="adj1" fmla="val 25002"/>
              <a:gd name="adj2" fmla="val 25000"/>
              <a:gd name="adj3" fmla="val 26928"/>
              <a:gd name="adj4" fmla="val 6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1700280"/>
            <a:ext cx="1871640" cy="3024000"/>
          </a:xfrm>
          <a:prstGeom prst="downArrowCallout">
            <a:avLst>
              <a:gd name="adj1" fmla="val 25002"/>
              <a:gd name="adj2" fmla="val 25000"/>
              <a:gd name="adj3" fmla="val 26928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869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f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59640" y="4797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s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3:00:31Z</dcterms:created>
  <dc:creator/>
  <dc:description/>
  <dc:language>en-US</dc:language>
  <cp:lastModifiedBy>微软用户</cp:lastModifiedBy>
  <dcterms:modified xsi:type="dcterms:W3CDTF">2017-05-05T06:46:33Z</dcterms:modified>
  <cp:revision>3</cp:revision>
  <dc:subject/>
  <dc:title/>
</cp:coreProperties>
</file>