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9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6.jpeg" ContentType="image/jpeg"/>
  <Override PartName="/ppt/media/image12.wmf" ContentType="image/x-wmf"/>
  <Override PartName="/ppt/media/chimes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67A-27AA-444A-A329-5C48518B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886-3072-42F0-95CB-9850589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D8E-E392-48A0-B06B-529E4D26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F92-FEA3-4320-83AD-7E539966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7902-320D-4131-988D-13F02D82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4E27-3EB1-4EF1-925C-BF1426EE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4462-68CD-4422-9D46-A5373088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8848-A089-4FAE-9CCE-4C454C36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9BBF-2756-4C4B-9280-92371D7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89AE-0030-401A-A106-BC91C15C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FB8C-A6A6-4F5A-88D3-DC141B5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259-9C8D-4E9B-8D0A-ED820BA9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DEBD-1089-4213-B38E-8E6697D6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4AC5-A0C5-4E60-8DF1-1273A15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0848-242D-4996-9705-66CD8553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A109-5A61-4C85-9015-734A3ADC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35FD-46D0-4BE4-B66A-7D5521E4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7857-655E-4D80-B783-CEAADA18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5A84-8E12-4E1F-90BA-5257D2C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3EBA-5374-4C7E-8DB4-3EADA8B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049D-6E71-4DBA-AFDD-8CA4103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EFFC-A5CF-4A02-A223-1151453E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0E0-7BA8-418E-94E4-B63DB82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5AAC-13A7-44E4-83B3-11022FA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35CD-5E8B-4542-A22F-3F24AE42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19DA-5ED7-47EB-9531-0762F214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8179-4CA6-424F-83CB-67784FD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C548-B86B-43BA-A54C-1078CCD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30E1-7171-47AB-8BD8-F8C3E0D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FED4-E5FD-49D9-981F-E53ACFDB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BA5-FB3F-4198-ABAD-D80EC88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CE0-2E75-4627-BCD8-9A9ED714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453-1363-43C7-B952-C0079EC6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F1D-1939-4C14-A00B-23EEE83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878-C781-406C-B0BE-56458E1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2EB-8008-4B40-9934-53674CD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4724-A5AE-4C47-82D8-8930C5CAF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FB21-5027-40B7-92F5-595113E0E1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377-DDF7-4E25-B388-E4F82CB8BE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19640" y="2133720"/>
            <a:ext cx="230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08120" y="714240"/>
            <a:ext cx="8184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ook  and  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,Do my  homework .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,Read  a  book .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家庭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,Write  a  story  .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,Draw  a picture .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,Wash  my  clothes  .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,Sing  a   song.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,Play   a   game .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玩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851280" y="1700280"/>
            <a:ext cx="201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348000" y="1773000"/>
            <a:ext cx="2592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139920"/>
            <a:ext cx="2592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564000" y="3139560"/>
            <a:ext cx="266364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4581360"/>
            <a:ext cx="2665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564000" y="458100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6021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0" y="500040"/>
            <a:ext cx="6858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,Do my  homework .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Read  a  book .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,Write  a  story.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,Draw  a picture.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,Wash  my  clothes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,Sing  a   song   .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,Play   a   game  .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1657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opy: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短语各一行，意思一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-963720"/>
            <a:ext cx="8569440" cy="633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Byeby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119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作，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2276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+work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276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895480" cy="2095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3718080"/>
            <a:ext cx="2493720" cy="1869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91040" cy="2492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2637000"/>
            <a:ext cx="32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my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3700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80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rite a story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故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56272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580000" y="189000"/>
            <a:ext cx="2952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1052640"/>
            <a:ext cx="66978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I  READ   MY   BOOK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2.  I  WRITE   A  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3.  I  DRAW  A  PICTUR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4.  I  DO   MY  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4720" y="765000"/>
            <a:ext cx="65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    do you do  in  the   evening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晚上你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4720" y="2278080"/>
            <a:ext cx="72723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 the evening, I ____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做家庭作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_____________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_____________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故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 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画画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   my 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276640"/>
            <a:ext cx="28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 my 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3500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  a  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429264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 a 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940280"/>
            <a:ext cx="25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  a 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27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2133720" cy="2095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284720" y="3573360"/>
            <a:ext cx="2374920" cy="1768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0720" y="2529000"/>
            <a:ext cx="31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   a  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2492280"/>
            <a:ext cx="32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ad  a  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877000"/>
            <a:ext cx="30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rite   a  sto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9840" y="5800680"/>
            <a:ext cx="44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   my  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580000" y="115920"/>
            <a:ext cx="1800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895480" cy="2095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508720" y="0"/>
            <a:ext cx="3219480" cy="256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36520" y="2685960"/>
            <a:ext cx="46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  a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5600" y="2928960"/>
            <a:ext cx="33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lay   a   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玩游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280" y="57150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h  my    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253280" y="565560"/>
            <a:ext cx="1801080" cy="1334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254320" cy="139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2256120" cy="1388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2253960" cy="139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635280" y="3141720"/>
            <a:ext cx="2254320" cy="1390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889680" y="2997360"/>
            <a:ext cx="2254320" cy="139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124000" y="5300640"/>
            <a:ext cx="2254320" cy="1392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411280" y="1125360"/>
            <a:ext cx="1008360" cy="142920"/>
          </a:xfrm>
          <a:prstGeom prst="rightArrow">
            <a:avLst>
              <a:gd name="adj1" fmla="val 50000"/>
              <a:gd name="adj2" fmla="val 17638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1197000"/>
            <a:ext cx="1079640" cy="71280"/>
          </a:xfrm>
          <a:prstGeom prst="rightArrow">
            <a:avLst>
              <a:gd name="adj1" fmla="val 50000"/>
              <a:gd name="adj2" fmla="val 3786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789360"/>
            <a:ext cx="539640" cy="71280"/>
          </a:xfrm>
          <a:prstGeom prst="rightArrow">
            <a:avLst>
              <a:gd name="adj1" fmla="val 50000"/>
              <a:gd name="adj2" fmla="val 18926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3645000"/>
            <a:ext cx="576000" cy="71280"/>
          </a:xfrm>
          <a:prstGeom prst="rightArrow">
            <a:avLst>
              <a:gd name="adj1" fmla="val 50000"/>
              <a:gd name="adj2" fmla="val 2020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357336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5734080"/>
            <a:ext cx="1440000" cy="71280"/>
          </a:xfrm>
          <a:prstGeom prst="rightArrow">
            <a:avLst>
              <a:gd name="adj1" fmla="val 50000"/>
              <a:gd name="adj2" fmla="val 50505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1125360"/>
            <a:ext cx="9361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h   my  chot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on a   Sunday  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    my   home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 a  Monday  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ad   a   boo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 a  Tuesday   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aw   a  pic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on    a   Wednesday  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   a  st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on  a  Thursday   morn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g   a  so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on a Friday    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y  a   g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on   a  Saturday  mo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09:03Z</dcterms:created>
  <dc:creator/>
  <dc:description/>
  <dc:language>en-US</dc:language>
  <cp:lastModifiedBy>微软用户</cp:lastModifiedBy>
  <dcterms:modified xsi:type="dcterms:W3CDTF">2017-05-22T07:10:38Z</dcterms:modified>
  <cp:revision>5</cp:revision>
  <dc:subject/>
  <dc:title/>
</cp:coreProperties>
</file>