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97AF-59D9-4B01-AF16-3A84B2A4F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82CE-7820-4B2C-86AC-E4438EB7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417C-A87B-4BFF-98CE-092884D9A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6B98-587D-4693-BB73-426850315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D501-1838-4A12-9337-B3441BF16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927F-46A6-4E11-AAC5-C87BE180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3DE5-E638-4B9B-8A95-7770CB15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6654-DB12-4B6E-A08E-433177DD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6784-79F2-4326-9438-833EC6C9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B54B-DCFC-4CFB-A4D5-E1A92AD9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25A4-D305-4625-B1CE-28FF0A29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2F96-64D9-4430-9790-4DD90CC7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ABC8-317E-4DD6-AACD-D5402876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6919-E87E-4AC6-9BA0-734FF6B9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8388-02DD-4DA8-8D17-08EAE243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A4FE-872E-4B4B-8B00-1773EBC58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F6E6-8872-4CD5-A401-E54E46FE8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4FBD4-1B68-414A-BCAB-9C824A41F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B1E32-4035-4FC9-ADB5-B9B12462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8C08A-F365-4A43-B11C-1DA0CCCE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FC6C9-5CA2-46D4-B95B-51CF75C2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A8B6F-9E84-410F-B30C-1CAB8A52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2584-8508-4B4A-947B-E03106C8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EA9F2-58BA-489C-92D1-842936C1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F18B4-0AE2-44E2-A9FA-CC94E919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8E5D5-49E8-45FF-A049-AA254B0A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31AA2-0FB5-4F1E-B911-BBCE2774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B4404-DDD5-4EC4-8071-9AF9F4A5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EB1D0-C5C2-4A22-AA91-C643ED899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41EDD-1B9B-4CBD-9B5A-7910AF77A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8C33-2587-4907-8B41-F6616E37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BAE5-29EB-4AC9-B2B3-D022C6B0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39AA-1019-48D3-98B9-507431EE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747D-A4BB-4A33-ABE0-AD495077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5336-BE90-4320-9366-A397AD94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71E6-584C-4445-AA59-A89CA81D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156B-C4B0-44B5-9219-57AA55F011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3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2087-4D6F-4DF0-9B41-4857DE43B59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0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585A-3C4B-4EC2-B727-511FE6D943F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714320"/>
            <a:ext cx="7086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 22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 the Supermar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47640" y="907920"/>
            <a:ext cx="5688360" cy="165744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nny, </a:t>
            </a:r>
            <a:r>
              <a:rPr b="1" lang="en-US" sz="3200" spc="-1" strike="noStrike">
                <a:solidFill>
                  <a:srgbClr val="6767ff"/>
                </a:solidFill>
                <a:latin typeface="Arial"/>
              </a:rPr>
              <a:t>don’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use that ba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have our </a:t>
            </a:r>
            <a:r>
              <a:rPr b="1" lang="en-US" sz="3200" spc="-1" strike="noStrike">
                <a:solidFill>
                  <a:srgbClr val="6767ff"/>
                </a:solidFill>
                <a:latin typeface="Arial"/>
              </a:rPr>
              <a:t>shopping ba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932360" y="4149720"/>
            <a:ext cx="2232000" cy="1079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k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556000" y="1773360"/>
            <a:ext cx="3960720" cy="15112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are good ki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6"/>
          <p:cNvSpPr/>
          <p:nvPr/>
        </p:nvSpPr>
        <p:spPr>
          <a:xfrm>
            <a:off x="1403280" y="1925640"/>
            <a:ext cx="6840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like________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don’t like _________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5" descr="u=4150530465,2678192722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92360" y="4214880"/>
            <a:ext cx="60228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tomato</a:t>
            </a:r>
            <a:r>
              <a:rPr b="0" lang="en-US" sz="5100" spc="-1" strike="noStrike">
                <a:solidFill>
                  <a:srgbClr val="0066ff"/>
                </a:solidFill>
                <a:latin typeface="Arial"/>
              </a:rPr>
              <a:t>es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u=2139958184,2471990458&amp;fm=23&amp;gp=0"/>
          <p:cNvPicPr/>
          <p:nvPr/>
        </p:nvPicPr>
        <p:blipFill>
          <a:blip r:embed="rId2"/>
          <a:stretch/>
        </p:blipFill>
        <p:spPr>
          <a:xfrm>
            <a:off x="2556000" y="907920"/>
            <a:ext cx="3959280" cy="309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3" descr="u=1390787665,3781818723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29228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Arial"/>
              </a:rPr>
              <a:t>potato</a:t>
            </a:r>
            <a:r>
              <a:rPr b="0" lang="en-US" sz="4600" spc="-1" strike="noStrike">
                <a:solidFill>
                  <a:srgbClr val="0066ff"/>
                </a:solidFill>
                <a:latin typeface="Arial"/>
              </a:rPr>
              <a:t>e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u=1001017827,2113361751&amp;fm=23&amp;gp=0"/>
          <p:cNvPicPr/>
          <p:nvPr/>
        </p:nvPicPr>
        <p:blipFill>
          <a:blip r:embed="rId2"/>
          <a:stretch/>
        </p:blipFill>
        <p:spPr>
          <a:xfrm>
            <a:off x="2700360" y="836640"/>
            <a:ext cx="381636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58920" y="4437000"/>
            <a:ext cx="316836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andy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u=3912799146,3407142262&amp;fm=59"/>
          <p:cNvPicPr/>
          <p:nvPr/>
        </p:nvPicPr>
        <p:blipFill>
          <a:blip r:embed="rId1"/>
          <a:stretch/>
        </p:blipFill>
        <p:spPr>
          <a:xfrm>
            <a:off x="2556000" y="1125360"/>
            <a:ext cx="4392360" cy="29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14680" y="4357800"/>
            <a:ext cx="30715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63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63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5"/>
          <p:cNvSpPr/>
          <p:nvPr/>
        </p:nvSpPr>
        <p:spPr>
          <a:xfrm flipH="1">
            <a:off x="6071400" y="121428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7"/>
          <p:cNvSpPr/>
          <p:nvPr/>
        </p:nvSpPr>
        <p:spPr>
          <a:xfrm>
            <a:off x="6000840" y="1785960"/>
            <a:ext cx="2201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 h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8" descr="u=1343392952,218308935&amp;fm=23&amp;gp=0"/>
          <p:cNvPicPr/>
          <p:nvPr/>
        </p:nvPicPr>
        <p:blipFill>
          <a:blip r:embed="rId1"/>
          <a:stretch/>
        </p:blipFill>
        <p:spPr>
          <a:xfrm>
            <a:off x="1619280" y="1484280"/>
            <a:ext cx="3333600" cy="249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258920" y="1268280"/>
            <a:ext cx="3600360" cy="15843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, kids! </a:t>
            </a:r>
            <a:r>
              <a:rPr b="1" lang="en-US" sz="3200" spc="-1" strike="noStrike">
                <a:solidFill>
                  <a:srgbClr val="6767ff"/>
                </a:solidFill>
                <a:latin typeface="Arial"/>
              </a:rPr>
              <a:t>Let’s buy some vegetables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780000" y="3860640"/>
            <a:ext cx="2376360" cy="11527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ea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16720" y="4292640"/>
            <a:ext cx="1511280" cy="865080"/>
          </a:xfrm>
          <a:prstGeom prst="wedgeEllipseCallout">
            <a:avLst>
              <a:gd name="adj1" fmla="val -34245"/>
              <a:gd name="adj2" fmla="val 7843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k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03280" y="1413000"/>
            <a:ext cx="3240000" cy="1152360"/>
          </a:xfrm>
          <a:prstGeom prst="wedgeRoundRectCallout">
            <a:avLst>
              <a:gd name="adj1" fmla="val -44171"/>
              <a:gd name="adj2" fmla="val 54958"/>
              <a:gd name="adj3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like </a:t>
            </a: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tomato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780000" y="3213000"/>
            <a:ext cx="3528720" cy="1295640"/>
          </a:xfrm>
          <a:prstGeom prst="wedgeEllipseCallout">
            <a:avLst>
              <a:gd name="adj1" fmla="val -43884"/>
              <a:gd name="adj2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like </a:t>
            </a: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potato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332000" y="836640"/>
            <a:ext cx="4176720" cy="129708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rs. Smith, I like candy,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6360" y="3284640"/>
            <a:ext cx="4968720" cy="14396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nny, candy </a:t>
            </a:r>
            <a:r>
              <a:rPr b="1" lang="en-US" sz="3200" spc="-1" strike="noStrike">
                <a:solidFill>
                  <a:srgbClr val="6767ff"/>
                </a:solidFill>
                <a:latin typeface="Arial"/>
              </a:rPr>
              <a:t>isn’t good fo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your tee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476360" y="1197000"/>
            <a:ext cx="3311640" cy="11523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767ff"/>
                </a:solidFill>
                <a:latin typeface="Arial"/>
              </a:rPr>
              <a:t>How abou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ome fru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43280" y="2924280"/>
            <a:ext cx="2089440" cy="12254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k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11T03:45:57Z</dcterms:created>
  <dc:creator/>
  <dc:description/>
  <dc:language>en-US</dc:language>
  <cp:lastModifiedBy>微软用户</cp:lastModifiedBy>
  <dcterms:modified xsi:type="dcterms:W3CDTF">2017-05-05T07:09:47Z</dcterms:modified>
  <cp:revision>2</cp:revision>
  <dc:subject/>
  <dc:title/>
</cp:coreProperties>
</file>