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5FA-093C-4C81-9773-BE7563E3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176-580F-4DFE-AE7A-A7F65D3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DA1-3FD1-4798-8462-BFD3EC35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5C8-7ACC-4DF0-B303-9BDF92B1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9054-3775-47F5-A738-592DC114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8FF6-ECD6-4653-A67B-157A56CD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630-DB69-433F-B7A4-C838BF1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C445-3AB6-48EF-9AFA-D785D325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16A6-5F9B-4E26-A6C2-21A837C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49E4-94A7-42E7-82A6-C5380CB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0559-7B63-4F15-9094-5B97EC2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436-D78A-40E6-87C4-AE35EB1C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43C8-9C0B-47F2-B5F4-5F605D5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4BC6-6C2C-4B6E-BB1D-380C84C2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91A3-670D-472D-A83F-98D7E30A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9BE8-1A77-4871-ACF9-FE53E167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4CD6-27DA-4E3F-868A-1DF7C760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C3DB-25BE-49A6-92B6-A506F825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7DB3-64DF-4CEF-98F7-507F9E45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91E2-BBFD-4726-AD58-5C8FCB69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8E5A-A53E-4C9F-ABB5-7B66660A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D7AD-88E5-4CAC-A7AD-FF1E82B4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58A-E388-4EC2-8F5F-807024A1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22DA-4D6A-4A8C-8214-C8DC7BCB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8963-9508-4E32-AC5A-49207F7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DF43-DCAF-43B6-9EEA-40A88C6B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F2AC-6D38-433F-BFE9-CE52873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3F64-BCCD-40CD-8B44-4B3097CB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4215-A08D-46D5-AE80-DE9E13F6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7B14-0066-4D22-8F4E-0BED7E64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145-AC6A-4E30-AB46-2F7DF359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4E2-EA99-47AD-8396-6B3A1CE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BC1-FC33-4EDB-84E4-71FF722E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CC6-50DF-4052-B7E4-D3E6761E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EE5-4221-49EE-B1E0-E8C7ABD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1A5-F87B-4B32-AE63-7CBD3146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E94A-82C3-4E42-BD53-6B249FABA19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7B7A-326F-45F9-A998-C7B39D76AB7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B98B-CD16-4DFA-A9C0-99E7BB8B2E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190520" y="2276640"/>
            <a:ext cx="63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Lesson  3   Coat  and  Scar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016"/>
          <p:cNvPicPr/>
          <p:nvPr/>
        </p:nvPicPr>
        <p:blipFill>
          <a:blip r:embed="rId1"/>
          <a:stretch/>
        </p:blipFill>
        <p:spPr>
          <a:xfrm>
            <a:off x="2556000" y="765000"/>
            <a:ext cx="4103640" cy="2303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828800" y="3213000"/>
            <a:ext cx="48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Are these your glo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14400" y="5157720"/>
            <a:ext cx="68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Yes!    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或     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No, they’re____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429280" y="4076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这些是你的手套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468360" y="98100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shirt     skirt   trousers  sweater  T-shirt  gloves  scarf   cap   co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18800" y="2565360"/>
            <a:ext cx="6554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Is this your 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Yes! 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或  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No, it’s _____’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Are these your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Yes!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或 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No, they’re ______’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935000" y="2421000"/>
            <a:ext cx="348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imes New Roman"/>
              </a:rPr>
              <a:t>Goodby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14"/>
          <p:cNvPicPr/>
          <p:nvPr/>
        </p:nvPicPr>
        <p:blipFill>
          <a:blip r:embed="rId1"/>
          <a:stretch/>
        </p:blipFill>
        <p:spPr>
          <a:xfrm>
            <a:off x="792000" y="907920"/>
            <a:ext cx="2783160" cy="367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521360" y="47480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co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26320" y="551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衣；外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015"/>
          <p:cNvPicPr/>
          <p:nvPr/>
        </p:nvPicPr>
        <p:blipFill>
          <a:blip r:embed="rId2"/>
          <a:srcRect l="7135" t="0" r="0" b="-8280"/>
          <a:stretch/>
        </p:blipFill>
        <p:spPr>
          <a:xfrm>
            <a:off x="5364000" y="981000"/>
            <a:ext cx="2808360" cy="3745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6266160" y="479736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sca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57108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围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16"/>
          <p:cNvPicPr/>
          <p:nvPr/>
        </p:nvPicPr>
        <p:blipFill>
          <a:blip r:embed="rId1"/>
          <a:stretch/>
        </p:blipFill>
        <p:spPr>
          <a:xfrm>
            <a:off x="5364000" y="836640"/>
            <a:ext cx="323856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017"/>
          <p:cNvPicPr/>
          <p:nvPr/>
        </p:nvPicPr>
        <p:blipFill>
          <a:blip r:embed="rId2"/>
          <a:stretch/>
        </p:blipFill>
        <p:spPr>
          <a:xfrm>
            <a:off x="684360" y="907920"/>
            <a:ext cx="3377880" cy="28814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682640" y="400536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a50021"/>
                </a:solidFill>
                <a:latin typeface="Times New Roman"/>
              </a:rPr>
              <a:t>ca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860480" y="50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a50021"/>
                </a:solidFill>
                <a:latin typeface="Times New Roman"/>
              </a:rPr>
              <a:t>帽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611760" y="50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d9d8ec"/>
                </a:solidFill>
                <a:latin typeface="Times New Roman"/>
              </a:rPr>
              <a:t>手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845320" y="4005360"/>
            <a:ext cx="19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d9d8ec"/>
                </a:solidFill>
                <a:latin typeface="Times New Roman"/>
              </a:rPr>
              <a:t>glov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0100921191446-2000715064"/>
          <p:cNvPicPr/>
          <p:nvPr/>
        </p:nvPicPr>
        <p:blipFill>
          <a:blip r:embed="rId1"/>
          <a:stretch/>
        </p:blipFill>
        <p:spPr>
          <a:xfrm>
            <a:off x="1908000" y="260280"/>
            <a:ext cx="5256360" cy="4032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1732680" y="4508640"/>
            <a:ext cx="502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What is she wea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785240" y="5300640"/>
            <a:ext cx="559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She is wearing a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266160" y="537372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a50021"/>
                </a:solidFill>
                <a:latin typeface="Times New Roman"/>
              </a:rPr>
              <a:t>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2011433105432156"/>
          <p:cNvPicPr/>
          <p:nvPr/>
        </p:nvPicPr>
        <p:blipFill>
          <a:blip r:embed="rId1"/>
          <a:stretch/>
        </p:blipFill>
        <p:spPr>
          <a:xfrm>
            <a:off x="1476360" y="333360"/>
            <a:ext cx="5759640" cy="3816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929960" y="4365720"/>
            <a:ext cx="45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What is she wea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92520" y="5157720"/>
            <a:ext cx="495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She is wearing a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867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a50021"/>
                </a:solidFill>
                <a:latin typeface="Times New Roman"/>
              </a:rPr>
              <a:t>sca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702c77fd832d59bf6b73e064ffed_590_553"/>
          <p:cNvPicPr/>
          <p:nvPr/>
        </p:nvPicPr>
        <p:blipFill>
          <a:blip r:embed="rId1"/>
          <a:stretch/>
        </p:blipFill>
        <p:spPr>
          <a:xfrm>
            <a:off x="971640" y="476280"/>
            <a:ext cx="7343640" cy="41050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389240" y="4797360"/>
            <a:ext cx="495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She is wearing a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143000" y="5516640"/>
            <a:ext cx="20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It’s nic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64000" y="4869000"/>
            <a:ext cx="11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a50021"/>
                </a:solidFill>
                <a:latin typeface="Times New Roman"/>
              </a:rPr>
              <a:t>co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564000" y="5589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它真好看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316kara3"/>
          <p:cNvPicPr/>
          <p:nvPr/>
        </p:nvPicPr>
        <p:blipFill>
          <a:blip r:embed="rId1"/>
          <a:srcRect l="5710" t="0" r="0" b="0"/>
          <a:stretch/>
        </p:blipFill>
        <p:spPr>
          <a:xfrm>
            <a:off x="971640" y="476280"/>
            <a:ext cx="7129440" cy="4033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965600" y="4365720"/>
            <a:ext cx="495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She is wearing 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337120" y="5084640"/>
            <a:ext cx="50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They are nice.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它们真好看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723280" y="4365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18"/>
          <p:cNvPicPr/>
          <p:nvPr/>
        </p:nvPicPr>
        <p:blipFill>
          <a:blip r:embed="rId1"/>
          <a:stretch/>
        </p:blipFill>
        <p:spPr>
          <a:xfrm>
            <a:off x="1332000" y="476280"/>
            <a:ext cx="6288120" cy="4174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627560" y="4508640"/>
            <a:ext cx="51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Is this your 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cap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 ,Dann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414880" y="54259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a50021"/>
                </a:solidFill>
                <a:latin typeface="Times New Roman"/>
              </a:rPr>
              <a:t>这是你的帽子吗，丹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018"/>
          <p:cNvPicPr/>
          <p:nvPr/>
        </p:nvPicPr>
        <p:blipFill>
          <a:blip r:embed="rId1"/>
          <a:stretch/>
        </p:blipFill>
        <p:spPr>
          <a:xfrm>
            <a:off x="1403280" y="692280"/>
            <a:ext cx="6624720" cy="3743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712160" y="4581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46040" y="4581360"/>
            <a:ext cx="34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It’s  </a:t>
            </a:r>
            <a:r>
              <a:rPr b="0" i="1" lang="zh-CN" sz="4000" spc="-1" strike="noStrike">
                <a:solidFill>
                  <a:srgbClr val="a50021"/>
                </a:solidFill>
                <a:latin typeface="Times New Roman"/>
              </a:rPr>
              <a:t>Kim’s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cap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140360" y="5300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金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06:15:41Z</dcterms:created>
  <dc:creator>acer1</dc:creator>
  <dc:description/>
  <dc:language>en-US</dc:language>
  <cp:lastModifiedBy>微软用户</cp:lastModifiedBy>
  <dcterms:modified xsi:type="dcterms:W3CDTF">2017-06-23T02:45:33Z</dcterms:modified>
  <cp:revision>3</cp:revision>
  <dc:subject/>
  <dc:title>幻灯片 1</dc:title>
</cp:coreProperties>
</file>