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BA07-5A95-4A18-ADD0-55388CA82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9453-4356-4593-97DE-C63C043AD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20F7-C9D6-45D0-B9BB-403A21D44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DF7F-1E16-422E-BA8D-E7263A91B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9785A-BAA5-4254-AE1B-E5A535258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6634E-47A8-4C5B-B688-0A8487BC0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3944F-E578-4EC4-87CD-459A45733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996F2-1F22-452E-A2B0-C6375E155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DA017-F4B1-4EA9-8622-377AEF72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ECB86-C2E1-4A83-B9B4-FA6DCFE8F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D0988-1DE6-4D11-B401-24613E7C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D48E-5AAE-434E-A978-A41959B96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E83AB-057B-47A2-A3B0-3D2A3F5B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41EA6-3544-4D28-AB05-188FF122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BF8F6-EF99-4BF2-91C1-5AF4F0DA7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3271C-EE5B-4EF3-B71B-06D038609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ED87E-592A-42C2-AC59-5F53F4921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9D19B-6EE8-4AF1-B8D8-512B20C3D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CAC21-1681-4A8E-B672-709675D65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86A28-8974-4EC0-90D5-3FA79E901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3D334-BF20-4D44-9B42-F8101C732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1156F-C897-4970-AE1C-8084F6587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8009-0DB6-45B1-9AB9-2701B9962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38325-448D-4D17-999E-FF2B30DEA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8DA35-C528-4F10-A685-F03FF1C87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AED84-08F7-4A7A-A207-708510DB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1E9E7-AB3C-4FE7-9233-5554B6F2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AF9AE-0D1E-4845-82F7-965E06748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64E2D-772C-4622-8172-92A9BD9F5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44654-32CA-4CF1-8785-CBA4C9F0F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11BC-EF7F-409D-876F-B3F6D0CAD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9CCA-6EBB-4316-8916-2856D54B2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3C60-EDCC-4ED3-8064-2F089BE0C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BE3F-655B-4B0C-94A2-CE65D422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AF6F-E16C-4FAA-91F9-C7E75094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718C-D53B-4282-953D-9D57C725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027BA-2027-4D49-BCC0-087744E97CC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3" name="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04928-51F5-416A-9648-DB11750CB3B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90" name="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1DC7C-714C-4742-808D-F9C84541CEB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829080" y="2276640"/>
            <a:ext cx="717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Lesson  3   Coat and Scar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556000" y="765000"/>
            <a:ext cx="4103640" cy="23036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552680" y="3213000"/>
            <a:ext cx="579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Are these your glov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57720" y="5157720"/>
            <a:ext cx="762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Arial"/>
              </a:rPr>
              <a:t>Yes!     </a:t>
            </a:r>
            <a:r>
              <a:rPr b="1" i="1" lang="zh-CN" sz="4000" spc="-1" strike="noStrike">
                <a:solidFill>
                  <a:srgbClr val="000000"/>
                </a:solidFill>
                <a:latin typeface="Arial"/>
              </a:rPr>
              <a:t>或      </a:t>
            </a:r>
            <a:r>
              <a:rPr b="1" i="1" lang="zh-CN" sz="4000" spc="-1" strike="noStrike">
                <a:solidFill>
                  <a:srgbClr val="000000"/>
                </a:solidFill>
                <a:latin typeface="Arial"/>
              </a:rPr>
              <a:t>No, they’re____’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425320" y="407664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这些是你的手套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68360" y="981000"/>
            <a:ext cx="845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hirt     skirt   trousers  sweater  T-shirt  gloves  scarf   cap   coa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0800" y="2565360"/>
            <a:ext cx="7370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Arial"/>
              </a:rPr>
              <a:t>Is this your _____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Arial"/>
              </a:rPr>
              <a:t>Yes!  </a:t>
            </a:r>
            <a:r>
              <a:rPr b="1" i="1" lang="zh-CN" sz="4000" spc="-1" strike="noStrike">
                <a:solidFill>
                  <a:srgbClr val="000000"/>
                </a:solidFill>
                <a:latin typeface="Arial"/>
              </a:rPr>
              <a:t>或   </a:t>
            </a:r>
            <a:r>
              <a:rPr b="1" i="1" lang="zh-CN" sz="4000" spc="-1" strike="noStrike">
                <a:solidFill>
                  <a:srgbClr val="000000"/>
                </a:solidFill>
                <a:latin typeface="Arial"/>
              </a:rPr>
              <a:t>No, it’s _____’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Arial"/>
              </a:rPr>
              <a:t>Are these your______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Arial"/>
              </a:rPr>
              <a:t>Yes! </a:t>
            </a:r>
            <a:r>
              <a:rPr b="1" i="1" lang="zh-CN" sz="4000" spc="-1" strike="noStrike">
                <a:solidFill>
                  <a:srgbClr val="000000"/>
                </a:solidFill>
                <a:latin typeface="Arial"/>
              </a:rPr>
              <a:t>或  </a:t>
            </a:r>
            <a:r>
              <a:rPr b="1" i="1" lang="zh-CN" sz="4000" spc="-1" strike="noStrike">
                <a:solidFill>
                  <a:srgbClr val="000000"/>
                </a:solidFill>
                <a:latin typeface="Arial"/>
              </a:rPr>
              <a:t>No, they’re ______’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767600" y="2421000"/>
            <a:ext cx="4092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Arial"/>
              </a:rPr>
              <a:t>Goodbye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06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92000" y="907920"/>
            <a:ext cx="2783160" cy="36734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477800" y="4748040"/>
            <a:ext cx="11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o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422360" y="55166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衣；外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rcRect l="7135" t="0" r="0" b="-8280"/>
          <a:stretch/>
        </p:blipFill>
        <p:spPr>
          <a:xfrm>
            <a:off x="5364000" y="981000"/>
            <a:ext cx="2808360" cy="37450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228720" y="4797360"/>
            <a:ext cx="11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ca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567120" y="5516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围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364000" y="836640"/>
            <a:ext cx="3238560" cy="29527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84360" y="907920"/>
            <a:ext cx="3377880" cy="2881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620720" y="4005360"/>
            <a:ext cx="136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a50021"/>
                </a:solidFill>
                <a:latin typeface="Arial"/>
              </a:rPr>
              <a:t>ca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56520" y="5084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a50021"/>
                </a:solidFill>
                <a:latin typeface="Arial"/>
              </a:rPr>
              <a:t>帽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607800" y="5084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手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725800" y="4005360"/>
            <a:ext cx="235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glov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908000" y="260280"/>
            <a:ext cx="5256360" cy="40323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478880" y="4508640"/>
            <a:ext cx="589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What is she wear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80680" y="5300640"/>
            <a:ext cx="641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he is wearing a 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228720" y="537372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Arial"/>
              </a:rPr>
              <a:t>c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476360" y="333360"/>
            <a:ext cx="5759640" cy="3816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696320" y="4365720"/>
            <a:ext cx="536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is she wear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23240" y="5157720"/>
            <a:ext cx="570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he is wearing a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67280" y="522936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Arial"/>
              </a:rPr>
              <a:t>sca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971640" y="476280"/>
            <a:ext cx="7343640" cy="41050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119960" y="4797360"/>
            <a:ext cx="570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he is wearing a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18520" y="5516640"/>
            <a:ext cx="224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It’s nic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4869000"/>
            <a:ext cx="11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50021"/>
                </a:solidFill>
                <a:latin typeface="Arial"/>
              </a:rPr>
              <a:t>co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64000" y="558972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它真好看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rcRect l="5710" t="0" r="0" b="0"/>
          <a:stretch/>
        </p:blipFill>
        <p:spPr>
          <a:xfrm>
            <a:off x="971640" y="476280"/>
            <a:ext cx="7129440" cy="40338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696320" y="4365720"/>
            <a:ext cx="570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he is wearing 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171160" y="5084640"/>
            <a:ext cx="551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Arial"/>
              </a:rPr>
              <a:t>They are nice.</a:t>
            </a:r>
            <a:r>
              <a:rPr b="1" i="1" lang="zh-CN" sz="4000" spc="-1" strike="noStrike">
                <a:solidFill>
                  <a:srgbClr val="000000"/>
                </a:solidFill>
                <a:latin typeface="Arial"/>
              </a:rPr>
              <a:t>它们真好看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52360" y="4365720"/>
            <a:ext cx="146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glo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332000" y="476280"/>
            <a:ext cx="6288120" cy="41749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407240" y="4508640"/>
            <a:ext cx="604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Is this your 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cap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,Dann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410920" y="542592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a50021"/>
                </a:solidFill>
                <a:latin typeface="Arial"/>
              </a:rPr>
              <a:t>这是你的帽子吗，丹尼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403280" y="692280"/>
            <a:ext cx="6624720" cy="37432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694880" y="4581360"/>
            <a:ext cx="102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N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134520" y="4581360"/>
            <a:ext cx="387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It’s  </a:t>
            </a:r>
            <a:r>
              <a:rPr b="1" i="1" lang="en-US" sz="4000" spc="-1" strike="noStrike">
                <a:solidFill>
                  <a:srgbClr val="a50021"/>
                </a:solidFill>
                <a:latin typeface="Arial"/>
              </a:rPr>
              <a:t>Kim’s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ap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140360" y="530064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Arial"/>
              </a:rPr>
              <a:t>金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11T02:52:31Z</dcterms:created>
  <dc:creator/>
  <dc:description/>
  <dc:language>en-US</dc:language>
  <cp:lastModifiedBy>微软用户</cp:lastModifiedBy>
  <dcterms:modified xsi:type="dcterms:W3CDTF">2017-05-22T07:02:43Z</dcterms:modified>
  <cp:revision>3</cp:revision>
  <dc:subject/>
  <dc:title/>
</cp:coreProperties>
</file>