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015-01ED-4D2B-A6F8-3E1DD574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9AA-7A61-49A9-89BC-D5C3D35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A67-57E1-4022-8B1B-3893CA47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94E-AB50-44CB-B5D9-C32EEE44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955E-01EA-46AB-A16A-DE949178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2195-B27D-4D6C-B72F-EB440B11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2BA8-3B75-4EEC-BBF1-BC63710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D17-77C8-4425-803F-6F9898F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5E28-CE2F-46B9-871A-AA72A7F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9FC7-39A5-465B-BBD7-BADCB621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5A8C-9E89-48EE-AECC-98FAE17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F15-5F1D-4D2F-88F9-972A1C8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284-7D81-47EB-80AE-78B87F2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78D-0876-44F1-811A-91C37C0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C62B-A189-4B12-96C2-A365056D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C9DA-F690-4A66-A0BD-9275BB6A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61A-F851-48AF-A2A3-0CB4272F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52A6-6298-4E71-9024-CA42AB01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69DC-A2FF-461F-8268-85BD69C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3F9B-97D3-4241-A900-C6A9B4D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718B-3521-44D4-B55C-4EA8BCED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B17D-3F5D-4136-8C7B-F7B9B681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3B4-CBCD-4F09-90DA-517485D7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95DC-107E-4109-B8D7-AB52B9E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3A92-35AF-457D-9EEA-0E89F4F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C698-B73E-47AC-8A3C-4141805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6640-53AB-47A1-8D63-0DB5DF1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0382-D464-40F7-9C9A-75F28A0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D07D-2F55-4C29-AE76-B4FE63C6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6341-A47C-4F0D-9E6E-9172D144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0C7-BDAA-452E-AE7E-4B4EA561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05C-13FF-4973-AD09-82E3DFBE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3C0-24CD-4EA2-9397-53FB843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635-69F0-4165-90D4-76319C4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AD7-814E-4218-85EE-7443904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5FD-52D8-49E0-8D9A-B0B1397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A70-D573-4E85-8A7F-258C5091E0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661B-FCAF-49BB-87F3-4D30C0F194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632-7C74-4554-96FA-D3165E694E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56720" y="981000"/>
            <a:ext cx="68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Lesson 9 In the Bed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5280" y="117360"/>
            <a:ext cx="378180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53f8794a4c27d1e986989161ad5ad6edcc43890"/>
          <p:cNvPicPr/>
          <p:nvPr/>
        </p:nvPicPr>
        <p:blipFill>
          <a:blip r:embed="rId1"/>
          <a:stretch/>
        </p:blipFill>
        <p:spPr>
          <a:xfrm>
            <a:off x="-34920" y="144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725800" y="2421000"/>
            <a:ext cx="204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485800" y="333360"/>
            <a:ext cx="4592880" cy="1434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012"/>
          <p:cNvPicPr/>
          <p:nvPr/>
        </p:nvPicPr>
        <p:blipFill>
          <a:blip r:embed="rId1"/>
          <a:stretch/>
        </p:blipFill>
        <p:spPr>
          <a:xfrm>
            <a:off x="-34920" y="0"/>
            <a:ext cx="5327640" cy="6886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5364720" y="2637000"/>
            <a:ext cx="35272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make 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0091130212757495"/>
          <p:cNvPicPr/>
          <p:nvPr/>
        </p:nvPicPr>
        <p:blipFill>
          <a:blip r:embed="rId1"/>
          <a:stretch/>
        </p:blipFill>
        <p:spPr>
          <a:xfrm>
            <a:off x="-34920" y="0"/>
            <a:ext cx="43909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4573080" y="2349360"/>
            <a:ext cx="4036320" cy="764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lean  bed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8103981_220X220"/>
          <p:cNvPicPr/>
          <p:nvPr/>
        </p:nvPicPr>
        <p:blipFill>
          <a:blip r:embed="rId1"/>
          <a:stretch/>
        </p:blipFill>
        <p:spPr>
          <a:xfrm>
            <a:off x="-34920" y="1440"/>
            <a:ext cx="5654520" cy="688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82880" y="2421000"/>
            <a:ext cx="46962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lay with teddy 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7960" y="404640"/>
            <a:ext cx="4039560" cy="825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微软用户</cp:lastModifiedBy>
  <dcterms:modified xsi:type="dcterms:W3CDTF">2017-05-05T06:55:07Z</dcterms:modified>
  <cp:revision>4</cp:revision>
  <dc:subject/>
  <dc:title/>
</cp:coreProperties>
</file>