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image1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png" ContentType="image/png"/>
  <Override PartName="/ppt/media/image10.jpeg" ContentType="image/jpeg"/>
  <Override PartName="/ppt/media/%E5%8F%AE%E5%92%9A.wav" ContentType="audio/x-wav"/>
  <Override PartName="/ppt/media/image8.jpeg" ContentType="image/jpeg"/>
  <Override PartName="/ppt/media/image5.jpeg" ContentType="image/jpeg"/>
  <Override PartName="/ppt/media/image4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21.jpeg" ContentType="image/jpeg"/>
  <Override PartName="/ppt/media/camera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cashreg.wav" ContentType="audio/x-wav"/>
  <Override PartName="/ppt/media/image13.png" ContentType="image/png"/>
  <Override PartName="/ppt/media/%E6%95%B4%E7%82%B9%E6%8A%A5%E6%97%B6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CDFD-4782-4167-9C66-982B408CE2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7ADA-5130-422E-9CBF-C40D148660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8BB-2FFB-4838-B2B1-A6A2BA35C6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D7F-B66F-4555-8D3C-355FD047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6DF-2FB2-4D5C-9D1B-B4177575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115-8114-4A3E-B7C6-3627C7B1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961-7580-45F2-A0CA-CE9B9842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6991-51DC-433F-8C5A-37D621F1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407A-BFB2-444A-96CE-283E98ED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856-438D-4D40-8290-8B3B9D16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9F40-979C-4E23-9B2E-4133E63C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BF8C-0B7C-4032-8B66-0DE8638F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BC6F-D67F-4FD1-829F-C265A813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96E-9AD2-4B0E-ACA4-59C86E4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DD1-2EA1-4D39-9264-23106FEC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0260-0E65-4B09-8E3B-5A4A15F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2EB9-86FA-4C0B-A98A-D06D9A5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AA29-6DE9-42B7-8104-56CDC21D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1D34-44ED-447E-AD30-4FB1A341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616-5C00-484E-8680-AADA537E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B3F8-ED22-4704-BE53-ED8BA54C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7FD6-65CC-423A-A78A-FC25CF8A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AFC6-FAAF-4165-94EA-B5410D19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2DFB-1233-41CF-96EE-62F10F83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E594-6EF0-4ADD-BCDB-3B6380F2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72F-A481-4893-A2DA-55465327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661C-E814-4464-9822-93CAEC61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D7B5-24AF-445A-B174-A6B8BC8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E8C8-A92F-4CDF-8EE5-1CCB69F8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06CE-1D2B-4BBE-B773-34A35BF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5357-5E8F-466E-B029-AE4A2676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BC16-4A55-4EF7-B450-B2507B77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B5DC-7610-443E-890A-E31F5481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6B2-AC13-467C-B89D-C7AB7839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702-72DD-4FBD-BC79-3E94EE83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ADF-58C6-44AC-8F35-2A3FB1C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99B-D6F6-43DD-8E60-8E4F4E4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DE2-FAA4-4542-BBEE-9629BEA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B8D-1D42-4248-BCB6-DE4DAEC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B6D-70FA-47B2-9BC2-6392F2F070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0079-BAF9-4C94-B1D5-6C73BA0DA4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31D-6DC7-4B82-9BF0-AB71A8FE25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jpeg"/><Relationship Id="rId5" Type="http://schemas.openxmlformats.org/officeDocument/2006/relationships/audio" Target="../media/&#21486;&#21658;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&#21486;&#21658;.wav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&#21486;&#21658;.wav"/><Relationship Id="rId6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audio" Target="../media/&#25972;&#28857;&#25253;&#26102;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6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6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4"/>
          <p:cNvSpPr/>
          <p:nvPr/>
        </p:nvSpPr>
        <p:spPr>
          <a:xfrm>
            <a:off x="35053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esson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E:\ppt模板\个人作品\画板\u=822334480,1144025855&amp;fm=51&amp;gp=0_副本.png"/>
          <p:cNvPicPr/>
          <p:nvPr/>
        </p:nvPicPr>
        <p:blipFill>
          <a:blip r:embed="rId2"/>
          <a:stretch/>
        </p:blipFill>
        <p:spPr>
          <a:xfrm>
            <a:off x="8107200" y="5867280"/>
            <a:ext cx="10368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1217880" y="3049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What’s she wear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30"/>
          <p:cNvGrpSpPr/>
          <p:nvPr/>
        </p:nvGrpSpPr>
        <p:grpSpPr>
          <a:xfrm>
            <a:off x="1371600" y="1066680"/>
            <a:ext cx="6873840" cy="5310360"/>
            <a:chOff x="1371600" y="1066680"/>
            <a:chExt cx="6873840" cy="5310360"/>
          </a:xfrm>
        </p:grpSpPr>
        <p:sp>
          <p:nvSpPr>
            <p:cNvPr id="210" name="剪去单角的矩形 27"/>
            <p:cNvSpPr/>
            <p:nvPr/>
          </p:nvSpPr>
          <p:spPr>
            <a:xfrm>
              <a:off x="1371600" y="1447560"/>
              <a:ext cx="6426360" cy="4929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3" descr="caltrop.png"/>
            <p:cNvPicPr/>
            <p:nvPr/>
          </p:nvPicPr>
          <p:blipFill>
            <a:blip r:embed="rId2"/>
            <a:stretch/>
          </p:blipFill>
          <p:spPr>
            <a:xfrm>
              <a:off x="6553080" y="1066680"/>
              <a:ext cx="1692360" cy="129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248160" y="42670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00cc"/>
              </a:solidFill>
              <a:latin typeface="Arial"/>
              <a:ea typeface="微软雅黑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371600" y="1523880"/>
            <a:ext cx="3505320" cy="4876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952880" y="2514600"/>
            <a:ext cx="358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he is wearing a 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316520" y="304920"/>
            <a:ext cx="39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s this your dress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1"/>
          <p:cNvGrpSpPr/>
          <p:nvPr/>
        </p:nvGrpSpPr>
        <p:grpSpPr>
          <a:xfrm>
            <a:off x="1676520" y="1143000"/>
            <a:ext cx="6019560" cy="5029200"/>
            <a:chOff x="1676520" y="1143000"/>
            <a:chExt cx="6019560" cy="5029200"/>
          </a:xfrm>
        </p:grpSpPr>
        <p:grpSp>
          <p:nvGrpSpPr>
            <p:cNvPr id="218" name="单圆角矩形 14"/>
            <p:cNvGrpSpPr/>
            <p:nvPr/>
          </p:nvGrpSpPr>
          <p:grpSpPr>
            <a:xfrm>
              <a:off x="1676520" y="1656360"/>
              <a:ext cx="5690880" cy="4515840"/>
              <a:chOff x="1676520" y="1656360"/>
              <a:chExt cx="5690880" cy="4515840"/>
            </a:xfrm>
          </p:grpSpPr>
          <p:pic>
            <p:nvPicPr>
              <p:cNvPr id="219" name="单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1656360"/>
                <a:ext cx="5690880" cy="45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1952640" y="1908360"/>
                <a:ext cx="4994280" cy="41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Picture 16" descr="E:\ppt模板\个人作品\画板\u=4237240034,3179319345&amp;fm=51&amp;gp=0_副本.png"/>
            <p:cNvPicPr/>
            <p:nvPr/>
          </p:nvPicPr>
          <p:blipFill>
            <a:blip r:embed="rId3"/>
            <a:stretch/>
          </p:blipFill>
          <p:spPr>
            <a:xfrm>
              <a:off x="6301440" y="1143000"/>
              <a:ext cx="1394640" cy="13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05520" y="2895120"/>
            <a:ext cx="26668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o,it is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828800" y="2133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257800" y="44956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Yes,it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8F%AE%E5%92%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Is this your cap,Danny</a:t>
            </a:r>
            <a:r>
              <a:rPr b="1" lang="zh-CN" sz="4400" spc="-1" strike="noStrike">
                <a:solidFill>
                  <a:srgbClr val="ff6600"/>
                </a:solidFill>
                <a:latin typeface="Comic Sans MS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5867280"/>
            <a:ext cx="5181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00"/>
                </a:solidFill>
                <a:latin typeface="Comic Sans MS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8F%AE%E5%92%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320480" y="30492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What is th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30"/>
          <p:cNvGrpSpPr/>
          <p:nvPr/>
        </p:nvGrpSpPr>
        <p:grpSpPr>
          <a:xfrm>
            <a:off x="1371600" y="1066680"/>
            <a:ext cx="6873840" cy="5310360"/>
            <a:chOff x="1371600" y="1066680"/>
            <a:chExt cx="6873840" cy="5310360"/>
          </a:xfrm>
        </p:grpSpPr>
        <p:sp>
          <p:nvSpPr>
            <p:cNvPr id="149" name="剪去单角的矩形 27"/>
            <p:cNvSpPr/>
            <p:nvPr/>
          </p:nvSpPr>
          <p:spPr>
            <a:xfrm>
              <a:off x="1371600" y="1447560"/>
              <a:ext cx="6426360" cy="4929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3" descr="caltrop.png"/>
            <p:cNvPicPr/>
            <p:nvPr/>
          </p:nvPicPr>
          <p:blipFill>
            <a:blip r:embed="rId2"/>
            <a:stretch/>
          </p:blipFill>
          <p:spPr>
            <a:xfrm>
              <a:off x="6553080" y="1066680"/>
              <a:ext cx="1692360" cy="129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81480" y="365724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Comic Sans MS"/>
              </a:rPr>
              <a:t>scar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350496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1320480" y="30492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at is th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1"/>
          <p:cNvGrpSpPr/>
          <p:nvPr/>
        </p:nvGrpSpPr>
        <p:grpSpPr>
          <a:xfrm>
            <a:off x="1676520" y="1143000"/>
            <a:ext cx="6019560" cy="5029200"/>
            <a:chOff x="1676520" y="1143000"/>
            <a:chExt cx="6019560" cy="5029200"/>
          </a:xfrm>
        </p:grpSpPr>
        <p:grpSp>
          <p:nvGrpSpPr>
            <p:cNvPr id="156" name="单圆角矩形 14"/>
            <p:cNvGrpSpPr/>
            <p:nvPr/>
          </p:nvGrpSpPr>
          <p:grpSpPr>
            <a:xfrm>
              <a:off x="1676520" y="1656360"/>
              <a:ext cx="5690880" cy="4515840"/>
              <a:chOff x="1676520" y="1656360"/>
              <a:chExt cx="5690880" cy="4515840"/>
            </a:xfrm>
          </p:grpSpPr>
          <p:pic>
            <p:nvPicPr>
              <p:cNvPr id="157" name="单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1656360"/>
                <a:ext cx="5690880" cy="45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1952640" y="1908360"/>
                <a:ext cx="4994280" cy="41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16" descr="E:\ppt模板\个人作品\画板\u=4237240034,3179319345&amp;fm=51&amp;gp=0_副本.png"/>
            <p:cNvPicPr/>
            <p:nvPr/>
          </p:nvPicPr>
          <p:blipFill>
            <a:blip r:embed="rId3"/>
            <a:stretch/>
          </p:blipFill>
          <p:spPr>
            <a:xfrm>
              <a:off x="6301440" y="1143000"/>
              <a:ext cx="1394640" cy="13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09720" y="3123720"/>
            <a:ext cx="26672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t is a c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905120" y="20574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8F%AE%E5%92%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2666880" cy="2495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410080" y="3581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l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358128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86600" y="34290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306440" y="304920"/>
            <a:ext cx="35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at are the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11"/>
          <p:cNvGrpSpPr/>
          <p:nvPr/>
        </p:nvGrpSpPr>
        <p:grpSpPr>
          <a:xfrm>
            <a:off x="1676520" y="1143000"/>
            <a:ext cx="6019560" cy="5029200"/>
            <a:chOff x="1676520" y="1143000"/>
            <a:chExt cx="6019560" cy="5029200"/>
          </a:xfrm>
        </p:grpSpPr>
        <p:grpSp>
          <p:nvGrpSpPr>
            <p:cNvPr id="170" name="单圆角矩形 14"/>
            <p:cNvGrpSpPr/>
            <p:nvPr/>
          </p:nvGrpSpPr>
          <p:grpSpPr>
            <a:xfrm>
              <a:off x="1676520" y="1656360"/>
              <a:ext cx="5690880" cy="4515840"/>
              <a:chOff x="1676520" y="1656360"/>
              <a:chExt cx="5690880" cy="4515840"/>
            </a:xfrm>
          </p:grpSpPr>
          <p:pic>
            <p:nvPicPr>
              <p:cNvPr id="171" name="单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1656360"/>
                <a:ext cx="5690880" cy="45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952640" y="1908360"/>
                <a:ext cx="4994280" cy="41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Picture 16" descr="E:\ppt模板\个人作品\画板\u=4237240034,3179319345&amp;fm=51&amp;gp=0_副本.png"/>
            <p:cNvPicPr/>
            <p:nvPr/>
          </p:nvPicPr>
          <p:blipFill>
            <a:blip r:embed="rId3"/>
            <a:stretch/>
          </p:blipFill>
          <p:spPr>
            <a:xfrm>
              <a:off x="6301440" y="1143000"/>
              <a:ext cx="1394640" cy="13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09720" y="3123720"/>
            <a:ext cx="29718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glove</a:t>
            </a:r>
            <a:r>
              <a:rPr b="1" lang="en-US" sz="6000" spc="-1" strike="noStrike">
                <a:solidFill>
                  <a:srgbClr val="cc00ff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752480" y="22096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1320480" y="30492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hat is th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12"/>
          <p:cNvGrpSpPr/>
          <p:nvPr/>
        </p:nvGrpSpPr>
        <p:grpSpPr>
          <a:xfrm>
            <a:off x="228600" y="1600200"/>
            <a:ext cx="7696080" cy="5257800"/>
            <a:chOff x="228600" y="1600200"/>
            <a:chExt cx="7696080" cy="5257800"/>
          </a:xfrm>
        </p:grpSpPr>
        <p:grpSp>
          <p:nvGrpSpPr>
            <p:cNvPr id="179" name="圆角矩形 8"/>
            <p:cNvGrpSpPr/>
            <p:nvPr/>
          </p:nvGrpSpPr>
          <p:grpSpPr>
            <a:xfrm>
              <a:off x="1151640" y="1600200"/>
              <a:ext cx="6773040" cy="4046400"/>
              <a:chOff x="1151640" y="1600200"/>
              <a:chExt cx="6773040" cy="4046400"/>
            </a:xfrm>
          </p:grpSpPr>
          <p:pic>
            <p:nvPicPr>
              <p:cNvPr id="180" name="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1640" y="1600200"/>
                <a:ext cx="6773040" cy="404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404000" y="1825560"/>
                <a:ext cx="6274080" cy="355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2" descr="cactus.png"/>
            <p:cNvPicPr/>
            <p:nvPr/>
          </p:nvPicPr>
          <p:blipFill>
            <a:blip r:embed="rId3"/>
            <a:stretch/>
          </p:blipFill>
          <p:spPr>
            <a:xfrm>
              <a:off x="228600" y="4813560"/>
              <a:ext cx="1339200" cy="20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2025720"/>
            <a:ext cx="27432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267080" y="2209680"/>
            <a:ext cx="3333960" cy="1981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0200" y="35812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ff"/>
                </a:solidFill>
                <a:latin typeface="Arial"/>
              </a:rPr>
              <a:t>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95%B4%E7%82%B9%E6%8A%A5%E6%97%B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>
            <a:off x="1335600" y="304920"/>
            <a:ext cx="30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at is this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1"/>
          <p:cNvGrpSpPr/>
          <p:nvPr/>
        </p:nvGrpSpPr>
        <p:grpSpPr>
          <a:xfrm>
            <a:off x="1752480" y="990720"/>
            <a:ext cx="6019920" cy="5029200"/>
            <a:chOff x="1752480" y="990720"/>
            <a:chExt cx="6019920" cy="5029200"/>
          </a:xfrm>
        </p:grpSpPr>
        <p:grpSp>
          <p:nvGrpSpPr>
            <p:cNvPr id="189" name="单圆角矩形 14"/>
            <p:cNvGrpSpPr/>
            <p:nvPr/>
          </p:nvGrpSpPr>
          <p:grpSpPr>
            <a:xfrm>
              <a:off x="1752480" y="1504080"/>
              <a:ext cx="5691240" cy="4515840"/>
              <a:chOff x="1752480" y="1504080"/>
              <a:chExt cx="5691240" cy="4515840"/>
            </a:xfrm>
          </p:grpSpPr>
          <p:pic>
            <p:nvPicPr>
              <p:cNvPr id="190" name="单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1504080"/>
                <a:ext cx="5691240" cy="45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028600" y="1756080"/>
                <a:ext cx="4994640" cy="41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16" descr="E:\ppt模板\个人作品\画板\u=4237240034,3179319345&amp;fm=51&amp;gp=0_副本.png"/>
            <p:cNvPicPr/>
            <p:nvPr/>
          </p:nvPicPr>
          <p:blipFill>
            <a:blip r:embed="rId3"/>
            <a:stretch/>
          </p:blipFill>
          <p:spPr>
            <a:xfrm>
              <a:off x="6377760" y="990720"/>
              <a:ext cx="1394640" cy="13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10080" y="1824120"/>
            <a:ext cx="198144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52480" y="2362320"/>
            <a:ext cx="333396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ff33"/>
                </a:solidFill>
                <a:latin typeface="Comic Sans MS"/>
              </a:rPr>
              <a:t>Do the exercise of Part2</a:t>
            </a:r>
            <a:r>
              <a:rPr b="1" lang="en-US" sz="38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1211400" y="304920"/>
            <a:ext cx="44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hat is she we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2"/>
          <p:cNvGrpSpPr/>
          <p:nvPr/>
        </p:nvGrpSpPr>
        <p:grpSpPr>
          <a:xfrm>
            <a:off x="228600" y="1600200"/>
            <a:ext cx="7696080" cy="5257800"/>
            <a:chOff x="228600" y="1600200"/>
            <a:chExt cx="7696080" cy="5257800"/>
          </a:xfrm>
        </p:grpSpPr>
        <p:grpSp>
          <p:nvGrpSpPr>
            <p:cNvPr id="200" name="圆角矩形 8"/>
            <p:cNvGrpSpPr/>
            <p:nvPr/>
          </p:nvGrpSpPr>
          <p:grpSpPr>
            <a:xfrm>
              <a:off x="1151640" y="1600200"/>
              <a:ext cx="6773040" cy="4046400"/>
              <a:chOff x="1151640" y="1600200"/>
              <a:chExt cx="6773040" cy="4046400"/>
            </a:xfrm>
          </p:grpSpPr>
          <p:pic>
            <p:nvPicPr>
              <p:cNvPr id="201" name="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1640" y="1600200"/>
                <a:ext cx="6773040" cy="404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1404000" y="1825560"/>
                <a:ext cx="6274080" cy="355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2" descr="cactus.png"/>
            <p:cNvPicPr/>
            <p:nvPr/>
          </p:nvPicPr>
          <p:blipFill>
            <a:blip r:embed="rId3"/>
            <a:stretch/>
          </p:blipFill>
          <p:spPr>
            <a:xfrm>
              <a:off x="228600" y="4813560"/>
              <a:ext cx="1339200" cy="20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5280" y="2590920"/>
            <a:ext cx="289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She is wearing a c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2743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3300"/>
              </a:solidFill>
              <a:latin typeface="Arial"/>
              <a:ea typeface="微软雅黑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267080" y="1828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05-22T07:03:24Z</dcterms:modified>
  <cp:revision>53</cp:revision>
  <dc:subject/>
  <dc:title/>
</cp:coreProperties>
</file>