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6D2-1BEC-4714-BA1D-071B7F86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AEB-F7AC-48D2-A651-3F878981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AA9-9305-4DA3-8BDE-AC848302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EBC-28F1-4040-ACED-973093A2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30F2-0452-47DC-A326-A64BEA10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EA92-1C4C-4037-86BF-83C617CA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C406-D1F5-45D6-9884-E72C63B7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A968-8B39-4921-8420-74824152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9BE9-5E8A-4A9A-B9AC-04D73F4A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7495-5520-4FE7-9EC0-571425BC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273A-D86E-4910-B15D-001D0115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619-B53A-40A3-BC76-8C7AD661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96BF-1459-4FD9-9548-5D6DB7E8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3008-EBCB-4EA8-8FCA-0530D2EC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82A7-AB89-4911-88B5-C14CE88C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26F7-FB08-482F-8B57-9180017E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2CA1-4CB7-4197-B23A-DD23E320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FA3E2-DB60-49BE-AC82-03CC5606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AC15E-05C6-4404-A7BF-1B802CE6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5B426-B958-466F-8ECD-317673CB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E3D1E-0D19-4A04-BD4E-3547FB8B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B38A3-BC41-4A1B-9FAC-A1D2D65C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42C-6314-4087-861F-F0DBFD70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BA90-6068-46BC-8D79-5B715AA5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18EB-D2CF-408C-A5BD-CB19036C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408AB-8451-4FF1-8682-B524E32E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B0496-B08E-4122-A2CD-7CC47FA4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399B-C25A-4B38-A133-6B457D87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9929-5ABE-481E-B1E2-8211FCD1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D399-8364-401B-8F32-560E01FB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714-6211-4297-BEE0-3666EFF2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4DD-E36F-465C-9C4E-45B09BF4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CE8-AE47-47D1-9226-3B369AE3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42D-40DE-4A10-BAAD-74FAA196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F4A-59A3-4E93-866D-B4CBC610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5E8-AC45-4C69-B552-32CE3B49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CC99-DFE6-4D39-B706-09C67739CF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F0B8-BA73-4572-BD28-22ECB2B5BA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8603-A2B5-4D0A-B43B-D7DAC21C0D3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556272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4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ar and F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. Let’s do it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535280" cy="340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042920" y="3573360"/>
            <a:ext cx="5316480" cy="1524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Where's your hom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Is it far from the school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16000" y="5445000"/>
            <a:ext cx="31449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No. It's near the schoo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916360" y="1989000"/>
            <a:ext cx="338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388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80000" y="549360"/>
            <a:ext cx="302400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cc00ff"/>
                </a:solidFill>
                <a:latin typeface="Arial"/>
              </a:rPr>
              <a:t>schoo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4920" y="2565000"/>
            <a:ext cx="224316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1280" y="5300640"/>
            <a:ext cx="792144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宋体"/>
              </a:rPr>
              <a:t>LiMing is near the school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700360" y="2205000"/>
            <a:ext cx="331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f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962000"/>
            <a:ext cx="6120000" cy="4589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280" y="5157720"/>
            <a:ext cx="2016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f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16000" y="549360"/>
            <a:ext cx="705636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Li ming is far from schoo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1557360"/>
            <a:ext cx="2160360" cy="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6524640"/>
            <a:ext cx="287280" cy="333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1916280"/>
            <a:ext cx="358920" cy="360360"/>
          </a:xfrm>
          <a:prstGeom prst="star5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5805360"/>
            <a:ext cx="47448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64000" y="1125360"/>
            <a:ext cx="17892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schoo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68360" y="3068640"/>
            <a:ext cx="403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far fr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7 0.00254 C 0.04948 -0.00764 0.02483 0.00046 0.10191 -0.0007 C 0.15538 -0.00139 0.20868 -0.00185 0.26215 -0.00232 C 0.2724 -0.00324 0.28108 -0.00463 0.29097 -0.00694 C 0.29653 -0.00833 0.30781 -0.01018 0.30781 -0.01018 C 0.35625 -0.03169 0.30538 -0.00972 0.45243 -0.01342 C 0.48455 -0.01434 0.51667 -0.01712 0.54879 -0.01828 C 0.54028 -0.05205 0.54774 -0.09022 0.54514 -0.12584 C 0.54427 -0.2105 0.54288 -0.23364 0.54514 -0.31044 C 0.54549 -0.32131 0.54879 -0.33172 0.55 -0.34259 C 0.55087 -0.34953 0.55365 -0.36341 0.55365 -0.36341 C 0.55504 -0.38099 0.55903 -0.39626 0.56215 -0.41314 C 0.56024 -0.48925 0.56233 -0.4409 0.55729 -0.47421 C 0.5566 -0.49757 0.55556 -0.51747 0.55365 -0.53991 C 0.5526 -0.5635 0.54896 -0.63845 0.55365 -0.64423 C 0.56806 -0.66227 0.59306 -0.64423 0.61267 -0.64423 E">
                                      <p:cBhvr>
                                        <p:cTn id="5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372360" y="4005360"/>
            <a:ext cx="780840" cy="1198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1297080" cy="865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7280" y="188640"/>
            <a:ext cx="332244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lk about i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380360" y="3933720"/>
            <a:ext cx="136512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zo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79640" y="1413000"/>
            <a:ext cx="13683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cho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386064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libr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Is the library far from her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37440" cy="500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sten and watch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19:17Z</dcterms:created>
  <dc:creator/>
  <dc:description/>
  <dc:language>en-US</dc:language>
  <cp:lastModifiedBy>微软用户</cp:lastModifiedBy>
  <dcterms:modified xsi:type="dcterms:W3CDTF">2017-05-22T07:18:33Z</dcterms:modified>
  <cp:revision>3</cp:revision>
  <dc:subject/>
  <dc:title/>
</cp:coreProperties>
</file>