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C7C-168A-4682-AEE6-77BFC5DA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3FB-1608-4960-9459-092567BE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AC5-0473-4A8B-AB6E-B151462C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E49-5C16-4AA7-AD6B-41A7199E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D29-9CD7-481E-806B-A6526E20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651-D1F2-457B-9406-B7FAC9E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8F4B-847D-4B65-99E7-CBF739C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80B-CF34-4A93-9402-3A137BBF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D414-9B26-457A-A95B-FD25973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0719-B2F3-4484-8071-A7BE991A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1C94-4F8A-4D74-AF80-4C5EBA0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5FD-FD66-44B0-BFDE-DB5A7989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708-B20B-4FA8-8BDC-D6DF73A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A4F7-E260-4293-A0D4-E55A4CD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4552-95CE-486D-A1B6-856B2E87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F1AF-D254-4BF1-B61F-81F48EB1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8817-207B-4659-8DEA-CEBD33E0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D7F0-012D-4771-9067-806BFBE8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95B9-C191-4A65-BA5B-E2FBCF1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7F60-39C3-48F1-A177-494218F7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A580-74FE-4914-80E7-A0230261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564B-822C-4E9B-A231-540787A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F17-7EBA-4FC3-8DB8-1A12651B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C15F-4648-4906-94CB-445C4A59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2B5F-D40D-412B-AAA4-4D8B92E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230D-2ADB-47F3-AFFF-12FDDBF4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47EE-B62B-43DE-B66E-B60E65C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541F-CBE1-4CD8-A94D-35F32FA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0721-E6F6-4091-A270-C896B715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ADC0-3B00-4AFA-8396-7DAE18D2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EA3-6853-426A-8C58-7CC4F89E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B93-3080-4919-918C-17A51AA9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C3C-9960-4DDC-A6B3-DF2A259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7DA-2347-4F7D-804D-7C7A37E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CB4-B625-40CC-A740-4311D46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782-F074-4B7D-9773-BAA4BD9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9675-BB86-495C-BEAA-8DD620A64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9779-DBAD-40FA-B100-D01C22EB43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4D6-FCC3-46B6-AED2-754B87665C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640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Lesson 5 </a:t>
            </a:r>
            <a:br>
              <a:rPr sz="5400"/>
            </a:b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Days of the We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160" y="533520"/>
            <a:ext cx="77536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800000"/>
                </a:solidFill>
                <a:latin typeface="Arial"/>
              </a:rPr>
              <a:t>Homework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800000"/>
                </a:solidFill>
                <a:latin typeface="Arial"/>
              </a:rPr>
              <a:t>See  you 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488360" cy="41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---What day is today?</a:t>
            </a:r>
            <a:br>
              <a:rPr sz="4200"/>
            </a:b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---It’s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95160" y="871560"/>
            <a:ext cx="7753680" cy="511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90480" y="871560"/>
            <a:ext cx="7763040" cy="511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0200" y="871560"/>
            <a:ext cx="7743600" cy="511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95160" y="871560"/>
            <a:ext cx="77536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0200" y="871560"/>
            <a:ext cx="77436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01:19Z</dcterms:created>
  <dc:creator/>
  <dc:description/>
  <dc:language>en-US</dc:language>
  <cp:lastModifiedBy>微软用户</cp:lastModifiedBy>
  <dcterms:modified xsi:type="dcterms:W3CDTF">2017-05-22T07:07:02Z</dcterms:modified>
  <cp:revision>5</cp:revision>
  <dc:subject/>
  <dc:title/>
</cp:coreProperties>
</file>