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CF8-B4ED-4339-A272-292AB1A1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C65-9202-4671-B8EE-94EA283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6C4-CC6D-4BF3-9E8D-3B1BD6D5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01E-D177-4C73-9827-0DD3B919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5B06-59E3-47D9-8096-3A3EE2FB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8DC8-A926-416D-BA58-FF882EEC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633E-42CD-487C-B70D-D64CE9C4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25E2-725A-4184-94B0-0C05FC0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A784-049D-4428-8758-9977C991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7BE9-6956-4631-B19B-6AAC3E4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F778-E1C1-4AFC-8FD1-94E8D21E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EED-3F18-47AC-9343-C0C99D6B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1FDB-F0EF-4542-B9BE-333F39B3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960D-F173-437B-AD97-EE46C36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E892-9829-4E2F-BA28-9F605E9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AE24-F795-4486-9D27-2432F544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FBC4-014E-4571-8897-1539E323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5162-8E80-47B6-A73B-9ECB96B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470F-EF18-4A14-B291-DD8D62C2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45C0-DC33-4555-B179-C4A2223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BDB5-2754-4DCD-AFE9-99C6D85E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3ABD-7CD2-4E3A-AE71-283CB9A7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71D-C220-484B-9B63-EDAE2563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CCD8-5D1D-4A11-8A84-980F10AC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9E88-CCB7-45C2-9E5A-1EDF4E4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5A36-28D0-40D3-9294-81E48BB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A275-670B-486E-B82D-DCA2091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5139-E907-4444-B3B8-8AFD869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BEDE-EDF5-4C6E-A7B4-DDDC81F7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7988-D69C-4199-9661-D6AF2048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050-3904-4F31-B634-9CE7EE9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DF8-8B00-46D6-B4C5-0D6FA25D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0BD-28CA-4EA5-9A08-0590D03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B44-E7EB-4E89-A8CF-67B09B7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E00-AB9F-4CE2-B54B-B16D301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6E3-B7A0-4F17-A6E2-1B2BA5D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9D06-ACFF-4C90-9B76-52DD1FECD8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3A64-E140-43DC-9178-3B39F49EA0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E90F-AEC4-40DE-AD53-88F1C7862C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5040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6767ff"/>
                </a:solidFill>
                <a:latin typeface="Arial"/>
              </a:rPr>
              <a:t>Lesson 10</a:t>
            </a:r>
            <a:br>
              <a:rPr sz="4000"/>
            </a:br>
            <a:r>
              <a:rPr b="1" lang="zh-CN" sz="4000" spc="-1" strike="noStrike">
                <a:solidFill>
                  <a:srgbClr val="6767ff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6767ff"/>
                </a:solidFill>
                <a:latin typeface="Arial"/>
              </a:rPr>
              <a:t>Brush and W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700360" y="17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7280" y="20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342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2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短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720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y homework        read a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tory              draw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 a song              play a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 TV                listen to music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y bed            clean 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on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with my teddy bear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my mum and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n the phone with my 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360" y="-360"/>
            <a:ext cx="7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116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60" y="-360"/>
            <a:ext cx="7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116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360" y="-360"/>
            <a:ext cx="7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116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484360" y="1268280"/>
            <a:ext cx="395928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Thank  you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zh-CN" sz="3800" spc="-1" strike="noStrike">
                <a:solidFill>
                  <a:srgbClr val="008000"/>
                </a:solidFill>
                <a:latin typeface="Arial"/>
              </a:rPr>
              <a:t>学习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我能听、说、认读和书写单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sh,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我能口头运用句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do in the ____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197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Arial"/>
              </a:rPr>
              <a:t>brush my teeth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刷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12536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Arial"/>
              </a:rPr>
              <a:t>wash my fac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洗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2924280"/>
            <a:ext cx="367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Arial"/>
              </a:rPr>
              <a:t>brush my 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895480"/>
            <a:ext cx="426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Arial"/>
              </a:rPr>
              <a:t>put on my clo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穿上衣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5699160"/>
            <a:ext cx="84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I brush my teeth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24640" cy="6524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16000" y="0"/>
            <a:ext cx="712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I  wash   my  fac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03280" y="544500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I brush my hair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653000"/>
            <a:ext cx="874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I  put  on  my  cloth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14920" y="0"/>
            <a:ext cx="53290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92280"/>
            <a:ext cx="594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What do you do in the moring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3573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(     ) my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0"/>
            <a:ext cx="302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小练兵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70028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                ）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y teeth.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49228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                    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y 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3213000"/>
            <a:ext cx="60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 (                   ) my h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860640"/>
            <a:ext cx="82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                     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y cloth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5084640"/>
            <a:ext cx="69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ush     wash      put 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2T08:25:59Z</dcterms:created>
  <dc:creator/>
  <dc:description/>
  <dc:language>en-US</dc:language>
  <cp:lastModifiedBy>微软用户</cp:lastModifiedBy>
  <dcterms:modified xsi:type="dcterms:W3CDTF">2017-05-05T06:56:13Z</dcterms:modified>
  <cp:revision>4</cp:revision>
  <dc:subject/>
  <dc:title/>
</cp:coreProperties>
</file>