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6827-4A18-40E9-85AA-DF0CC35B9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E9A1-93C9-4D0F-8D4D-9C7ACD35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6912-C641-4A0C-8971-2880F1CAB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DB5B-C395-44B2-B2F3-31F7D8010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703B-E629-4D40-A3F9-C59DAA0D5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4879-CE0A-4FE1-99A7-53276AD2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64FA-DBA0-44FA-866D-6AAE3457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857E-76D9-49EE-B691-789C6DD0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A9DC-99C1-4EE9-9A6C-CFB0700C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22AE-ABA9-49C5-869F-2F8C26B2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7902-4ECE-4FC9-907D-01D2DEEC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A22F-25A0-440A-8416-9DEA66AC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51BD-8977-48B4-9C2F-E4734230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CF28-081E-44E4-996C-719F1CF7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17C0-6116-4E12-8B52-76872E9B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0CFC-E80F-4945-B1A4-F8C53DE51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E0C2-CBDA-42FD-BB10-82DA3C02A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7FD29-0462-46EF-BFD2-B4604B774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040D4-3C62-4DB2-BBC1-F16F4184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61FE9-BCAE-4248-891B-B91F4AB4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90878-B6B5-4ABA-A881-B3927B1D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ABF9B-BC04-4D2C-9D27-E628BDDF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A93B-ACC0-49A2-9AE1-1302020F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FA2CB-0A55-41CD-8D3A-6ACB108E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E3FE3-4284-43F6-ACBF-57203850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2BBCE-5B2C-4914-9B1B-175DA9C9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3189D-F23B-40D0-8B0B-FD6AA63C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3157D-E82E-43C1-AB49-5E516BD6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8D124-640B-47BB-BA05-9E2EE0990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1DF6E-2686-4552-8FF9-ADAA79E56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84CD-FA5F-4D71-B1B4-540CE53F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39F6-A6AF-406D-ABBD-3BC98A53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D2AC-23E3-42D9-A107-526D0664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CEC2-27E1-4A9E-9A33-667FA2AC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6B68-3918-4135-96DE-496F28AD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D553-9EB6-42D2-A705-AF9FB685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6C09-F96F-47E8-A71C-B90A19DA39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81A5-8D7D-4789-A5B1-35AE787CBCA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977C-1FE2-4081-9660-B872B3F88C3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93840" y="765000"/>
            <a:ext cx="51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冀教版四年英语上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9640" y="256536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Unit 1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The Clothes We We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5275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47640" y="56149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i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5229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183280" y="55166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-shi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383000" y="0"/>
            <a:ext cx="4761000" cy="4724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900000" y="1773360"/>
            <a:ext cx="30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ki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5157720"/>
            <a:ext cx="532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This is a red skir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7640" cy="35002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00000" y="3573360"/>
            <a:ext cx="35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we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86900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This is a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ew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 swea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68360" y="566100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These are </a:t>
            </a:r>
            <a:r>
              <a:rPr b="1" lang="en-US" sz="3600" spc="-1" strike="noStrike">
                <a:solidFill>
                  <a:srgbClr val="339933"/>
                </a:solidFill>
                <a:latin typeface="Arial"/>
              </a:rPr>
              <a:t>old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 trous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543640" y="0"/>
            <a:ext cx="3600360" cy="3429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012000" y="350028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rous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3840" y="765000"/>
            <a:ext cx="51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冀教版四年英语上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278136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Lesson 3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Coat and Scar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0" y="0"/>
            <a:ext cx="4649760" cy="6237720"/>
            <a:chOff x="0" y="0"/>
            <a:chExt cx="4649760" cy="6237720"/>
          </a:xfrm>
        </p:grpSpPr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649760" cy="522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971640" y="5229360"/>
              <a:ext cx="2879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ff"/>
                  </a:solidFill>
                  <a:latin typeface="Times New Roman"/>
                </a:rPr>
                <a:t>coa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815000" y="0"/>
            <a:ext cx="4329000" cy="6237720"/>
            <a:chOff x="4815000" y="0"/>
            <a:chExt cx="4329000" cy="6237720"/>
          </a:xfrm>
        </p:grpSpPr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>
              <a:off x="4815000" y="0"/>
              <a:ext cx="4329000" cy="522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5940360" y="5229360"/>
              <a:ext cx="2016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ff"/>
                  </a:solidFill>
                  <a:latin typeface="Times New Roman"/>
                </a:rPr>
                <a:t>scarf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0" y="0"/>
            <a:ext cx="4343400" cy="6166080"/>
            <a:chOff x="0" y="0"/>
            <a:chExt cx="4343400" cy="6166080"/>
          </a:xfrm>
        </p:grpSpPr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343400" cy="508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39640" y="5157720"/>
              <a:ext cx="3097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ff"/>
                  </a:solidFill>
                  <a:latin typeface="Times New Roman"/>
                </a:rPr>
                <a:t>gloves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219640" y="0"/>
            <a:ext cx="3924360" cy="6166080"/>
            <a:chOff x="5219640" y="0"/>
            <a:chExt cx="3924360" cy="6166080"/>
          </a:xfrm>
        </p:grpSpPr>
        <p:pic>
          <p:nvPicPr>
            <p:cNvPr id="164" name="" descr=""/>
            <p:cNvPicPr/>
            <p:nvPr/>
          </p:nvPicPr>
          <p:blipFill>
            <a:blip r:embed="rId3"/>
            <a:stretch/>
          </p:blipFill>
          <p:spPr>
            <a:xfrm>
              <a:off x="5219640" y="0"/>
              <a:ext cx="3924360" cy="508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6156360" y="5157720"/>
              <a:ext cx="2016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ff"/>
                  </a:solidFill>
                  <a:latin typeface="Times New Roman"/>
                </a:rPr>
                <a:t>cap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411280" y="1557360"/>
            <a:ext cx="3792600" cy="5157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763640" y="549360"/>
            <a:ext cx="59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at is he wearing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2T04:13:03Z</dcterms:created>
  <dc:creator/>
  <dc:description/>
  <cp:keywords/>
  <dc:language>en-US</dc:language>
  <cp:lastModifiedBy>微软用户</cp:lastModifiedBy>
  <dcterms:modified xsi:type="dcterms:W3CDTF">2017-05-05T06:43:12Z</dcterms:modified>
  <cp:revision>81</cp:revision>
  <dc:subject/>
  <dc:title/>
</cp:coreProperties>
</file>