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8.png" ContentType="image/png"/>
  <Override PartName="/ppt/media/image5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6.png" ContentType="image/png"/>
  <Override PartName="/ppt/media/image3.png" ContentType="image/png"/>
  <Override PartName="/ppt/media/image4.jpeg" ContentType="image/jpe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E30F-6285-4E04-A57E-777CB02D5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F48C-7FE2-44BC-BE2A-8BBAD5283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6334-39E3-495F-8623-D544AFF77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6A9F-3E85-4F25-8B3C-3425FFB1E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A6391-F757-4143-94E2-E07523B96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9452B-CA50-4A26-BF7D-1AFB4DD97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26F0F-EC1C-48DB-9D61-1D6E0A934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798B0-B467-4D5F-B650-770EFCBD3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4961A-5CD4-4F86-8591-06BF213A7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AE09D-C755-4282-A905-FC3DC6E4F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E076E-F058-4F53-8179-3D1C268B3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0AEF-83DA-4F42-80FE-67BEB604A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D7D86-3F2F-4E8E-A207-A3EC22FBC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A2CF8-B6EA-4905-9B08-2AF034513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AE3AB-CB4E-4354-8277-AB40C46D6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CEF2A-1265-4836-8382-D78B3A759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8CCAD-BAAC-4C3F-BC05-E7676FB64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A74FC-935F-4F73-965E-C14C03859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4DE7F-A88A-40B2-8268-575D1F368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D12F7-BCC1-4337-91FC-50BE86E2C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AEAD3-263A-4B2B-B90B-026C95EBD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BB955-0AC8-44F9-9897-613784F9A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3851-48DA-493F-8A76-937EDBBF7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52776-FC8B-45F5-AF2A-11867C404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AFB10-B84B-4A31-91E7-F1296706C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DCFFF-E7B1-416C-A5DB-9A68C11D8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38A1F-CAD7-4BD8-9186-89F30FC53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C8C70-38F5-485F-8998-1CF569752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E7073-41B0-4F63-B075-4EB4EEA2B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54FB7-C572-403F-9AE0-99D556169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1DF9-92BB-419F-8C67-78FB579C9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5468-B791-41E7-9367-BD8FF2CEE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FB26-9060-474B-8F89-38217D8C6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C558-0DE9-4A4C-B9BD-5F908BAE9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690E-52A4-4F1E-9B2F-625A78EB2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B551-7982-43C8-BCC8-CF6CE283E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3B25D-C36B-417A-9EBA-21AFBA07CF8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3" name="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B1626-04EB-4F0D-AAB3-D5F9E8D7398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90" name="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31160-FA7B-4082-87D2-E5A2558B3D8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3124080" cy="23907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3200400" y="304920"/>
            <a:ext cx="3086280" cy="24382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6400800" y="304920"/>
            <a:ext cx="2743200" cy="23619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0" y="320040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5"/>
          <a:stretch/>
        </p:blipFill>
        <p:spPr>
          <a:xfrm>
            <a:off x="3200400" y="3200400"/>
            <a:ext cx="2971800" cy="21718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6"/>
          <a:stretch/>
        </p:blipFill>
        <p:spPr>
          <a:xfrm>
            <a:off x="6400800" y="3124080"/>
            <a:ext cx="2743200" cy="22100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400800" y="3124080"/>
            <a:ext cx="2743200" cy="2362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00400" y="3124080"/>
            <a:ext cx="2971800" cy="236232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400800" y="228600"/>
            <a:ext cx="2743200" cy="2438280"/>
          </a:xfrm>
          <a:prstGeom prst="rect">
            <a:avLst/>
          </a:prstGeom>
          <a:solidFill>
            <a:srgbClr val="cc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304920"/>
            <a:ext cx="3048120" cy="24382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3124080"/>
            <a:ext cx="2971800" cy="2438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304920"/>
            <a:ext cx="3124080" cy="2361960"/>
          </a:xfrm>
          <a:prstGeom prst="rect">
            <a:avLst/>
          </a:prstGeom>
          <a:solidFill>
            <a:srgbClr val="d9d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517400" y="5761080"/>
            <a:ext cx="572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99"/>
                </a:solidFill>
                <a:latin typeface="Arial"/>
              </a:rPr>
              <a:t>Can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6600cc"/>
                </a:solidFill>
                <a:latin typeface="Arial"/>
              </a:rPr>
              <a:t>you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8000"/>
                </a:solidFill>
                <a:latin typeface="Arial"/>
              </a:rPr>
              <a:t>remember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7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5338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2048400" y="5303880"/>
            <a:ext cx="424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mile and pou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242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2047680" y="5303880"/>
            <a:ext cx="4547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ose your ey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242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048400" y="5105520"/>
            <a:ext cx="4547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Go fast, go slo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136240" y="5835600"/>
            <a:ext cx="129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a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15400" cy="48769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2049120" y="5303880"/>
            <a:ext cx="522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ay your bye-by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483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2143080" y="5562720"/>
            <a:ext cx="4748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urn out the ligh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69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2047680" y="5303880"/>
            <a:ext cx="4547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ose your ey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483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049840" y="5303880"/>
            <a:ext cx="464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ay “good night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-127080"/>
            <a:ext cx="10667880" cy="69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teddy bear    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泰迪熊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Teddy Bear, Teddy Bear,  Turn aroun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Teddy Bear, Teddy Bear,  Touch the groun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Teddy Bear, Teddy Bear,  Reach high and low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Teddy Bear, Teddy Bear,  Go fast, go slow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lap, clap, cla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Teddy Bear, Teddy Bear,  Go in and o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Teddy Bear, Teddy Bear,  Smile and pout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Teddy Bear, Teddy Bear,  Close your ey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Teddy Bear, Teddy Bear,  Go fast, go slow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lap, clap, cla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Teddy Bear, Teddy Bear,  Say your bye-by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Teddy Bear, Teddy Bear,  Turn out the 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Teddy Bear, Teddy Bear,  Close your ey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Teddy Bear, Teddy Bear,  Say “good nigh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5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943600" y="4181400"/>
            <a:ext cx="2328840" cy="26766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2142000" y="228600"/>
            <a:ext cx="5188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Arial"/>
              </a:rPr>
              <a:t>Guess who I am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1371600"/>
            <a:ext cx="3200400" cy="24382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914400" y="1219320"/>
            <a:ext cx="3200400" cy="2514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5029200" y="1295280"/>
            <a:ext cx="3228840" cy="24861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4724280" y="1143000"/>
            <a:ext cx="3200400" cy="2514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0" y="4267080"/>
            <a:ext cx="3238560" cy="24004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762120" y="4038480"/>
            <a:ext cx="3200400" cy="2514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48320" y="4038480"/>
            <a:ext cx="3200400" cy="2514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4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838080" y="457200"/>
            <a:ext cx="3124440" cy="30607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5412600" y="1371600"/>
            <a:ext cx="2852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bear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657600" y="2209680"/>
            <a:ext cx="1600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20640" y="3889440"/>
            <a:ext cx="779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000"/>
                </a:solidFill>
                <a:latin typeface="Arial"/>
              </a:rPr>
              <a:t>Hi , my name is </a:t>
            </a:r>
            <a:r>
              <a:rPr b="0" lang="en-US" sz="4800" spc="-1" strike="noStrike">
                <a:solidFill>
                  <a:srgbClr val="d9d8ec"/>
                </a:solidFill>
                <a:latin typeface="Arial"/>
              </a:rPr>
              <a:t>Teddy bear</a:t>
            </a:r>
            <a:r>
              <a:rPr b="0" lang="en-US" sz="48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62120" y="5181480"/>
            <a:ext cx="1447560" cy="914400"/>
          </a:xfrm>
          <a:custGeom>
            <a:avLst/>
            <a:gdLst>
              <a:gd name="textAreaLeft" fmla="*/ 0 w 1447560"/>
              <a:gd name="textAreaRight" fmla="*/ 1447920 w 144756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814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049480" y="5303880"/>
            <a:ext cx="3495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urn arou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029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686960" y="5334120"/>
            <a:ext cx="495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ouch the grou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39080" cy="51814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379880" y="5334120"/>
            <a:ext cx="552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each high and lo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334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048400" y="5303880"/>
            <a:ext cx="4547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Go fast, go slo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6240" y="6033960"/>
            <a:ext cx="129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a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06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2049480" y="5303880"/>
            <a:ext cx="383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Go in and ou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5T11:16:53Z</dcterms:created>
  <dc:creator/>
  <dc:description/>
  <dc:language>en-US</dc:language>
  <cp:lastModifiedBy>微软用户</cp:lastModifiedBy>
  <dcterms:modified xsi:type="dcterms:W3CDTF">2017-05-05T07:11:52Z</dcterms:modified>
  <cp:revision>6</cp:revision>
  <dc:subject/>
  <dc:title/>
</cp:coreProperties>
</file>