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7C2-0ED3-41E3-92A8-A816AFFD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20E-A976-4EEC-BEF2-E3C4952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3D0-2207-4396-8C54-8C21372E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4AC-16BC-4352-9E5C-A3874F2E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C5F-A450-4783-A206-318D537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BCE-64D3-424E-9A70-6792FA0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4DFC-8CBD-4C55-B3A5-90BA328D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B10B-B5D4-4639-98B6-858352B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161-919D-491F-AF46-006937D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1ED-E6FD-40B9-8CFD-3FA02644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915-4F17-4BFC-B6CF-2C1020F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AA9-AA59-47B6-BB75-372267C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0508-99E9-4D92-83AF-529C735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D50D-C966-4383-93A4-328F651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D504-7C98-4B38-ACF1-42B532D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BF3-4055-4F2E-BE36-B10B5922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8D52-270B-4314-9E65-19A5D5DA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4E45-871F-428A-917E-3A7E9095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60C9-34E1-45EF-9E19-EA038E90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ACBE-1DAA-4841-B28E-6625D408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B7B8-2EF5-4900-93A8-FFB6E948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C733-3E11-4410-9A40-F18E6A35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D7B-FA7E-49D5-80FA-9E89442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B95A-65DF-436D-AB39-5F93DDEE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CE61-642C-4A16-A8E6-9DF5168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FBFC-7091-46D0-8F76-F0D5E88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AA18-D6A4-4140-A9EA-223F6F7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27B0-6455-4A17-911C-647A87A0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9B7D-3A02-41F1-9C9A-A755B04D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30B0-2F94-4DB3-89A1-62A97EE9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D39-DCA2-4129-A007-2A74C8F7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9E4-9A67-4821-A587-CF4F033E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841-6E04-4A07-972B-A4089AC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9EF-0CEC-4F09-ACEC-24ED78E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558-8528-4D95-9C14-EFA3E450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23F-27E2-41D4-9B08-54E0D41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A03-F88A-4F1C-9550-BFBB33F889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65B3-A673-4649-AB82-0720F6FEFC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A08-CA68-4557-9FD8-5087171927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48006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kirt and Tro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What is he/she wearing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,He is wearing a green swe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,She is wearing a pink and purple ski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,She is wearing a pink and white bl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, He is wearing blue trous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let's play:Who is i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,She is wearing a pink bl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, She is wearing a purple ski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造句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)make a sent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穿着一件白色的裙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穿着一件紫色的毛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穿着一件蓝色的衬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穿着一件粉色的裤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穿着紫色和白色的毛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2T03:43:33Z</dcterms:created>
  <dc:creator/>
  <dc:description/>
  <dc:language>en-US</dc:language>
  <cp:lastModifiedBy>微软用户</cp:lastModifiedBy>
  <dcterms:modified xsi:type="dcterms:W3CDTF">2017-05-05T06:38:47Z</dcterms:modified>
  <cp:revision>3</cp:revision>
  <dc:subject/>
  <dc:title/>
</cp:coreProperties>
</file>