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3D0-0733-44A9-B5E2-ED0B6EF2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208-D4FE-4213-B935-88DFA0E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FFA-9264-42FE-AC84-A9DB788E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AF0-7027-4511-9879-C3B89BFE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1B13-1E67-4ADA-B59A-A18387CB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E02-8E5D-45BF-BE03-CD2C4E6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B519-E3A6-4522-8C83-1EB5EE6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703-E47D-427E-BBAF-43D155E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1592-8943-44EC-909F-318E7F03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ECA1-91A0-48FE-AD17-521E68C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EEAB-D230-4E90-BFBD-CD4FE08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9FB-A3F6-4ADB-A067-F11CF60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A32-CCB8-4A98-B594-24DEAF3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6618-6B37-4A3F-82CE-9EE015F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AEDF-14D6-472E-95DC-62D3452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03DC-F299-42B8-BBA3-EFA9B618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A04-9B6E-40FD-A9DA-326D7062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ED33-8901-404C-8BB2-72E0BFC9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B442-8DEB-4CCE-8CCC-995773E3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941F-A0A8-4AA4-A1AF-5B816D7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E1EA-5D3D-4139-9672-3716494E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DDB4-0DB4-4591-B978-C109FE50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C68-981E-44C0-9190-734476E0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EE1C-9D59-450B-8BB9-221937DC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E76F-A6FF-4CD7-9209-6E85F10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AEAE-462C-4581-99A9-39147A4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E3F7-9AA5-4511-A8EA-E4F608F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E1C7-6C6A-4563-B074-A9AACB7D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044E-E875-45FB-BABF-A5C6AD7A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F227-6511-4F5E-83F0-089433AA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675-05C8-460B-B58A-21035D59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EDA-F755-40E1-861E-463C646C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E0E-758D-407C-AA2B-A09C71A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F1C-BD1B-4EA9-B2E2-DDCBF70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058-4A66-460A-AD50-CED9AE7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F13-8F57-43E4-A4AE-F2F48175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585A-D98A-44B1-80C7-C023FDCDD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D89E-B0DF-4833-ACFC-EBD78602EA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139F-544F-463E-85CC-F2EB7A5CA1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50920" y="1125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Lesson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205000"/>
            <a:ext cx="68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At the Sh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87640" cy="388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580000" y="836640"/>
            <a:ext cx="333396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71640" y="4221000"/>
            <a:ext cx="3095640" cy="1584360"/>
          </a:xfrm>
          <a:prstGeom prst="wedgeEllipseCallout">
            <a:avLst>
              <a:gd name="adj1" fmla="val 80050"/>
              <a:gd name="adj2" fmla="val -194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ere they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810400" y="260280"/>
            <a:ext cx="3333600" cy="439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2583000" cy="3527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11280" y="1844640"/>
            <a:ext cx="3384720" cy="1224000"/>
          </a:xfrm>
          <a:prstGeom prst="wedgeRectCallout">
            <a:avLst>
              <a:gd name="adj1" fmla="val 72842"/>
              <a:gd name="adj2" fmla="val 29898"/>
            </a:avLst>
          </a:prstGeom>
          <a:solidFill>
            <a:srgbClr val="cccc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Yes? May I help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692280"/>
            <a:ext cx="3311280" cy="936360"/>
          </a:xfrm>
          <a:prstGeom prst="wedgeEllipseCallout">
            <a:avLst>
              <a:gd name="adj1" fmla="val -35620"/>
              <a:gd name="adj2" fmla="val 208305"/>
            </a:avLst>
          </a:prstGeom>
          <a:solidFill>
            <a:srgbClr val="cc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xcus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4221000"/>
            <a:ext cx="3744720" cy="1513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’s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ce cr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333600" cy="4394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0920" y="907920"/>
            <a:ext cx="4968720" cy="4321440"/>
          </a:xfrm>
          <a:prstGeom prst="wedgeEllipseCallout">
            <a:avLst>
              <a:gd name="adj1" fmla="val 67986"/>
              <a:gd name="adj2" fmla="val 1291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ce crea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’m sorr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his shop 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ho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oth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y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nd bik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o ice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6864480" cy="6866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476280"/>
            <a:ext cx="453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现在准备属于你自己的对话吧，加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40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60360" y="1557360"/>
            <a:ext cx="314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kirt     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weater      coat         cap          scarf        dress      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gloves    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hirt       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429264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appl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pear  orange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water   me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7520" y="1887480"/>
            <a:ext cx="258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doll    t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ball   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333360"/>
            <a:ext cx="52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Arial"/>
              </a:rPr>
              <a:t>clothes s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9080" y="620640"/>
            <a:ext cx="31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toy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4941720"/>
            <a:ext cx="166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Arial"/>
              </a:rPr>
              <a:t>fruit 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202680" cy="684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413080" y="3068640"/>
            <a:ext cx="3743280" cy="3745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36720" y="836640"/>
            <a:ext cx="568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Arial"/>
              </a:rPr>
              <a:t>Good 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45680" y="1011240"/>
            <a:ext cx="16426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记得要想我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0000" y="112536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8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th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449440" cy="2449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3284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016000" cy="1938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48000" y="3284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sk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1576440" cy="2232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724360" y="3284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887560" cy="367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1280" y="4221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ro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987640" y="549360"/>
            <a:ext cx="2881440" cy="2881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76720" y="3789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—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67280" y="62064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00720" y="3716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w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79280" y="260280"/>
            <a:ext cx="3562200" cy="3565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400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549360"/>
            <a:ext cx="2473200" cy="331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35280" y="4005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ca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371760" cy="285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940360" y="3860640"/>
            <a:ext cx="295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3933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lo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024360" cy="243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63640" y="35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16360" y="76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51280" y="3429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h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651640" y="1052640"/>
            <a:ext cx="3205080" cy="2371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72360" y="3429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1969920" cy="2637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843280" y="501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6922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复习了衣服，那么，怎么来买衣服呢，一起来学习吧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e 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012000" cy="4680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8000" y="5013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At  the  sho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商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323040" y="0"/>
            <a:ext cx="2820960" cy="3716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00360" y="404640"/>
            <a:ext cx="3095640" cy="1368720"/>
          </a:xfrm>
          <a:prstGeom prst="wedgeRoundRectCallout">
            <a:avLst>
              <a:gd name="adj1" fmla="val 88361"/>
              <a:gd name="adj2" fmla="val 54523"/>
              <a:gd name="adj3" fmla="val 16667"/>
            </a:avLst>
          </a:prstGeom>
          <a:solidFill>
            <a:srgbClr val="cccc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y 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8000" y="2060640"/>
            <a:ext cx="245412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19640" y="3933720"/>
            <a:ext cx="4392360" cy="2087640"/>
          </a:xfrm>
          <a:prstGeom prst="wedgeRoundRectCallout">
            <a:avLst>
              <a:gd name="adj1" fmla="val -72625"/>
              <a:gd name="adj2" fmla="val 3310"/>
              <a:gd name="adj3" fmla="val 16667"/>
            </a:avLst>
          </a:prstGeom>
          <a:solidFill>
            <a:srgbClr val="cccc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es ,please. I want to buy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es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Where are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ess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32560" y="26028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71640" y="404640"/>
            <a:ext cx="3743280" cy="2374920"/>
          </a:xfrm>
          <a:prstGeom prst="cloudCallout">
            <a:avLst>
              <a:gd name="adj1" fmla="val 68787"/>
              <a:gd name="adj2" fmla="val 38435"/>
            </a:avLst>
          </a:prstGeom>
          <a:solidFill>
            <a:srgbClr val="cccc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show you. This way ,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8000" y="3573360"/>
            <a:ext cx="3598920" cy="2729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95640" y="4726080"/>
            <a:ext cx="4535640" cy="1439640"/>
          </a:xfrm>
          <a:custGeom>
            <a:avLst/>
            <a:gdLst>
              <a:gd name="textAreaLeft" fmla="*/ 0 w 4535640"/>
              <a:gd name="textAreaRight" fmla="*/ 4536000 w 4535640"/>
              <a:gd name="textAreaTop" fmla="*/ 186480 h 1439640"/>
              <a:gd name="textAreaBottom" fmla="*/ 1253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 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5373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52:43Z</dcterms:created>
  <dc:creator/>
  <dc:description/>
  <cp:keywords/>
  <dc:language>en-US</dc:language>
  <cp:lastModifiedBy>微软用户</cp:lastModifiedBy>
  <dcterms:modified xsi:type="dcterms:W3CDTF">2017-05-22T07:30:17Z</dcterms:modified>
  <cp:revision>9</cp:revision>
  <dc:subject/>
  <dc:title/>
</cp:coreProperties>
</file>