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C11-6513-4789-8F54-6DD8642D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E79-FA22-4FA3-B842-AA932290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4E7-9A35-4214-B831-B6F7A9C7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559-A7D8-4297-B4F6-6C2F3346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9F9E-7BFB-466D-910F-1290708E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BE6F-D69B-4D2A-92B9-69AFEEEE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95E9-CFE1-45AE-B0A8-157F4642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CFA7-42F7-4D77-BD44-BD148E9F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3FCB-E023-4967-8B1C-F55BE758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B53F-7327-4775-8445-7AEAA54E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035A-1EBE-4293-AEBF-DC360EEC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511-649A-42C9-9982-5B05616D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9DF0-5499-4E91-8C9C-67A1DFD7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188C-8404-42FA-8784-090E36A3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FB71-C94D-4DC0-AAE6-1AFF8EEA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EBA8-49D9-41B4-81AF-68ECFBC5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E609-9B7A-4329-8380-7E7E6E04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0245C-1C16-4B1B-B454-F5445E8C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965B-5757-4B08-AFB9-A64CEB8D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3DDDD-5F70-464B-A41A-A20C01D8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AD43-A065-433D-8DD2-2A35AA48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4F15-E636-4384-AD3C-F5734730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E6B-F0C1-4C6C-9B82-0C48643F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8AB8-5AA7-437E-86AB-37C7CE28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D67C-5AE8-41E3-83D2-1E1C89F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90810-F514-4D66-A86C-746BE522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CE895-9305-4109-9E6B-B66F66A0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BCC82-8CD3-4BFE-8D8D-8446CB1E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1EC38-70CB-4D5D-9837-ECA05806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1A596-DAFF-4904-B57C-DF15597C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EF8-9632-4A48-981C-461484E9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7FC-AF10-40D8-B7FB-11DF7451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694-7572-422C-99D1-15D4584A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2AF-5BE4-4AE9-9D9A-E1AEDDD8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1BC-4E79-4D2B-9B06-6AD41D8F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10A-B2D5-4549-ACBE-362B2FF7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6F28-E439-4DAE-8E07-B696EB8DF3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C7C6-3CDA-44C8-9726-C3BD0EAACA3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B753-A5F4-4A98-AF7B-CEF5D97E8BC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710440" y="2781360"/>
            <a:ext cx="40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Unit 3 Let's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grpSp>
        <p:nvGrpSpPr>
          <p:cNvPr id="138" name="AutoShape 2"/>
          <p:cNvGrpSpPr/>
          <p:nvPr/>
        </p:nvGrpSpPr>
        <p:grpSpPr>
          <a:xfrm>
            <a:off x="1390680" y="895320"/>
            <a:ext cx="3278160" cy="531720"/>
            <a:chOff x="1390680" y="895320"/>
            <a:chExt cx="3278160" cy="531720"/>
          </a:xfrm>
        </p:grpSpPr>
        <p:pic>
          <p:nvPicPr>
            <p:cNvPr id="139" name="AutoShape 2" descr=""/>
            <p:cNvPicPr/>
            <p:nvPr/>
          </p:nvPicPr>
          <p:blipFill>
            <a:blip r:embed="rId2"/>
            <a:stretch/>
          </p:blipFill>
          <p:spPr>
            <a:xfrm>
              <a:off x="1390680" y="895320"/>
              <a:ext cx="327816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03280" y="974880"/>
              <a:ext cx="3251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549800" y="184464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Lesson 15     In the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477080" y="2781360"/>
            <a:ext cx="170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543640" y="2220840"/>
            <a:ext cx="21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645080" y="256536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go stra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476360" y="623736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urn le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788000" y="61657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urn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rcRect l="0" t="0" r="0" b="4408"/>
          <a:stretch/>
        </p:blipFill>
        <p:spPr>
          <a:xfrm>
            <a:off x="684360" y="333360"/>
            <a:ext cx="3627360" cy="230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rcRect l="0" t="0" r="0" b="12510"/>
          <a:stretch/>
        </p:blipFill>
        <p:spPr>
          <a:xfrm>
            <a:off x="4861080" y="260280"/>
            <a:ext cx="3396960" cy="201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3"/>
          <a:stretch/>
        </p:blipFill>
        <p:spPr>
          <a:xfrm>
            <a:off x="1116000" y="371808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06560" y="333360"/>
            <a:ext cx="5845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xcuse me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an you help m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'm lost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ere's the z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Go straigh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turn lef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re 's the z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Th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You are welcom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4284720" y="2997360"/>
            <a:ext cx="46022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01440" y="1844640"/>
            <a:ext cx="74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Lesson 16  Cars and B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901800" y="2637000"/>
            <a:ext cx="60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go to school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by bik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39640" y="566100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go to the zoo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by taxi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332000" y="117360"/>
            <a:ext cx="3609720" cy="2419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692360" y="3429000"/>
            <a:ext cx="351468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901080" y="2997360"/>
            <a:ext cx="785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go to the restaurant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by car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620720" y="5877000"/>
            <a:ext cx="55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go home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by bu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3627360" cy="241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2629080" y="3860640"/>
            <a:ext cx="32749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5581800" y="907920"/>
            <a:ext cx="2950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wen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wenty-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wenty-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wenty-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wenty-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wenty-f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wenty-s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wenty-se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wenty-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wenty-n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058760" y="1193760"/>
            <a:ext cx="39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20-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054880" y="198900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Lesson 17  I am l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4790520" y="1844640"/>
            <a:ext cx="4001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Red is s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Yellow is wa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Green is g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828720" y="333360"/>
            <a:ext cx="2476440" cy="35226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757080" y="22334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755640" y="2276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黄灯亮了等一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84360" y="429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raffic 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AutoShape 2"/>
          <p:cNvGrpSpPr/>
          <p:nvPr/>
        </p:nvGrpSpPr>
        <p:grpSpPr>
          <a:xfrm>
            <a:off x="1255680" y="853920"/>
            <a:ext cx="3279960" cy="530280"/>
            <a:chOff x="1255680" y="853920"/>
            <a:chExt cx="3279960" cy="530280"/>
          </a:xfrm>
        </p:grpSpPr>
        <p:pic>
          <p:nvPicPr>
            <p:cNvPr id="206" name="AutoShape 2" descr=""/>
            <p:cNvPicPr/>
            <p:nvPr/>
          </p:nvPicPr>
          <p:blipFill>
            <a:blip r:embed="rId1"/>
            <a:stretch/>
          </p:blipFill>
          <p:spPr>
            <a:xfrm>
              <a:off x="1255680" y="853920"/>
              <a:ext cx="32799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270080" y="930240"/>
              <a:ext cx="32511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3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571680" y="1887480"/>
            <a:ext cx="8299440" cy="89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91661ef7fc97310ebc982"/>
          <p:cNvPicPr/>
          <p:nvPr/>
        </p:nvPicPr>
        <p:blipFill>
          <a:blip r:embed="rId2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aqst_manyangyang"/>
          <p:cNvPicPr/>
          <p:nvPr/>
        </p:nvPicPr>
        <p:blipFill>
          <a:blip r:embed="rId3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ast_meiyangyang"/>
          <p:cNvPicPr/>
          <p:nvPr/>
        </p:nvPicPr>
        <p:blipFill>
          <a:blip r:embed="rId4"/>
          <a:stretch/>
        </p:blipFill>
        <p:spPr>
          <a:xfrm>
            <a:off x="569880" y="185904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ast_xiyangyang"/>
          <p:cNvPicPr/>
          <p:nvPr/>
        </p:nvPicPr>
        <p:blipFill>
          <a:blip r:embed="rId5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ast_langyangyang"/>
          <p:cNvPicPr/>
          <p:nvPr/>
        </p:nvPicPr>
        <p:blipFill>
          <a:blip r:embed="rId6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6"/>
          <p:cNvSpPr/>
          <p:nvPr/>
        </p:nvSpPr>
        <p:spPr>
          <a:xfrm>
            <a:off x="1700280" y="2886120"/>
            <a:ext cx="7016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星期六下午，我喜欢和朋友们一起玩耍。我们一起放风筝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1700280" y="3776760"/>
            <a:ext cx="70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 play  with  jenny’s  skipping  rope. I  like  to  jump  rop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1687680" y="4968720"/>
            <a:ext cx="70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一起玩珍妮的跳绳，我喜欢跳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  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49800" y="184464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Lesson 13     A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96720" y="2852640"/>
            <a:ext cx="3451320" cy="2592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252360" y="117360"/>
            <a:ext cx="2664000" cy="1920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6084720" y="4437000"/>
            <a:ext cx="2837160" cy="2086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4"/>
          <a:stretch/>
        </p:blipFill>
        <p:spPr>
          <a:xfrm>
            <a:off x="5508720" y="44280"/>
            <a:ext cx="26636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6"/>
          <p:cNvSpPr/>
          <p:nvPr/>
        </p:nvSpPr>
        <p:spPr>
          <a:xfrm>
            <a:off x="762120" y="268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lank  fil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10476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____ Saturday  afternoons, I ____  ___                my  friends.  We  ___ 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e  _____  ____ Jenny’s   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I  like  to  jump  rop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e  ___  ____  ___ Li Ming’s ___. Then we  feel  ti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So  we  rest  and  read  our  books . Jenny  plays  with  her ___. saturday are  fu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01600" y="1073160"/>
            <a:ext cx="98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523200" y="1047600"/>
            <a:ext cx="31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play   w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4011480" y="1670040"/>
            <a:ext cx="27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fly     kit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1206360" y="2279520"/>
            <a:ext cx="33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play     w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5692680" y="2243160"/>
            <a:ext cx="36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t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195880" y="528948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do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1025640" y="3408480"/>
            <a:ext cx="39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play catch  w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6708600" y="3459240"/>
            <a:ext cx="14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6000" y="2133720"/>
            <a:ext cx="634680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Arial"/>
              </a:rPr>
              <a:t>Thank you</a:t>
            </a:r>
            <a:r>
              <a:rPr b="0" lang="zh-CN" sz="8000" spc="-1" strike="noStrike">
                <a:solidFill>
                  <a:srgbClr val="008000"/>
                </a:solidFill>
                <a:latin typeface="Arial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844720" y="1197000"/>
            <a:ext cx="6048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ook,this is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m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our school is great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00440" y="285444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95240" y="3637080"/>
            <a:ext cx="773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41720" y="5081760"/>
            <a:ext cx="524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answe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is  her your he she you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044880" y="193680"/>
            <a:ext cx="56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，这是我的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的学校很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79280" y="117360"/>
            <a:ext cx="338472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4790880" y="907920"/>
            <a:ext cx="2955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class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教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67280" y="5229360"/>
            <a:ext cx="20476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书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34920" y="44280"/>
            <a:ext cx="4495680" cy="3024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3637080" y="3284640"/>
            <a:ext cx="499896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132000" y="333360"/>
            <a:ext cx="5832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school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学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去学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67640" y="5229360"/>
            <a:ext cx="35715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playgrou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操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392720" cy="3978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4356000" y="3645000"/>
            <a:ext cx="43322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78920" y="476280"/>
            <a:ext cx="817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xcuse me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here i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e computer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 can show yo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re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在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46160" y="4789440"/>
            <a:ext cx="71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answ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Where is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Where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708360" y="1197000"/>
            <a:ext cx="4851360" cy="32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549080" y="1844640"/>
            <a:ext cx="711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Lesson 14     Near and F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72040" y="620640"/>
            <a:ext cx="441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附近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492360" y="549360"/>
            <a:ext cx="17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657360" y="1763640"/>
            <a:ext cx="514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 Ming is near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12640" y="2349360"/>
            <a:ext cx="152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68360" y="342900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远的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198520" y="3247920"/>
            <a:ext cx="172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f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41440" y="4373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w Li Ming is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far fro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5510160" y="3213000"/>
            <a:ext cx="3527640" cy="266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2"/>
          <a:stretch/>
        </p:blipFill>
        <p:spPr>
          <a:xfrm>
            <a:off x="5292720" y="476280"/>
            <a:ext cx="36273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684360" y="476280"/>
            <a:ext cx="30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949320" y="666720"/>
            <a:ext cx="6288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cuse me,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re's the librar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can show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s it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far fro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, it'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Let me help yo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This wa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969080" cy="37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02:27:55Z</dcterms:created>
  <dc:creator/>
  <dc:description/>
  <dc:language>en-US</dc:language>
  <cp:lastModifiedBy>微软用户</cp:lastModifiedBy>
  <dcterms:modified xsi:type="dcterms:W3CDTF">2017-05-22T07:17:21Z</dcterms:modified>
  <cp:revision>5</cp:revision>
  <dc:subject/>
  <dc:title/>
</cp:coreProperties>
</file>