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wmf" ContentType="image/x-wmf"/>
  <Override PartName="/ppt/media/image13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9A5-1589-4140-A46A-0973BB715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0F7E-B418-4586-A285-8DBEB1FB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4379-11D4-4EE7-BC1D-0E762D79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9482-82E8-4C32-979E-F52BA424A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381A-F399-4357-A16A-63C237A9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21D2-7258-42AD-A06D-B13C3B2F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A9AB-89CB-4FB2-B04B-2804D912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D715-74AD-49FF-9173-4C7C050F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A89A-A013-4026-B7F3-053866E3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DBAD-46AE-40DD-9550-8A663ED4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3603-DE69-4606-89EA-1C048A83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E63B-1A9D-4264-95FB-7CAFA6DC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0CAB-2B31-412E-BEAA-5A2C33A9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434C-626D-46B8-9F80-ACE65BD4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536D-D098-4761-BB0B-5745578B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9200-1281-4EBE-A611-9B7638EE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CAAD-AB51-4DE3-A5B2-BF5026FF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8612D-01CA-47F5-964A-3B506ED6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23A93-D16D-4ACA-8F74-2309C567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9DDD0-682B-4AFE-87EF-BDC113C2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5F3D0-A808-4936-8534-CCE86CFC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8B67F-A3C5-49A7-9FCB-A108D837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CC02-A92C-4294-A857-C3F72FC9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2B6CF-D95A-4D91-BCF1-BCE08BC9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6E53C-5282-4801-A3B1-E453E580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C4A7C-0BAA-4DAA-B36B-F7BA8679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3000A-586D-4C19-B18A-67FE6898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7A24C-D453-4F6D-8662-CC4164AF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2BE48-809D-450B-9AEE-2F479E80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67033-0F21-498E-B218-2D677BA3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5451-6538-4157-BD37-CE43921E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3F69-23C7-416B-8DCB-23932F19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177D-F654-4DE5-9CB0-E680FDAF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3F91-5F7C-40E1-93BB-47047576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1B63-B457-4F19-ADC2-2174D6AB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7B1A-C2C3-40D5-B5B4-618A0D19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1139-D07D-4036-81EC-6C61477B80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29A9-0FF7-42AC-B1EB-DE66C0DF9AE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EEE1-0447-4B3D-88F3-8BED6373F40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576000" cy="7199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332000" y="2060640"/>
            <a:ext cx="7812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Lesson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Arial"/>
              </a:rPr>
              <a:t>Skirt and Trous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692360" y="422100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Arial"/>
              </a:rPr>
              <a:t>What is he doing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79640" y="558972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Arial"/>
              </a:rPr>
              <a:t>He is playing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258920" y="549360"/>
            <a:ext cx="662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Arial"/>
              </a:rPr>
              <a:t>What is he doing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1989000"/>
            <a:ext cx="62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He is eating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95280" y="2997360"/>
            <a:ext cx="748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Arial"/>
              </a:rPr>
              <a:t>What is she doing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4653000"/>
            <a:ext cx="676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She is standing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79280" y="18900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What are they doing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1628640"/>
            <a:ext cx="72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They are eating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8532720" cy="4408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68360" y="4508640"/>
            <a:ext cx="828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Arial"/>
              </a:rPr>
              <a:t>What is he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wear</a:t>
            </a:r>
            <a:r>
              <a:rPr b="1" lang="en-US" sz="6000" spc="-1" strike="noStrike">
                <a:solidFill>
                  <a:srgbClr val="ff3399"/>
                </a:solidFill>
                <a:latin typeface="Arial"/>
              </a:rPr>
              <a:t>ing </a:t>
            </a:r>
            <a:r>
              <a:rPr b="1" lang="zh-CN" sz="6000" spc="-1" strike="noStrike">
                <a:solidFill>
                  <a:srgbClr val="ff3399"/>
                </a:solidFill>
                <a:latin typeface="Arial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445000"/>
            <a:ext cx="90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e is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wear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ng a blue 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shirt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6481800" cy="44211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55640" y="4581360"/>
            <a:ext cx="81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What is he 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wear</a:t>
            </a: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ing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5589720"/>
            <a:ext cx="84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Arial"/>
              </a:rPr>
              <a:t>He is 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wear</a:t>
            </a:r>
            <a:r>
              <a:rPr b="1" lang="en-US" sz="5400" spc="-1" strike="noStrike">
                <a:solidFill>
                  <a:srgbClr val="ff3399"/>
                </a:solidFill>
                <a:latin typeface="Arial"/>
              </a:rPr>
              <a:t>ing a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weater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ree little teddy bea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ld Macdonald had a far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41672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3772080" y="3119400"/>
            <a:ext cx="160020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Colour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80360" cy="4751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1763640" y="2997360"/>
            <a:ext cx="52578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Little cat goes fish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32000" y="476280"/>
            <a:ext cx="72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Arial"/>
              </a:rPr>
              <a:t>What is it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19280" y="1916280"/>
            <a:ext cx="669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Arial"/>
              </a:rPr>
              <a:t>It is an appl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132000" y="306864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835280" y="189000"/>
            <a:ext cx="554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Arial"/>
              </a:rPr>
              <a:t>What are the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19280" y="1484280"/>
            <a:ext cx="69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They are apple</a:t>
            </a:r>
            <a:r>
              <a:rPr b="1" lang="en-US" sz="6000" spc="-1" strike="noStrike">
                <a:solidFill>
                  <a:srgbClr val="00cc00"/>
                </a:solidFill>
                <a:latin typeface="Arial"/>
              </a:rPr>
              <a:t>s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60280"/>
            <a:ext cx="64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What is it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32720" y="5084640"/>
            <a:ext cx="21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ff"/>
                </a:solidFill>
                <a:latin typeface="Arial"/>
              </a:rPr>
              <a:t>skir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773360"/>
            <a:ext cx="54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It is a skir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627280" y="2852640"/>
            <a:ext cx="3313080" cy="311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60720" y="1413000"/>
            <a:ext cx="4006800" cy="3006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708360" y="5084640"/>
            <a:ext cx="37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cc"/>
                </a:solidFill>
                <a:latin typeface="Arial"/>
              </a:rPr>
              <a:t>sweat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8900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What is it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484280"/>
            <a:ext cx="583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It is a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3399"/>
                </a:solidFill>
                <a:latin typeface="Arial"/>
              </a:rPr>
              <a:t>sweater</a:t>
            </a:r>
            <a:r>
              <a:rPr b="1" lang="en-US" sz="66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56360" cy="4149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203640" y="5445000"/>
            <a:ext cx="266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ff"/>
                </a:solidFill>
                <a:latin typeface="Arial"/>
              </a:rPr>
              <a:t>shir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57680" y="0"/>
            <a:ext cx="4486320" cy="45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9640" y="5300640"/>
            <a:ext cx="28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cc"/>
                </a:solidFill>
                <a:latin typeface="Arial"/>
              </a:rPr>
              <a:t>pan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404640"/>
            <a:ext cx="648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What are they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2276640"/>
            <a:ext cx="66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They are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cc00"/>
                </a:solidFill>
                <a:latin typeface="Arial"/>
              </a:rPr>
              <a:t>pants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710400" y="836640"/>
            <a:ext cx="2433600" cy="49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692360" y="5229360"/>
            <a:ext cx="53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blous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5280" y="260280"/>
            <a:ext cx="3745080" cy="366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1125360"/>
            <a:ext cx="3745080" cy="366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1989000"/>
            <a:ext cx="3745080" cy="366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2852640"/>
            <a:ext cx="3745080" cy="366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3716280"/>
            <a:ext cx="3745080" cy="36684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4581360"/>
            <a:ext cx="37450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5445000"/>
            <a:ext cx="374508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6165720"/>
            <a:ext cx="3745080" cy="3668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0"/>
            <a:ext cx="219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67280" y="836640"/>
            <a:ext cx="20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170028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56536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40360" y="335772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r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429264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40360" y="508464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587700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22:20:16Z</dcterms:created>
  <dc:creator/>
  <dc:description/>
  <cp:keywords/>
  <dc:language>en-US</dc:language>
  <cp:lastModifiedBy>微软用户</cp:lastModifiedBy>
  <dcterms:modified xsi:type="dcterms:W3CDTF">2017-05-22T07:01:12Z</dcterms:modified>
  <cp:revision>15</cp:revision>
  <dc:subject/>
  <dc:title/>
</cp:coreProperties>
</file>