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8E0-F01B-4690-979B-6CBC2D4D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3B9-4CD4-445C-99CB-32EC72A2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3CB-66D1-4F33-9BBC-67C7FEC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A59-EF88-4EF0-A455-DC51F83F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AD6C-2495-4D9B-8D0E-57DD6EAA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CC10-7A11-40E2-BD42-DCB4809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9B2-1367-4CDB-9B0A-1DD7FBC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25B3-BDCF-4E4E-A8B3-2912337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DA16-0D09-4EED-8129-E557361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6B15-6D04-46D6-960C-1F029BA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F09D-FD22-469E-BDF3-28B1318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749-421D-4F00-957C-9FCDED4D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204D-9C7B-4C49-92FF-1856379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B610-5D62-4BD9-AEC1-6A9D888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6C3C-DC36-4190-9C39-B6A89D86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178-C22F-4DEF-B1FF-AB258AB8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9998-0ECF-4156-A58C-0D24F418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751A-D249-41CB-85B7-B60B77A2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3FB9-745B-4196-9A2D-BFB9E21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8ECF-1058-4F2D-88E9-8521FA07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25B5-34E5-4B93-B462-0A2A9E4B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68C3-0A3F-4F53-9360-F029712D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32-C6D3-4630-91DF-8FE164B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7BDE-97FB-40AD-9C65-EA0AD9E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598A-F5A7-472B-92DA-3D30DAA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8E33-6682-43C6-9677-30F8D0A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F22B-3A7A-4981-AA27-2A793D49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FDBA-6123-4AA8-BC78-0F3D4A9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654E-5DA4-419E-876F-14129E57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D932-5A83-47BA-8096-C1DBF8B0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41-F712-460E-BF5E-4895EA50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A85-31D4-4AF1-9A48-7FD89A3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1BB-9B63-4C1D-8589-E1DE96D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DF0-D1E2-451E-BBC9-92BF807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087-03BD-4E8C-9DA7-9354ACAE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20D-5960-4860-982E-E21CCE6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E5F9-E302-41E5-B8D9-8FBB422855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B4C2-98E7-448C-9021-155384FF80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76F-EABF-4065-BDF4-50B75E1E97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   skirt and tro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k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衬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-shirt    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weater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rousers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4120" y="947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7800" y="1752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412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1960" y="319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avourite  coulour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最喜欢的      颜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81080"/>
            <a:ext cx="1828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981080"/>
            <a:ext cx="19810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981080"/>
            <a:ext cx="1981080" cy="1447920"/>
          </a:xfrm>
          <a:prstGeom prst="rect">
            <a:avLst/>
          </a:prstGeom>
          <a:solidFill>
            <a:srgbClr val="f91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343400"/>
            <a:ext cx="1905120" cy="1676520"/>
          </a:xfrm>
          <a:prstGeom prst="rect">
            <a:avLst/>
          </a:prstGeom>
          <a:solidFill>
            <a:srgbClr val="f1f5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419720"/>
            <a:ext cx="1981080" cy="1676160"/>
          </a:xfrm>
          <a:prstGeom prst="rect">
            <a:avLst/>
          </a:prstGeom>
          <a:solidFill>
            <a:srgbClr val="2fdc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419720"/>
            <a:ext cx="1752480" cy="1676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657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5480" y="3597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8160" y="35971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4440" y="60958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48480" y="6111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9080" y="60958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 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  tro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 swe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 T-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  tro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e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是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a red skirt . I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一件红色的短裙。我喜欢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ese are yellow trousers . Yellow is my favourite colour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黄色的长裤。黄色是我最喜欢的颜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ar——wear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穿着     表示进行状态，正穿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is he wea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green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weate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一件绿色的毛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ite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T-sh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blue trous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蓝色长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yellow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k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黄短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32:06Z</dcterms:created>
  <dc:creator>Administrator</dc:creator>
  <dc:description/>
  <dc:language>en-US</dc:language>
  <cp:lastModifiedBy>微软用户</cp:lastModifiedBy>
  <dcterms:modified xsi:type="dcterms:W3CDTF">2017-06-23T02:36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