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57E-7222-4881-B9A9-67A20474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B134-02CB-4E7A-881B-D86EB680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D52-9599-4270-AAE9-3B538B37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0794-2F69-4AAE-826C-3E450D3D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952F-0597-4252-BEA3-A9248543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0686-D9EA-417A-B2A1-911ED1BC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2A73-19AE-44F7-8390-C7FD4991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FC52-7FD4-41D9-B5B5-5485E937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24D8-B81C-4877-9DC1-1061C232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BCA8-FB5E-4F59-B0EC-1135EACE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7D1D-F2AC-43A2-BFC4-EE586CC5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FD6C-10E1-4A66-B3B9-2B0CAB91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9FB3-8998-48BC-B43B-5D9CBA0F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F193-FACC-4C20-AE29-FF4512CC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8CE8-89E9-4C9B-AC7F-06BE2BE3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6050-88D3-4F83-BA3A-AB8F8D11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D9C4-5FC5-4DA9-A437-C87FF42C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D48A2-293A-4EEC-B1E4-376DA52C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EEC82-47F9-4A6C-BE9F-EA300874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CA84C-E267-4ACE-AC64-1A7C6446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1B083-B061-4BE5-9AAE-F9C00C5E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EF109-729B-4242-B714-54050C6C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E74-91DB-43DC-8F10-0CDF93FB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7AE03-D358-42AA-8C5B-47CFC506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7195A-C7A0-4249-BCB0-33F77644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2E581-4E6B-447A-9B9A-CAF309EF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D958B-8086-4138-9173-DEC2C315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6B3F4-584D-43B1-87A0-147C34AD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F43D9-E2D7-4E5B-AA00-E88E0CE6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B324F-E0C8-49B1-B2F3-D4DFBB37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5DD38-03F9-4772-BB08-4FB61CF6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5F9CA-BF4B-4C4D-ABD1-CE6B981F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A4366-3537-408F-8EE8-F66D4868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89BF-7D98-4278-A610-251D6901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72285-A7DA-4DD7-9699-B464D2EB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10690-54CE-4BEF-A985-34EF181A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BEF10-6DF9-420D-AD9A-EECD5285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058AA-E813-47E2-8CDE-B34D6781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ECE3C-5FAC-4EB7-A537-8BBE2DD2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0679A-D23C-434B-9121-D20EE4ED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8E482-F32F-4F37-AB9D-C5EFC2EA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E1714-1718-419C-8C0D-70EFA09A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A9D77-FE53-4486-A7E8-FDEB1123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34CA-6BE7-4870-BA63-A25D1BCC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2CA-CE22-45D0-A2D6-6626ABFC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012-DB2E-4FE1-924B-CB5E8677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CF21-AF5B-48D2-841C-73AA3BF7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0B7C-0990-4EF3-912F-E9D420E1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84C6-8B60-4EB3-B098-4D422C96C8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9FB2-AF33-4B1A-9EF9-F274244116C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987A-BC53-459A-A9E6-7780AA70560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53E3-3570-486D-B670-B26905A7B2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7621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冀教版四年英语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74320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Lesson 4 Shoes and S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898560"/>
            <a:ext cx="4419720" cy="5961240"/>
            <a:chOff x="0" y="898560"/>
            <a:chExt cx="4419720" cy="596124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0" y="898560"/>
              <a:ext cx="44197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09480" y="5851440"/>
              <a:ext cx="3024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skir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572000" y="898560"/>
            <a:ext cx="3809880" cy="5961240"/>
            <a:chOff x="4572000" y="898560"/>
            <a:chExt cx="3809880" cy="596124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4572000" y="898560"/>
              <a:ext cx="380988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638680" y="5851440"/>
              <a:ext cx="1981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6600cc"/>
                  </a:solidFill>
                  <a:latin typeface="Times New Roman"/>
                </a:rPr>
                <a:t>dres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04920" y="3808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Part 1 What are they wearing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304920"/>
            <a:ext cx="4427640" cy="5808600"/>
            <a:chOff x="0" y="304920"/>
            <a:chExt cx="4427640" cy="580860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0" y="304920"/>
              <a:ext cx="4427640" cy="50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85800" y="5410080"/>
              <a:ext cx="25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trouser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610160" y="1447920"/>
            <a:ext cx="4533840" cy="4665600"/>
            <a:chOff x="4610160" y="1447920"/>
            <a:chExt cx="4533840" cy="4665600"/>
          </a:xfrm>
        </p:grpSpPr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4610160" y="1447920"/>
              <a:ext cx="453384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172200" y="541008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cc"/>
                  </a:solidFill>
                  <a:latin typeface="Times New Roman"/>
                </a:rPr>
                <a:t>short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304920"/>
            <a:ext cx="4876920" cy="5549400"/>
            <a:chOff x="0" y="304920"/>
            <a:chExt cx="4876920" cy="554940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0" y="304920"/>
              <a:ext cx="487692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447920" y="502920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9900"/>
                  </a:solidFill>
                  <a:latin typeface="Times New Roman"/>
                </a:rPr>
                <a:t>shoe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876920" y="228600"/>
            <a:ext cx="4267080" cy="5717160"/>
            <a:chOff x="4876920" y="228600"/>
            <a:chExt cx="4267080" cy="571716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4876920" y="228600"/>
              <a:ext cx="426708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172200" y="5181480"/>
              <a:ext cx="1676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9900"/>
                  </a:solidFill>
                  <a:latin typeface="Times New Roman"/>
                </a:rPr>
                <a:t>sock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600200" y="5334120"/>
            <a:ext cx="6019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is wearing shorts. He is c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he is wearing a dress.She looks n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411480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1523880"/>
            <a:ext cx="3429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is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This is a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hirt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This is a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weater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This is a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kirt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This is a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dress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1523880"/>
            <a:ext cx="3886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are th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These are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rousers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These are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ocks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These are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horts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These are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hoes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533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Part 2 Let’s do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09480" y="45720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Part3 Are these his shorts? Is this her dr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523880"/>
          <a:ext cx="3274920" cy="4052880"/>
        </p:xfrm>
        <a:graphic>
          <a:graphicData uri="http://schemas.openxmlformats.org/drawingml/2006/table">
            <a:tbl>
              <a:tblPr/>
              <a:tblGrid>
                <a:gridCol w="1598400"/>
                <a:gridCol w="1676520"/>
              </a:tblGrid>
              <a:tr h="579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称代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y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h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s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4343400" y="3505320"/>
            <a:ext cx="4114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微软雅黑"/>
                <a:ea typeface="微软雅黑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am wearing a shi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is is </a:t>
            </a:r>
            <a:r>
              <a:rPr b="0" lang="en-US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avourite shi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03200" y="420840"/>
            <a:ext cx="27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et's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320" y="1447920"/>
            <a:ext cx="4898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re these his sho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No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Ye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1447920"/>
            <a:ext cx="363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Is this her d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No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Ye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295280" y="2590920"/>
            <a:ext cx="297180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fea8fe"/>
                    </a:gs>
                    <a:gs pos="100000">
                      <a:srgbClr val="ff00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Times New Roman"/>
              </a:rPr>
              <a:t>they aren't.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50000">
                    <a:srgbClr val="fea8fe"/>
                  </a:gs>
                  <a:gs pos="100000">
                    <a:srgbClr val="ff00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371600" y="3886200"/>
            <a:ext cx="23623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fe8efe"/>
                    </a:gs>
                    <a:gs pos="100000">
                      <a:srgbClr val="ff00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Times New Roman"/>
              </a:rPr>
              <a:t>they are.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50000">
                    <a:srgbClr val="fe8efe"/>
                  </a:gs>
                  <a:gs pos="100000">
                    <a:srgbClr val="ff00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095880" y="2590920"/>
            <a:ext cx="228600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ff6600"/>
                    </a:gs>
                    <a:gs pos="100000">
                      <a:srgbClr val="ff99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Times New Roman"/>
              </a:rPr>
              <a:t>it isn't.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50000">
                    <a:srgbClr val="ff6600"/>
                  </a:gs>
                  <a:gs pos="100000">
                    <a:srgbClr val="ff9933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248520" y="3809880"/>
            <a:ext cx="137160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ff6600"/>
                    </a:gs>
                    <a:gs pos="100000">
                      <a:srgbClr val="ff99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Times New Roman"/>
              </a:rPr>
              <a:t>it is.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50000">
                    <a:srgbClr val="ff6600"/>
                  </a:gs>
                  <a:gs pos="100000">
                    <a:srgbClr val="ff9933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3520" y="838080"/>
            <a:ext cx="3429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is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This is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88416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are th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These 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286000" y="2666880"/>
            <a:ext cx="2286000" cy="2819520"/>
            <a:chOff x="2286000" y="2666880"/>
            <a:chExt cx="2286000" cy="2819520"/>
          </a:xfrm>
        </p:grpSpPr>
        <p:sp>
          <p:nvSpPr>
            <p:cNvPr id="216" name=""/>
            <p:cNvSpPr/>
            <p:nvPr/>
          </p:nvSpPr>
          <p:spPr>
            <a:xfrm flipH="1">
              <a:off x="2286000" y="2666880"/>
              <a:ext cx="2286000" cy="2819520"/>
            </a:xfrm>
            <a:prstGeom prst="verticalScroll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14600" y="2879640"/>
              <a:ext cx="19810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Times New Roman"/>
                </a:rPr>
                <a:t>shir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Times New Roman"/>
                </a:rPr>
                <a:t>sweat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Times New Roman"/>
                </a:rPr>
                <a:t>skir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Times New Roman"/>
                </a:rPr>
                <a:t>dres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553080" y="2743200"/>
            <a:ext cx="2363760" cy="2819520"/>
            <a:chOff x="6553080" y="2743200"/>
            <a:chExt cx="2363760" cy="2819520"/>
          </a:xfrm>
        </p:grpSpPr>
        <p:sp>
          <p:nvSpPr>
            <p:cNvPr id="219" name=""/>
            <p:cNvSpPr/>
            <p:nvPr/>
          </p:nvSpPr>
          <p:spPr>
            <a:xfrm flipH="1">
              <a:off x="6553080" y="2743200"/>
              <a:ext cx="2363760" cy="2819520"/>
            </a:xfrm>
            <a:prstGeom prst="verticalScroll">
              <a:avLst>
                <a:gd name="adj" fmla="val 125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9440" y="3114720"/>
              <a:ext cx="18288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ff"/>
                  </a:solidFill>
                  <a:latin typeface="Times New Roman"/>
                </a:rPr>
                <a:t>trouser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ff"/>
                  </a:solidFill>
                  <a:latin typeface="Times New Roman"/>
                </a:rPr>
                <a:t>sock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ff"/>
                  </a:solidFill>
                  <a:latin typeface="Times New Roman"/>
                </a:rPr>
                <a:t>shor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ff"/>
                  </a:solidFill>
                  <a:latin typeface="Times New Roman"/>
                </a:rPr>
                <a:t>sho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00:31:59Z</dcterms:created>
  <dc:creator/>
  <dc:description/>
  <dc:language>en-US</dc:language>
  <cp:lastModifiedBy>微软用户</cp:lastModifiedBy>
  <dcterms:modified xsi:type="dcterms:W3CDTF">2017-06-23T02:49:2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Version">
    <vt:r8>1</vt:r8>
  </property>
</Properties>
</file>