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595-5988-4130-BE6F-D80B2F00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112-FF00-48E5-89BF-F302F9E7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B6D-D9F1-4E9A-B2F3-ED57E048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576-6210-448E-AB59-8546D7B7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3A7C-0E8E-4071-9165-7E389B48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5CF0-6067-4565-84BF-0A926AAC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E6B6-C88D-4FD9-8352-914A265B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B552-6B18-403E-AB0F-309EE4E3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12E6-E113-44FC-8983-C7D70370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A2CE-1FC1-4F51-9A54-463346C2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C640-D62B-45D3-96AD-1ECB475C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735-BD26-456F-9D7C-6C8AEE9B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773D-8E57-4469-AAF8-3831F3A5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2F59-61CF-4731-95DF-1587B349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A373-EAED-4242-A79F-A5560605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91B5-6112-4E71-840B-EBD86596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E669-C406-404F-A921-D005B25D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CF89-433D-4FF6-AA72-CA716CC0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CF505-BA94-419F-9C73-CE542AC3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4169-7B49-4052-A07A-E54D7241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3475-2743-4B9B-A285-0178820B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DB99-B0BC-4FA3-8800-21E74E85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9B0-0352-4743-9945-FC1DCDBE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B833C-4FEA-4E54-A910-E7813D69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A4FAA-4D94-4864-B88D-4B564E89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23CB-D03D-407A-92FE-37816DFF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D8152-01DE-4D3C-A694-F885A13D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262F2-BD56-4397-8AAF-B84CD6F8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7EA4C-B97E-4FAB-8369-8520AD84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27749-A8E9-47B5-91CA-0461269E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0A7-AF18-4453-BBEC-0DBC4715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A51-E745-4F2E-BF66-48E1B71D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C2C-B081-47A7-A131-5CF7FDA6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76D-52C0-4DD1-85B7-AE147AB6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E8F-E9B3-477E-9DC5-DB795C52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513-D542-4299-A3F7-B564898D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FE46-EA1D-447E-A12B-32F1FB9200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CDCE-ABC9-4AA0-8716-949D3B9B752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4D58-5412-404D-8DCD-C20956D5B9A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22093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19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Go Shopping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14400" y="2209680"/>
            <a:ext cx="7086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ank you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4997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657600" y="55627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Shop(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商店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362320" y="55627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衣服商店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)clothes 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624852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86200" y="-152280"/>
            <a:ext cx="3886200" cy="3301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231440" y="3124080"/>
            <a:ext cx="23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icycle shop(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自行车店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3200400" cy="2743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Toy shop(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玩具店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962520" y="3581280"/>
            <a:ext cx="3886200" cy="2632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258800" y="624852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Tea shop(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茶馆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hoverImg" descr=""/>
          <p:cNvPicPr/>
          <p:nvPr/>
        </p:nvPicPr>
        <p:blipFill>
          <a:blip r:embed="rId4"/>
          <a:stretch/>
        </p:blipFill>
        <p:spPr>
          <a:xfrm>
            <a:off x="457200" y="-228600"/>
            <a:ext cx="3352680" cy="2697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3520" y="2895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ook shop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书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609480"/>
            <a:ext cx="76201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A: What do you want to bu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你想买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B: Let’s go to the 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I want to buy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让我们去……我想买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9144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1905120"/>
            <a:ext cx="556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1447920"/>
            <a:ext cx="67816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hat does Jenny want to bu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he wants  to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hat shop does Jenny want to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he wants  to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hat does Danny want to bu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He wants to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423720"/>
            <a:ext cx="81532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hat do you want to bu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I want to buy a sh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I don’t want to buy a sh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let’ s  go shoppi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Let’s go to the clothes s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happy sheep and grey wo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喜洋洋与灰太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now White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白雪公主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oolong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乌龙茶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eddy bear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玩具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1295280"/>
            <a:ext cx="6629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  ch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hopping shop     shopping sh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购物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hopping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商店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h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Go shopping    Go to  a  shop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hop-ping in a s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76520" y="609480"/>
            <a:ext cx="70102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sson 19  let’s go sho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a shop  book sho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othes shop    toy sho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want  to buy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want to buy 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39:54Z</dcterms:created>
  <dc:creator/>
  <dc:description/>
  <dc:language>en-US</dc:language>
  <cp:lastModifiedBy>微软用户</cp:lastModifiedBy>
  <dcterms:modified xsi:type="dcterms:W3CDTF">2017-05-05T07:06:07Z</dcterms:modified>
  <cp:revision>2</cp:revision>
  <dc:subject/>
  <dc:title/>
</cp:coreProperties>
</file>