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15A-7139-404C-9968-7BE66CA8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E90-0BD9-4A8B-ACD2-B85CFE1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9E9-EB31-4735-AA19-89ADA6FB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4F6-7A06-4841-96F1-3F4E30E0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1DB1-254D-4C9E-B1B1-44143512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0137-C1EC-4AD1-9BC2-3E99870C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4012-E177-43DB-8BEA-DDAF0F3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A3D-A54F-4C87-B5A7-3478D0E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886-E528-4F15-8E73-EDFF378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EE03-DA5A-41A4-BCAE-922B546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3D0-B125-46AF-A545-D0DBC5E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626-3AC8-4BA8-8A3B-5EC82230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5536-18B5-49C8-8225-835DB4B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035-DEF0-42B7-90C1-DEE854C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6F2-F014-4B76-9170-BAC4F5DD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9DC2-6BA6-4F18-BF9C-208AB65B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82E-B36A-4BA0-A043-388D24C3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9E47-719A-43D6-944D-E46746F3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F923-5414-4A17-B44C-5F5ED2B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613C-3632-4B85-83EC-82A973F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1D50-90CF-49F1-AA3B-C072BFF6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3EE8-CE8B-4D9C-8089-7EE77144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DBF-25DE-4493-9F64-D2A97FB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10A6-5BC4-41A7-9BF8-A9C8EF0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B78D-70EF-49CC-A41D-F5C058A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C945-93DD-46F3-A338-300633C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0640-0EAC-4517-973F-AB4EDFE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00F5-865F-44C7-8F98-E1323793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31C2-8400-4B54-B70F-EA3DE55B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BFE2-2185-4421-8361-1D0C5A42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33D-6FA6-4EBD-9686-196FC3A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E22-F017-48F3-92E9-CCB886F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CE4-575D-4667-9866-0124737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32A-3DAF-4DC9-ADCC-9F30D6D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AC5-EA40-4616-9B04-8029C62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E77-B933-4D7E-91B0-4989DABF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CCDF-9D67-4E56-AFA4-DA0267DD0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D38F-0E7E-41F7-BC81-A4A02E9165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5C85-6882-487C-81C1-22168DA250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39;%B7%BB%B7%E7%F3%DD&amp;in=31380&amp;cl=2&amp;lm=-1&amp;pn=40&amp;rn=1&amp;di=8120240655&amp;ln=2000&amp;fr=&amp;fmq=&amp;ic=&amp;s=&amp;se=&amp;sme=0&amp;tab=&amp;width=&amp;height=&amp;face=&amp;is=&amp;istype=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esson 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42560" y="2924280"/>
            <a:ext cx="6729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6767ff"/>
                </a:solidFill>
                <a:latin typeface="Arial"/>
              </a:rPr>
              <a:t>Toy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9400" y="333000"/>
            <a:ext cx="44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8000"/>
                </a:solidFill>
                <a:latin typeface="Arial"/>
              </a:rPr>
              <a:t>2.Let’s do it 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200720" cy="345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341360"/>
            <a:ext cx="29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on Saturday, Je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141300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I read a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What do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67ff"/>
                </a:solidFill>
                <a:latin typeface="Arial"/>
              </a:rPr>
              <a:t>3.Letters and S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628640"/>
            <a:ext cx="16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1557360"/>
            <a:ext cx="208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u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1557360"/>
            <a:ext cx="16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e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1557360"/>
            <a:ext cx="172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143496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1800000" cy="2171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451640" y="386064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920" y="1052640"/>
            <a:ext cx="72010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0920" y="450864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767ff"/>
                </a:solidFill>
                <a:latin typeface="Arial"/>
              </a:rPr>
              <a:t>play with to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4968720" cy="38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9640" y="1197000"/>
            <a:ext cx="275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cc"/>
                </a:solidFill>
                <a:latin typeface="Arial"/>
              </a:rPr>
              <a:t>to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640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catch with a 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67480" y="901800"/>
            <a:ext cx="228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5840" y="4528800"/>
            <a:ext cx="712296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fly a k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89000"/>
            <a:ext cx="4465440" cy="3384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105264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ki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Answer my 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79280" y="3573360"/>
            <a:ext cx="849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2.What do Li Ming, Jenny and Danny do first?</a:t>
            </a:r>
            <a:r>
              <a:rPr b="1" lang="en-US" sz="44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94172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3.What do Li Ming, Jenny and Danny do l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08280"/>
            <a:ext cx="56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What da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151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67ff"/>
                </a:solidFill>
                <a:latin typeface="Arial"/>
              </a:rPr>
              <a:t>On Saturday, I play with my frien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408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465264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Arial"/>
              </a:rPr>
              <a:t>We fly k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4292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9900"/>
                </a:solidFill>
                <a:latin typeface="Arial"/>
              </a:rPr>
              <a:t>We play catch with a ball.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80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 read book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767ff"/>
                </a:solidFill>
                <a:latin typeface="Arial"/>
              </a:rPr>
              <a:t>Jenny play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767ff"/>
                </a:solidFill>
                <a:latin typeface="Arial"/>
              </a:rPr>
              <a:t>with her toys.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aturday is fun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32036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13:03Z</dcterms:created>
  <dc:creator/>
  <dc:description/>
  <dc:language>en-US</dc:language>
  <cp:lastModifiedBy>微软用户</cp:lastModifiedBy>
  <dcterms:modified xsi:type="dcterms:W3CDTF">2017-05-05T06:57:43Z</dcterms:modified>
  <cp:revision>3</cp:revision>
  <dc:subject/>
  <dc:title/>
</cp:coreProperties>
</file>