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38D-8885-48E7-A18B-CA661DB8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E08-F114-4555-9CB4-4850A58E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71B-72FF-4EEB-B096-509E55F3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8C5-FAEB-4F06-93B8-E51153A1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45B2-CFE0-4B60-953C-8982582E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6EEE-B1F3-4046-91B0-EE46908E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22DF-DEA3-4A73-A18B-89E4294E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52A7-FF3C-4E39-8CE1-D0FD1D21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6B08-5558-4233-9855-F229F4F3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1F42-AEAC-4903-B95D-4AE7FEFF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66F9-99E7-4A1D-8C41-604D6012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8B2-58F4-46DB-B1A0-BF3344A5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536F-E947-4C3D-A34A-E8945A30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E3D0-A396-4E47-AB21-978FE5F3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1CDE-96AD-4894-8596-0E48147D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36FC-3F0F-41F7-9FEA-8909AC98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A8B7-1FE7-47B1-807F-C541B9E5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5D245-0DB6-40EA-B7CB-915F9726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92F57-8476-43C4-AE37-9ACBED8F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F8D8D-6857-4084-8E96-7D9F3D4F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1995F-7ECF-44CF-A859-194E7AC2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9B170-A913-49C8-B2F2-443CCCC6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F47-B389-4324-BA68-434ACB71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017A6-70C4-4B59-AEF2-F7CCE762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B8138-82CF-4B0B-BE5D-2D90E57B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506E0-4B8C-4984-9354-A75235B6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D8675-05A0-4BE0-9E54-B401B19B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F6C1A-B796-44FE-9B34-50F7D868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62AC3-CAE0-418B-8EC9-7214B85C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95AA-7007-48EC-8099-2BB752B9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EA18-7C64-4D1A-B0F0-BDEAF341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CBE-DE6A-4439-A09A-4BBB9667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4DF-61B3-4E4A-85A2-493DFDE1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599-6742-40FE-B5FA-1A78DA6D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84B-6241-4C53-A753-10FC3D27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060C-E260-454D-B64B-0CCF9B70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B086-12B8-4603-830B-BCE6050CB9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D50B-37FC-4DBC-93C2-083414FD011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6608-8269-4450-A5D5-02532EBA4C6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95640" y="1413000"/>
            <a:ext cx="50036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Lesson 14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Near and Far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333360"/>
            <a:ext cx="9144000" cy="6524640"/>
            <a:chOff x="0" y="333360"/>
            <a:chExt cx="9144000" cy="65246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rcRect l="0" t="0" r="0" b="2883"/>
            <a:stretch/>
          </p:blipFill>
          <p:spPr>
            <a:xfrm>
              <a:off x="5867280" y="4970520"/>
              <a:ext cx="3276720" cy="18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5904000" y="333360"/>
              <a:ext cx="3240000" cy="18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3"/>
            <a:stretch/>
          </p:blipFill>
          <p:spPr>
            <a:xfrm>
              <a:off x="2916360" y="3573360"/>
              <a:ext cx="2842920" cy="20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4"/>
            <a:stretch/>
          </p:blipFill>
          <p:spPr>
            <a:xfrm>
              <a:off x="0" y="4192560"/>
              <a:ext cx="2987640" cy="266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>
            <a:off x="179280" y="404640"/>
            <a:ext cx="62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anny:Excuse me! Where’s the libr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iaDonghai:I can show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anny: Is the liarbry far from the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iaDonghai :Yes,It’s f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anny:Than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iaDonghai:You are wel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0" y="981000"/>
            <a:ext cx="9144000" cy="5877000"/>
            <a:chOff x="0" y="981000"/>
            <a:chExt cx="9144000" cy="587700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rcRect l="12205" t="0" r="2744" b="8010"/>
            <a:stretch/>
          </p:blipFill>
          <p:spPr>
            <a:xfrm>
              <a:off x="0" y="3905280"/>
              <a:ext cx="3059280" cy="29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rcRect l="15346" t="0" r="0" b="3795"/>
            <a:stretch/>
          </p:blipFill>
          <p:spPr>
            <a:xfrm>
              <a:off x="3059280" y="3933720"/>
              <a:ext cx="3097080" cy="29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3"/>
            <a:srcRect l="20870" t="0" r="0" b="0"/>
            <a:stretch/>
          </p:blipFill>
          <p:spPr>
            <a:xfrm>
              <a:off x="0" y="981000"/>
              <a:ext cx="3059280" cy="29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rcRect l="20752" t="4861" r="7484" b="0"/>
            <a:stretch/>
          </p:blipFill>
          <p:spPr>
            <a:xfrm>
              <a:off x="3059280" y="981000"/>
              <a:ext cx="3097080" cy="29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5"/>
            <a:srcRect l="16929" t="10262" r="5902" b="8010"/>
            <a:stretch/>
          </p:blipFill>
          <p:spPr>
            <a:xfrm>
              <a:off x="6156360" y="981000"/>
              <a:ext cx="2987640" cy="29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6"/>
            <a:srcRect l="2744" t="4861" r="4323" b="1690"/>
            <a:stretch/>
          </p:blipFill>
          <p:spPr>
            <a:xfrm>
              <a:off x="6156360" y="3933720"/>
              <a:ext cx="2987640" cy="292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"/>
          <p:cNvSpPr/>
          <p:nvPr/>
        </p:nvSpPr>
        <p:spPr>
          <a:xfrm>
            <a:off x="395280" y="189000"/>
            <a:ext cx="69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189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Is the library far from 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00" y="26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57340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a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lay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42" name="" descr=""/>
              <p:cNvPicPr/>
              <p:nvPr/>
            </p:nvPicPr>
            <p:blipFill>
              <a:blip r:embed="rId1"/>
              <a:srcRect l="0" t="6947" r="0" b="0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755640" y="1557360"/>
                <a:ext cx="458640" cy="187164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227640" y="3789360"/>
              <a:ext cx="792360" cy="3668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195640" y="11592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hat’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19280" y="573408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a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choo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18900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hat’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558972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ibr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7369327_101856339176_2" descr="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765000"/>
            <a:ext cx="9144000" cy="5185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9280" y="18900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0"/>
            <a:ext cx="35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hat’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5950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’s a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assroom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5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0" t="6947" r="0" b="0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755640" y="1557360"/>
                <a:ext cx="458640" cy="187164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6227640" y="3789360"/>
              <a:ext cx="792360" cy="3668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87280" y="692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near(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在…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附近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162864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nea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he scho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2852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far(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远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遥远的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3789360"/>
            <a:ext cx="784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far from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the scho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离…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远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907920"/>
            <a:ext cx="9144000" cy="4510080"/>
            <a:chOff x="0" y="907920"/>
            <a:chExt cx="9144000" cy="4510080"/>
          </a:xfrm>
        </p:grpSpPr>
        <p:grpSp>
          <p:nvGrpSpPr>
            <p:cNvPr id="164" name=""/>
            <p:cNvGrpSpPr/>
            <p:nvPr/>
          </p:nvGrpSpPr>
          <p:grpSpPr>
            <a:xfrm>
              <a:off x="0" y="907920"/>
              <a:ext cx="4427640" cy="4510080"/>
              <a:chOff x="0" y="907920"/>
              <a:chExt cx="4427640" cy="4510080"/>
            </a:xfrm>
          </p:grpSpPr>
          <p:pic>
            <p:nvPicPr>
              <p:cNvPr id="1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907920"/>
                <a:ext cx="4427640" cy="45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2691000" y="3018600"/>
                <a:ext cx="790200" cy="11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实验小学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4500720" y="907920"/>
              <a:ext cx="4643280" cy="4510080"/>
              <a:chOff x="4500720" y="907920"/>
              <a:chExt cx="4643280" cy="4510080"/>
            </a:xfrm>
          </p:grpSpPr>
          <p:pic>
            <p:nvPicPr>
              <p:cNvPr id="168" name="" descr=""/>
              <p:cNvPicPr/>
              <p:nvPr/>
            </p:nvPicPr>
            <p:blipFill>
              <a:blip r:embed="rId2"/>
              <a:srcRect l="0" t="0" r="0" b="5902"/>
              <a:stretch/>
            </p:blipFill>
            <p:spPr>
              <a:xfrm>
                <a:off x="4500720" y="907920"/>
                <a:ext cx="4643280" cy="45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8091360" y="1362960"/>
                <a:ext cx="790200" cy="12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实验小学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>
            <a:off x="17928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Where’s Li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516640"/>
            <a:ext cx="45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Ming is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nea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the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55166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Ming is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far fro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the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0" y="333360"/>
            <a:ext cx="9144000" cy="6524640"/>
            <a:chOff x="0" y="333360"/>
            <a:chExt cx="9144000" cy="652464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rcRect l="0" t="0" r="0" b="2883"/>
            <a:stretch/>
          </p:blipFill>
          <p:spPr>
            <a:xfrm>
              <a:off x="5867280" y="4970520"/>
              <a:ext cx="3276720" cy="18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5904000" y="333360"/>
              <a:ext cx="3240000" cy="18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2916360" y="3573360"/>
              <a:ext cx="2842920" cy="20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0" y="4192560"/>
              <a:ext cx="2987640" cy="266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/>
          <p:nvPr/>
        </p:nvSpPr>
        <p:spPr>
          <a:xfrm>
            <a:off x="0" y="26028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s the liarbry far from the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8100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es,it’s f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916280"/>
            <a:ext cx="68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the classroom near the playg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5264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es,it’s n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1:04:23Z</dcterms:created>
  <dc:creator/>
  <dc:description/>
  <dc:language>en-US</dc:language>
  <cp:lastModifiedBy>微软用户</cp:lastModifiedBy>
  <dcterms:modified xsi:type="dcterms:W3CDTF">2017-05-05T07:01:25Z</dcterms:modified>
  <cp:revision>23</cp:revision>
  <dc:subject/>
  <dc:title/>
</cp:coreProperties>
</file>