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3C7-CBD5-499F-BE08-D2C409B2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3BB-DB99-4A8F-B022-15F835FB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6FD-74D4-4C17-8E6E-5672EB27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26C-5B5B-4B39-8E53-2F47CC33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E504-AB59-4B8B-817F-70876EE9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484C-3486-4BD9-8BF2-36F21810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07B8-CF05-4DE4-B98F-F7D370EF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2DC3-F974-4B2D-B3D4-ED96FF90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1303-7136-46AC-A5EE-DE6AB0DD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EACB-0886-4863-A09F-3109BA95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A236-DFE5-4DAA-8B3D-98B6B846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294-5C18-4B0F-AF17-B969E5E2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712A-73E7-41E4-BDCE-5BF58CD0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2966-8790-46A3-9D6A-17FDE1BD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5BF0-EA00-4708-946C-7A5AF601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C0B0-9976-4786-B5E1-C7E04192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EFAE-68A2-4681-9D5C-4D8DA315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9C17-98E5-49B7-B7AE-E3D9990D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4EA5-E9BB-468F-8C40-8C908AC7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B977-58B8-4932-9FB8-88565FF6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D502-EBB1-452F-84D3-EBE34F6E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79E98-E1F4-4129-AECF-86854190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B47-6FC8-421A-B48F-C2807618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FD016-D32D-4EF5-A819-6810131C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4AD13-A65D-4FB8-B5A3-24DFF1B0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EFC2B-6F09-4961-8E5A-515E9BD1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23E3B-8B4D-4906-94A8-F285B652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1C59-8719-4EC2-B166-F611679E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835EC-3166-4203-8423-AB60D2EB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6614E-A13C-4D7C-893A-E6CC9FFA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E40-BD74-4216-9552-72885DEF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03A7-19B8-4A25-943A-67F405FA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AE5-8795-409F-86A3-15B09663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251-AC52-4DB1-856A-08BD1B28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8A2-81E5-465A-A5B3-130A7201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808-D8A4-4844-A774-1AE1CC18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2FDE-C0D5-4277-B3A8-62B52B4F5B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6B94-CCD6-42A7-A270-64329CA05A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1317-7A67-4D87-BC28-B433404A96F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154296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5335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esson 15 In the 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187280" y="685800"/>
            <a:ext cx="6813720" cy="5638680"/>
            <a:chOff x="1187280" y="685800"/>
            <a:chExt cx="6813720" cy="563868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3244680" y="685800"/>
              <a:ext cx="475632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187280" y="3429000"/>
              <a:ext cx="1752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Times New Roman"/>
                </a:rPr>
                <a:t>stree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62240" y="1714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2200" y="17524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" y="5334120"/>
            <a:ext cx="182880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urn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5334120"/>
            <a:ext cx="228600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o stra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5334120"/>
            <a:ext cx="220968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urn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057400" y="9144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Par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362320"/>
            <a:ext cx="655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Who is los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Where does he/she want to go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How can he/she get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33720" y="762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Part 2 Let’s do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6933960" cy="52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20:49Z</dcterms:created>
  <dc:creator/>
  <dc:description/>
  <dc:language>en-US</dc:language>
  <cp:lastModifiedBy>微软用户</cp:lastModifiedBy>
  <dcterms:modified xsi:type="dcterms:W3CDTF">2017-05-05T07:01:46Z</dcterms:modified>
  <cp:revision>2</cp:revision>
  <dc:subject/>
  <dc:title/>
</cp:coreProperties>
</file>