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5AC-E9AC-4031-8510-B10C2FFA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F55-BAED-49D1-A3A7-3F692A60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DB0-35EA-4C9A-8CC7-94E484A8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0A4-4EFC-4C45-AC1F-0EFC5A5B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BD91-8668-4E4D-89B0-0AFDC03A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DE66-E048-4D53-B2B0-B70200B5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8F1A-2939-408D-84BF-C504E799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0208-9E34-47DD-BCBE-506447D6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AFFE-5BE2-4F97-B4FA-39AD0B73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7295-C186-4778-8695-EF3B7D60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FFD9-936D-4C58-83EA-BD2B82C1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9F7-E759-492C-8B48-71336F5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6C86-CE75-42FA-BD33-A2ADE309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AF78-38CC-41C7-A961-49F1AF23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AA8E-A644-4A63-9BA8-956D29D0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A5AF-41DC-418F-8D7B-F701CD99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8B4E-E236-4ED0-89B5-36E91887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CC17-A551-4BF2-8C6F-4B13E75D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F7B6-F7E1-431E-A529-199E44F6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B65E-A537-4119-9388-378558FB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9C32-093F-4C1A-8CD7-797DBBAC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9D2C-EC4E-4C2B-8977-E03E47D4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E5E-131A-4030-9286-02FD2989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DA2F2-1E6A-4458-A793-EEEE76B9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1782-6BB0-49C6-A630-6F763337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79B1-0321-4204-BDB5-F6F98938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82A33-C096-4371-AD99-3C7135A1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8D75-9901-40E9-B10B-1BC8F100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D922-118D-4C60-815E-37FC9F94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B4B71-79DD-4CA4-A755-E5398523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324-D69A-43F5-BFE5-6ECEB115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996-FE18-433B-9ED4-DAAF7CED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748-42CD-46D2-9733-734B835D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049-D0D6-4832-AB4D-5DC5795B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AC5-F92C-4671-B958-5088F185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A14-A96F-446D-ADEA-11141ABF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1639-11FB-4337-A133-78836E2783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1341-3B67-44C1-987E-3F8693B486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6D0E-38E4-49A3-A24D-F4B8CB9B9E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矩形 5" descr=""/>
          <p:cNvPicPr/>
          <p:nvPr/>
        </p:nvPicPr>
        <p:blipFill>
          <a:blip r:embed="rId1"/>
          <a:stretch/>
        </p:blipFill>
        <p:spPr>
          <a:xfrm>
            <a:off x="281160" y="2749680"/>
            <a:ext cx="8710560" cy="13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9"/>
          <p:cNvSpPr/>
          <p:nvPr/>
        </p:nvSpPr>
        <p:spPr>
          <a:xfrm>
            <a:off x="5940360" y="3860640"/>
            <a:ext cx="295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1500120" y="50004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et’s play a g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1571760" y="2000160"/>
            <a:ext cx="50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让我们帮这些商品找找它们的家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u=4182571012,593484473&amp;fm=21&amp;gp=0"/>
          <p:cNvPicPr/>
          <p:nvPr/>
        </p:nvPicPr>
        <p:blipFill>
          <a:blip r:embed="rId1"/>
          <a:stretch/>
        </p:blipFill>
        <p:spPr>
          <a:xfrm>
            <a:off x="6323040" y="857160"/>
            <a:ext cx="2820960" cy="52149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-241920" y="642960"/>
            <a:ext cx="1399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售货员说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214720" y="404640"/>
            <a:ext cx="3581280" cy="1368720"/>
          </a:xfrm>
          <a:prstGeom prst="wedgeRoundRectCallout">
            <a:avLst>
              <a:gd name="adj1" fmla="val 88361"/>
              <a:gd name="adj2" fmla="val 54523"/>
              <a:gd name="adj3" fmla="val 16667"/>
            </a:avLst>
          </a:prstGeom>
          <a:solidFill>
            <a:srgbClr val="cccc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y  I help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1643040" y="2071800"/>
            <a:ext cx="4457880" cy="2500200"/>
          </a:xfrm>
          <a:prstGeom prst="cloudCallout">
            <a:avLst>
              <a:gd name="adj1" fmla="val 68787"/>
              <a:gd name="adj2" fmla="val 38435"/>
            </a:avLst>
          </a:prstGeom>
          <a:solidFill>
            <a:srgbClr val="cccc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’ll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show you. This way ,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1643040" y="4786200"/>
            <a:ext cx="3667320" cy="1584360"/>
          </a:xfrm>
          <a:prstGeom prst="wedgeEllipseCallout">
            <a:avLst>
              <a:gd name="adj1" fmla="val 80050"/>
              <a:gd name="adj2" fmla="val -194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Here they a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u=668597389,1278085816&amp;fm=21&amp;gp=0"/>
          <p:cNvPicPr/>
          <p:nvPr/>
        </p:nvPicPr>
        <p:blipFill>
          <a:blip r:embed="rId1"/>
          <a:stretch/>
        </p:blipFill>
        <p:spPr>
          <a:xfrm>
            <a:off x="108000" y="642960"/>
            <a:ext cx="2454120" cy="50720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3419640" y="1928880"/>
            <a:ext cx="4392360" cy="4092480"/>
          </a:xfrm>
          <a:prstGeom prst="wedgeRoundRectCallout">
            <a:avLst>
              <a:gd name="adj1" fmla="val -72625"/>
              <a:gd name="adj2" fmla="val 3310"/>
              <a:gd name="adj3" fmla="val 16667"/>
            </a:avLst>
          </a:prstGeom>
          <a:solidFill>
            <a:srgbClr val="cccc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es ,please. I want to buy ___. Where are the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____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143160" y="35712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顾客说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6"/>
          <p:cNvSpPr/>
          <p:nvPr/>
        </p:nvSpPr>
        <p:spPr>
          <a:xfrm>
            <a:off x="1571760" y="21420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任务一：朗读句子我最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642960" y="1357200"/>
            <a:ext cx="735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May I help you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2. I want to buy a dres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Where are the dresse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’ll show you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. This way, pleas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6. Here they a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500040" y="21420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任务二：听录音跟读课文，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00040" y="1143000"/>
          <a:ext cx="8286840" cy="5357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535788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Where are Jenny and Danny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What 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do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Jenny want to buy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What 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do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Danny want to buy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Box 9"/>
          <p:cNvSpPr/>
          <p:nvPr/>
        </p:nvSpPr>
        <p:spPr>
          <a:xfrm>
            <a:off x="1214280" y="1928880"/>
            <a:ext cx="70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y are at the clothes sh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1428840" y="378612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he wan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to buy a 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1571760" y="5572080"/>
            <a:ext cx="67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He wan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to buy ice cr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28760" y="428760"/>
          <a:ext cx="8001000" cy="54291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42916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观察图一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are the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resses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?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sses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是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ss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二中的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ll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全写形式是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四中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shop</a:t>
                      </a: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as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es, clothes, toys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汉语意思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.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与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关系？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Box 8"/>
          <p:cNvSpPr/>
          <p:nvPr/>
        </p:nvSpPr>
        <p:spPr>
          <a:xfrm>
            <a:off x="5796000" y="328464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1785960" y="221472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 w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4938840" y="108108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复数形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4213080" y="4005360"/>
            <a:ext cx="36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的三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323040" y="0"/>
            <a:ext cx="2820960" cy="3716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700360" y="404640"/>
            <a:ext cx="3095640" cy="1368720"/>
          </a:xfrm>
          <a:prstGeom prst="wedgeRoundRectCallout">
            <a:avLst>
              <a:gd name="adj1" fmla="val 88361"/>
              <a:gd name="adj2" fmla="val 54523"/>
              <a:gd name="adj3" fmla="val 16667"/>
            </a:avLst>
          </a:prstGeom>
          <a:solidFill>
            <a:srgbClr val="cccc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y  I help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08000" y="2060640"/>
            <a:ext cx="2454120" cy="4394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19640" y="3933720"/>
            <a:ext cx="4392360" cy="2087640"/>
          </a:xfrm>
          <a:prstGeom prst="wedgeRoundRectCallout">
            <a:avLst>
              <a:gd name="adj1" fmla="val -72625"/>
              <a:gd name="adj2" fmla="val 3310"/>
              <a:gd name="adj3" fmla="val 16667"/>
            </a:avLst>
          </a:prstGeom>
          <a:solidFill>
            <a:srgbClr val="cccc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es ,please. I want to buy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es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Where are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ess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632560" y="26028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71640" y="404640"/>
            <a:ext cx="3743280" cy="2374920"/>
          </a:xfrm>
          <a:prstGeom prst="cloudCallout">
            <a:avLst>
              <a:gd name="adj1" fmla="val 68787"/>
              <a:gd name="adj2" fmla="val 38435"/>
            </a:avLst>
          </a:prstGeom>
          <a:solidFill>
            <a:srgbClr val="cccc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’l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show you. This way ,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8000" y="3573360"/>
            <a:ext cx="3598920" cy="2729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95640" y="4726080"/>
            <a:ext cx="4535640" cy="1439640"/>
          </a:xfrm>
          <a:custGeom>
            <a:avLst/>
            <a:gdLst>
              <a:gd name="textAreaLeft" fmla="*/ 0 w 4535640"/>
              <a:gd name="textAreaRight" fmla="*/ 4536000 w 4535640"/>
              <a:gd name="textAreaTop" fmla="*/ 186480 h 1439640"/>
              <a:gd name="textAreaBottom" fmla="*/ 12531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’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  w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35640" y="5373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87640" cy="3887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3333960" cy="439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71640" y="4221000"/>
            <a:ext cx="3095640" cy="1584360"/>
          </a:xfrm>
          <a:prstGeom prst="wedgeEllipseCallout">
            <a:avLst>
              <a:gd name="adj1" fmla="val 80050"/>
              <a:gd name="adj2" fmla="val -194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ere they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10400" y="260280"/>
            <a:ext cx="3333600" cy="4392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583000" cy="3527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411280" y="1844640"/>
            <a:ext cx="3384720" cy="1224000"/>
          </a:xfrm>
          <a:prstGeom prst="wedgeRectCallout">
            <a:avLst>
              <a:gd name="adj1" fmla="val 72842"/>
              <a:gd name="adj2" fmla="val 29898"/>
            </a:avLst>
          </a:prstGeom>
          <a:solidFill>
            <a:srgbClr val="cccc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Yes? May I help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692280"/>
            <a:ext cx="3311280" cy="936360"/>
          </a:xfrm>
          <a:prstGeom prst="wedgeEllipseCallout">
            <a:avLst>
              <a:gd name="adj1" fmla="val -35620"/>
              <a:gd name="adj2" fmla="val 208305"/>
            </a:avLst>
          </a:prstGeom>
          <a:solidFill>
            <a:srgbClr val="cc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xcus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56000" y="4221000"/>
            <a:ext cx="3744720" cy="1513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cc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re’s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ce cr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123"/>
          <p:cNvPicPr/>
          <p:nvPr/>
        </p:nvPicPr>
        <p:blipFill>
          <a:blip r:embed="rId1"/>
          <a:stretch/>
        </p:blipFill>
        <p:spPr>
          <a:xfrm>
            <a:off x="539640" y="297000"/>
            <a:ext cx="7920000" cy="500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692360" y="558972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lothes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333600" cy="4394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50920" y="907920"/>
            <a:ext cx="4968720" cy="4321440"/>
          </a:xfrm>
          <a:prstGeom prst="wedgeEllipseCallout">
            <a:avLst>
              <a:gd name="adj1" fmla="val 67986"/>
              <a:gd name="adj2" fmla="val 1291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ce cream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’m sorr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This shop 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ho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oth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oy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nd bik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o ice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标题 1"/>
          <p:cNvSpPr/>
          <p:nvPr/>
        </p:nvSpPr>
        <p:spPr>
          <a:xfrm>
            <a:off x="500040" y="285840"/>
            <a:ext cx="721512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May I help you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Yes, please. 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I want to buy ____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ere are the _____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I’ll show you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ay, pleas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they a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Thank you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You’re welco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标题 1"/>
          <p:cNvSpPr/>
          <p:nvPr/>
        </p:nvSpPr>
        <p:spPr>
          <a:xfrm>
            <a:off x="500040" y="285840"/>
            <a:ext cx="721512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642960" y="-531720"/>
            <a:ext cx="77868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英汉互译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At the shop__________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Excuse me__________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is way please._________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们一起去购物吧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Can I help you?__________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3000240" y="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当堂小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标题 1"/>
          <p:cNvSpPr/>
          <p:nvPr/>
        </p:nvSpPr>
        <p:spPr>
          <a:xfrm>
            <a:off x="500040" y="285840"/>
            <a:ext cx="721512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0" y="594720"/>
            <a:ext cx="8429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3071880" y="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当堂小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2520" y="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0" y="50004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May I help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you    B.You   C.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) 2. Wher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ice cre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m    B.is   C.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) 3. I want to buy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red dress    B. black dress   C. orange 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) 4. Where is Mei Yangyang?  ---- She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h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on    B. at   C. 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) 5. What do you want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buy    B. buying   C. bu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u=545867583,3134245792&amp;fm=21&amp;gp=0"/>
          <p:cNvPicPr/>
          <p:nvPr/>
        </p:nvPicPr>
        <p:blipFill>
          <a:blip r:embed="rId1"/>
          <a:stretch/>
        </p:blipFill>
        <p:spPr>
          <a:xfrm>
            <a:off x="2413080" y="3068640"/>
            <a:ext cx="3743280" cy="3745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836720" y="836640"/>
            <a:ext cx="568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00"/>
                </a:solidFill>
                <a:latin typeface="Arial"/>
              </a:rPr>
              <a:t>Good  by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745680" y="1011240"/>
            <a:ext cx="164268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记得要想我哦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tea=0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5184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26836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Book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toy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040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124000" y="5445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oy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1&amp;gp=0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5589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619280" y="57340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ea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900000" y="112536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u=2398655661,2543372863&amp;fm=21&amp;gp=0"/>
          <p:cNvPicPr/>
          <p:nvPr/>
        </p:nvPicPr>
        <p:blipFill>
          <a:blip r:embed="rId1"/>
          <a:stretch/>
        </p:blipFill>
        <p:spPr>
          <a:xfrm>
            <a:off x="4356000" y="-241200"/>
            <a:ext cx="4681800" cy="4174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34920" y="3429000"/>
            <a:ext cx="777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ant to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u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want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to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u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。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don‘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want to bu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。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900000" y="112536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u=2398655661,2543372863&amp;fm=21&amp;gp=0"/>
          <p:cNvPicPr/>
          <p:nvPr/>
        </p:nvPicPr>
        <p:blipFill>
          <a:blip r:embed="rId1"/>
          <a:stretch/>
        </p:blipFill>
        <p:spPr>
          <a:xfrm>
            <a:off x="250920" y="115920"/>
            <a:ext cx="4681440" cy="4176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468360" y="4437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Jenny and Danny want to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u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2050920" y="112536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Lesson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187280" y="2205000"/>
            <a:ext cx="680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At the Sh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u=1525454664,503545194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900000" y="112536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11280" y="105264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能听懂，会说，认读并拼读下列单词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nt, to, buy,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684360" y="2276640"/>
            <a:ext cx="820872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能朗读并运用下列句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 I help you ? Where are the …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 way ,please.  Here  they a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5640" y="189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本课我要做到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11280" y="47973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自编并表演购物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41:49Z</dcterms:created>
  <dc:creator/>
  <dc:description/>
  <dc:language>en-US</dc:language>
  <cp:lastModifiedBy>微软用户</cp:lastModifiedBy>
  <dcterms:modified xsi:type="dcterms:W3CDTF">2017-05-22T07:29:15Z</dcterms:modified>
  <cp:revision>3</cp:revision>
  <dc:subject/>
  <dc:title/>
</cp:coreProperties>
</file>