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E5-8B42-442F-ADFA-BD2D0EC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E35-522F-4A9B-B143-6930E89F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BFA-28A4-44EF-BB95-8A269E9E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32C-E5C2-457A-9CF3-0D7559C0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160A-3C5D-4D1A-B6C3-78846DA1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340-242F-452C-8878-54D14F0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FEB-1C5F-443A-A646-FE38B4F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72ED-BFCD-4660-9C89-FD4990A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7423-1AEE-4F11-B140-9B270FB8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6F5-E616-4110-9AEE-13E57C7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1279-683F-4294-9CDD-EE7D7D06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F02-6A95-4C5B-A51D-AEF62193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948-42EC-4526-87E4-5A869332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7AAE-9B6E-4BD3-AAAB-2ED82E3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7019-AA28-460F-9388-C04CDE8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8B79-7A89-480B-86D0-A2B21CD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52D-C3FF-4BD5-9CAC-698C689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98CE-1648-4068-851E-69903AEA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21CF-4095-405E-8B78-2EC2D34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9D30-997D-4777-8174-731DC49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5BF3-72C1-494C-8EFD-628DF36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2740-B712-4109-BE12-7691EA2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B0E-3CC7-4907-8398-94DAEFF0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B989-4FFE-4C22-8C0B-167D12F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CC2D-625D-4FE8-BBF1-40139070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199B-FB9E-47F3-8F01-5CFD234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2818-CB59-4070-B155-322793A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9A27-5C46-440A-8649-178B495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523D-6F7E-4A3F-A8F0-B0AA7FD2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ACEB-2C0E-4C18-B9C9-904578A4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30E-BE1A-4C2A-BB75-6841906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916-9759-46A9-89DC-35C7B63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6D8-139A-4E80-8EFB-FCA6B51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AE-ADF0-469B-936B-B3FC71F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692-110C-44FC-A1FE-622D78E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C54-3E85-4A39-B77D-AE0CB57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4BF-A156-4FCA-B2E1-7600174C6D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1F6D-9BF5-45B3-9DCB-0F4F5D97DB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6A22-EE9D-4D58-8B03-51EBC0EA40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3284640"/>
            <a:ext cx="8726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 23 shopping online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989000"/>
            <a:ext cx="489564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nt to do 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要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620640"/>
            <a:ext cx="2881440" cy="79056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line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916280"/>
            <a:ext cx="4896000" cy="718920"/>
          </a:xfrm>
          <a:prstGeom prst="rect">
            <a:avLst/>
          </a:prstGeom>
          <a:solidFill>
            <a:srgbClr val="f074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Shop online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网上购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941720"/>
            <a:ext cx="489600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uch …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询问价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708280"/>
            <a:ext cx="489564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un and easy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又有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63840"/>
            <a:ext cx="9144000" cy="439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50028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22100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4869000"/>
            <a:ext cx="100800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616572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68280"/>
            <a:ext cx="9144000" cy="279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76640"/>
            <a:ext cx="9144000" cy="223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01:49Z</dcterms:created>
  <dc:creator>微软用户</dc:creator>
  <dc:description/>
  <dc:language>en-US</dc:language>
  <cp:lastModifiedBy>微软用户</cp:lastModifiedBy>
  <dcterms:modified xsi:type="dcterms:W3CDTF">2017-06-23T03:26:48Z</dcterms:modified>
  <cp:revision>4</cp:revision>
  <dc:subject/>
  <dc:title>幻灯片 1</dc:title>
</cp:coreProperties>
</file>