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3A8-E650-44A2-8ED0-2B3D46B0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CC8-2E8B-46F4-8622-A410C2A8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E03-3FC8-4D20-88D9-5EF469D7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8B3-7D01-4805-A231-8C676BA3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195B-3DF6-4B3B-BCD8-36A643D9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4071-1E62-4812-8596-A9B7BEF5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BAD-7AD7-43EA-81DB-CE6CB5FB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C518-832B-4145-AB1A-23758666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9A20-C007-42BF-8305-09626C93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6038-160C-4323-AC92-A881EFFA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A183-D378-4994-9188-82848366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A8D-9E5C-48DF-A0C6-CEE0990B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2281-9F43-4989-AFFD-399E2D7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4B00-F43B-42A7-BD20-C854906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A0A2-02CD-43AB-84E6-69E349D1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5587-BFB7-42E6-AB25-1D9BBE3D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C717-62B9-431B-80F9-16E1E159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6FAA-142E-46F8-86BE-32C8269B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1A0C-82DA-4137-85F0-D3215B87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5547-1BA0-4BB2-A022-ABB767FD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E3FA-1824-4745-A1F9-FF8A020C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E7DB-8323-43D8-8F07-805B4F05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8D3-08AE-4D30-970F-6C0F7DBD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C658-A0ED-4961-9F15-E4C738D6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B25D-FD91-4418-93E3-5E65BC4A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F856-CEAE-45C1-B16E-1697046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AD769-38CB-4176-B3C0-F67E2528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2795-C2D1-4E2D-BC26-14598941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16B4F-718D-4A85-8A54-C1E47CB0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A079-DB3B-4ADE-B208-7E23EBDC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EBB-B549-4129-9EFA-D5031970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3B6-F37A-4EA9-ACB4-9EEB91DF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467-E14D-4A0B-A2AF-2A17B12F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07F-9331-4B52-9316-73C5E974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A89-D3E4-4657-99C1-B14524F8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74B-46E3-4D42-B440-AD2C455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C16A-E5B0-4134-82C3-04D82C6A1B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4A86-AE54-46C4-A5DA-65B3F11730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87EB-54FF-4247-BEA0-074A0A0930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gif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58920" y="620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58920" y="620640"/>
            <a:ext cx="6192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esson 1 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kirt and Trouser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rot="21367200">
            <a:off x="1476000" y="112536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68360" y="2492280"/>
            <a:ext cx="583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600" spc="-1" strike="noStrike">
                <a:solidFill>
                  <a:srgbClr val="6767ff"/>
                </a:solidFill>
                <a:latin typeface="Comic Sans MS"/>
              </a:rPr>
              <a:t> What is she wea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She is wearing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6767ff"/>
                </a:solidFill>
                <a:latin typeface="Arial"/>
              </a:rPr>
              <a:t>What is he wea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He is wearing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32000" y="907920"/>
            <a:ext cx="56880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ork in pair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2492280"/>
            <a:ext cx="662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int at the pictures, and ask your partner: What is she/he wearing? Your partner should answer: She/He is wearing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971640" y="1484280"/>
            <a:ext cx="525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et's play: Who is it?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 rot="20730600">
            <a:off x="468360" y="1916280"/>
            <a:ext cx="765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ho's the winner?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rot="212400">
            <a:off x="1186920" y="980640"/>
            <a:ext cx="7704360" cy="559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050920" y="2060640"/>
            <a:ext cx="62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lease write the new words and sentences we learn today on your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mmunicate with your family with the new sentences we learn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24000" y="1052640"/>
            <a:ext cx="24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omework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835280" y="1628640"/>
            <a:ext cx="5616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ank you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897000">
            <a:off x="4787640" y="1485720"/>
            <a:ext cx="2448000" cy="2663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740400">
            <a:off x="6156000" y="3428640"/>
            <a:ext cx="256860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836720" y="260280"/>
            <a:ext cx="5113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005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-sh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2349360"/>
            <a:ext cx="15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508644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260360" y="1341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24000" y="3502080"/>
            <a:ext cx="2219040" cy="33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44720" y="838080"/>
            <a:ext cx="2803320" cy="3754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78520" cy="342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07000" y="1119240"/>
            <a:ext cx="27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-PUA"/>
                <a:ea typeface="宋体-PUA"/>
              </a:rPr>
              <a:t>sw</a:t>
            </a:r>
            <a:r>
              <a:rPr b="1" lang="en-US" sz="3600" spc="-1" strike="noStrike">
                <a:solidFill>
                  <a:srgbClr val="ff0000"/>
                </a:solidFill>
                <a:latin typeface="宋体-PUA"/>
                <a:ea typeface="宋体-PUA"/>
              </a:rPr>
              <a:t>ea</a:t>
            </a:r>
            <a:r>
              <a:rPr b="1" lang="en-US" sz="3600" spc="-1" strike="noStrike">
                <a:solidFill>
                  <a:srgbClr val="000000"/>
                </a:solidFill>
                <a:latin typeface="宋体-PUA"/>
                <a:ea typeface="宋体-PUA"/>
              </a:rPr>
              <a:t>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96920" y="532296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r</a:t>
            </a: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116000" y="620640"/>
            <a:ext cx="21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ractic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1844640"/>
            <a:ext cx="6840720" cy="25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dd the lost letter in the following words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  _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裤子）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 k_ _ 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短裙）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 h _ _ t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男衬衣）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-sh _ _ t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恤衫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 _ e_ t _ r  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毛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708360" y="2852640"/>
            <a:ext cx="546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03640" y="3357720"/>
            <a:ext cx="47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6720" y="1844640"/>
            <a:ext cx="71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p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916360" y="2997360"/>
            <a:ext cx="57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84720" y="3068640"/>
            <a:ext cx="6606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140360" y="3933720"/>
            <a:ext cx="58896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7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r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516720" y="1700280"/>
            <a:ext cx="360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03640" y="1557360"/>
            <a:ext cx="7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k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292720" y="4581360"/>
            <a:ext cx="80496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457880" y="32004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e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979640" y="3716280"/>
            <a:ext cx="6602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411280" y="2492280"/>
            <a:ext cx="360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700360" y="4581360"/>
            <a:ext cx="21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4000" y="4653000"/>
            <a:ext cx="50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u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164360" y="4005360"/>
            <a:ext cx="36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6443640" y="537372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36720" y="5731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is she we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518080"/>
            <a:ext cx="68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he is wearing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a white skir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486080"/>
            <a:ext cx="2808000" cy="367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653080" y="1557360"/>
            <a:ext cx="3166920" cy="37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What is she wear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2360" y="1557360"/>
            <a:ext cx="3384720" cy="4325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805200" y="1630440"/>
            <a:ext cx="2639880" cy="2514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92720" y="3933720"/>
            <a:ext cx="2587680" cy="28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rot="449400">
            <a:off x="5076720" y="1628640"/>
            <a:ext cx="2705040" cy="360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rot="660000">
            <a:off x="684360" y="1917720"/>
            <a:ext cx="2882880" cy="3672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57360" y="507960"/>
            <a:ext cx="51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is he we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3080" y="587700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He is wearing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a blue shirt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 rot="916200">
            <a:off x="6227280" y="2637000"/>
            <a:ext cx="2463840" cy="3022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 rot="20454600">
            <a:off x="684360" y="3069720"/>
            <a:ext cx="2476440" cy="3095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19280" cy="321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 rot="20147400">
            <a:off x="2412720" y="1701720"/>
            <a:ext cx="2485800" cy="3225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836720" y="0"/>
            <a:ext cx="597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hat is he wearing?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2T03:49:42Z</dcterms:created>
  <dc:creator/>
  <dc:description/>
  <dc:language>en-US</dc:language>
  <cp:lastModifiedBy>微软用户</cp:lastModifiedBy>
  <dcterms:modified xsi:type="dcterms:W3CDTF">2017-05-22T07:00:21Z</dcterms:modified>
  <cp:revision>3</cp:revision>
  <dc:subject/>
  <dc:title/>
</cp:coreProperties>
</file>