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media/image1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2C1D-D5DD-4EB6-B480-AEF603EEA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DDCE-8E64-4365-B31B-15E8DE3A8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C0A9-54CF-4683-8300-CFDA85C71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445F-FC67-4CFC-BF90-BC5F36C06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96681-BAAE-4103-B0DC-021D9202F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92BFB-43BC-4160-B0DF-3AEC110DA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98D42-C036-40AA-8819-04706AF09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52FF6-0D94-4EED-B509-D35036928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A937A-92F5-461A-999A-17CBC3EFB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A3568-8193-42E1-BBBB-9E33EB746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94D11-CCD2-4894-A157-BD871BE1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ED44-AC6D-435E-B2D3-23B17E4C8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C51EB-7739-4674-936A-E7846E94C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CC955-D778-492D-91FB-B72AFA9BD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2BCED-D3A6-4307-A2AC-A3B660A25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AB739-52EA-4253-996F-D47B3B9EC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3DE31-6A57-43E3-9750-547B83889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9ACDF-D597-4444-A82D-2FF59D40B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C6549-621F-4D0C-B974-08F4AB094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1548A-55BB-48BA-904F-FE9AA8FED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13A63-1AB7-4DB7-AFDD-D6E35C2E6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30FBC-B35B-4856-A12B-F97C85981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1FB7-D722-44F0-B4B4-FEA515653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246E9-D7AB-4729-BCE6-86D17D1FE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F5794-8361-428C-ABA0-7ABD02D8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57AF4-C18E-4E05-B999-6F92457D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5F124-957C-4D79-A937-B80C46DE7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52C46-11EA-4D5B-A716-141CFA1E7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45103-8C6A-4EA4-8167-2B946FF97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50629-7C2B-42E8-9068-67280FB73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8C62-D65F-41B3-A26D-F0E596D6F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FEA4-60FF-46E6-9E2D-4228AB73A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893B-CBA8-40F2-878D-92E9B5153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AF03-A8C7-4EB5-B52A-26F8873BC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5C7C-F1AA-473B-92F4-9CBF2C13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B2F2-F003-49ED-A9AD-A85D3F21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AB3CF-D611-475E-9099-B9BBC1FC812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3" name="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75B26-43A1-4E71-A72A-9F0BE50D9FC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90" name="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81600-60C8-493D-AF98-6D0D9705D41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042920" y="1628640"/>
            <a:ext cx="676908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Lesson 7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   </a:t>
            </a: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Homewor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WindowsMediaPlayer1"/>
          <p:cNvGraphicFramePr/>
          <p:nvPr/>
        </p:nvGraphicFramePr>
        <p:xfrm>
          <a:off x="6729480" y="6310440"/>
          <a:ext cx="581040" cy="28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WindowsMediaPlayer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29480" y="6310440"/>
                    <a:ext cx="581040" cy="285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395280" y="765000"/>
            <a:ext cx="784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 days of the week. They’re easy to recal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ng the song with me. Can you say them a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Monday (Monday) Tuesday (Tuesda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Wednesday (Wednesda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Thursday, Friday, Saturday (Saturday), Sunday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d then we’ll back to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Monday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 days of the week. Learning them is fu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ng the song with me. Let’s say them one by 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Monday (Monday) Tuesday (Tuesda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Wednesday (Wednesda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Thursday, Friday, Saturday (Saturday), Sunday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d then we’ll back to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Monday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2448000" cy="1908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3276720" y="765000"/>
            <a:ext cx="1944720" cy="17528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139920" y="2681280"/>
            <a:ext cx="2087640" cy="459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ead a 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5508720" y="816120"/>
            <a:ext cx="2014560" cy="18255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687240" y="3213000"/>
            <a:ext cx="2084400" cy="19782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39640" y="5113440"/>
            <a:ext cx="2376720" cy="825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raw a pict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3276720" y="3213000"/>
            <a:ext cx="1689120" cy="18734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060720" y="5113440"/>
            <a:ext cx="1871640" cy="825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ng a so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5292720" y="3213000"/>
            <a:ext cx="1684440" cy="18716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348160" y="5110200"/>
            <a:ext cx="2016360" cy="825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lay a g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2665440"/>
            <a:ext cx="2736720" cy="825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o my homewor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64000" y="2708280"/>
            <a:ext cx="2232360" cy="459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rite a 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7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971640" y="1995480"/>
            <a:ext cx="6192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omic Sans MS"/>
              </a:rPr>
              <a:t>sing a so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1989000"/>
            <a:ext cx="748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omic Sans MS"/>
              </a:rPr>
              <a:t>write a story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1280" y="2060640"/>
            <a:ext cx="684036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omic Sans MS"/>
              </a:rPr>
              <a:t>read a boo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55640" y="1989000"/>
            <a:ext cx="6840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omic Sans MS"/>
              </a:rPr>
              <a:t>play a gam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8200" y="2060640"/>
            <a:ext cx="705816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do my homework</a:t>
            </a:r>
            <a:r>
              <a:rPr b="1" lang="en-US" sz="8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9480" y="1989000"/>
            <a:ext cx="7058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draw a picture</a:t>
            </a:r>
            <a:r>
              <a:rPr b="1" lang="en-US" sz="8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26920" y="1197000"/>
            <a:ext cx="69138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ing , sing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, I sing a s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Write, writ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, I write a s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Read, rea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, I read a boo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Play, pla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, I play a g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Do, do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, I do my home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Draw, draw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, I draw a pic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1295280" cy="18716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124000" y="126828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 Sunday morn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395280" y="2276640"/>
            <a:ext cx="7307280" cy="372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11T03:05:43Z</dcterms:created>
  <dc:creator/>
  <dc:description/>
  <dc:language>en-US</dc:language>
  <cp:lastModifiedBy>微软用户</cp:lastModifiedBy>
  <dcterms:modified xsi:type="dcterms:W3CDTF">2017-05-05T06:51:25Z</dcterms:modified>
  <cp:revision>2</cp:revision>
  <dc:subject/>
  <dc:title/>
</cp:coreProperties>
</file>