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9453-A819-47B2-962F-2CDB14EF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2D2-6452-482D-A40D-28AA1198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0D6-02E6-4866-B203-D6EA3E47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4A1F-608F-44B2-ACDC-5DD76D1E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C77C-F096-4939-9074-552ED734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3F6F-9BCE-45BD-8F7F-E0FAF878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264D-A4A9-41EA-AE1D-63B58E68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151E-3299-48CA-A10C-48FAFBBD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6038-DCB9-4E75-8744-1C6853A6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A16D-A1F9-43FB-B524-9BECD42F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48EA-A88E-4B8B-BE92-B2B1F237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24A-80C0-45A3-97D9-FBFEF1ED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7721-1489-4BCF-8C00-9A7EF0CC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F515-395B-4C53-A7AB-D5D9BCC1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F993-D28E-4A7D-8A2A-956414A9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FF5E-AB92-4696-8CCD-6151137B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168D-721D-46F0-9762-4B8DD53D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A9E45-FCF2-43DF-82E7-4EF0CA8B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4BC40-2EDF-4A37-A2F6-79E38682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F17CC-8CA5-486D-954E-6F715C35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B5EB5-EB34-433C-8491-EA026481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D23F3-0006-4BED-87C4-E8E1C6D5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544-E298-40F8-939C-7C078205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4284B-BD89-4745-A8E9-9417F8BA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39F3F-74CA-46A2-9CFC-B71A138A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00200-0BA5-457E-A436-D1C2B2AC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14C55-406B-41B9-9638-B2AD43D5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D8041-2981-4ED9-8BA1-47B4B9F2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4B1D-D5EB-4E6F-88A9-6E676320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F8BBB-B7E9-4B3A-9AB0-D151E243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59FF-55F0-4100-8500-F7B9C87B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4F99-BA7F-46BE-9574-E9DC6C20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BEE-7717-438E-BD93-8E7D527C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27F-CD2D-4C2B-BA14-C904CBDB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5FA-ED05-46C3-B1AD-E2596F75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3F4-D4E1-41C0-A02F-FD39E9CF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9B56-298D-4D75-9EA3-831149EDB5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93B7-A080-4153-A544-AC59C96C416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C509-13ED-4984-8034-76ADE177BCF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5280" y="620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冀教版四年级上册（三年级起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220500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sson 12 John and J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68360" y="333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nel 8: What do you see in the picture? Are they happy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6408720" cy="3816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64000" y="1197000"/>
            <a:ext cx="3240000" cy="1079640"/>
          </a:xfrm>
          <a:prstGeom prst="cloudCallout">
            <a:avLst>
              <a:gd name="adj1" fmla="val -59407"/>
              <a:gd name="adj2" fmla="val 7161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help the little b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3284640"/>
            <a:ext cx="1440000" cy="576000"/>
          </a:xfrm>
          <a:prstGeom prst="wedgeRoundRectCallout">
            <a:avLst>
              <a:gd name="adj1" fmla="val -71166"/>
              <a:gd name="adj2" fmla="val 6707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56610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hn puts the little bird up in the tree. Then he and Jack go home happil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189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1557360"/>
            <a:ext cx="8785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Where is the bo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What’s the boy do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What can you see fr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se pic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406840" cy="2879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4000" y="189000"/>
            <a:ext cx="684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el 1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’s the boy’s name? Who is Jack?                        What is Jack d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2565360"/>
            <a:ext cx="2087640" cy="432000"/>
          </a:xfrm>
          <a:prstGeom prst="wedgeRoundRectCallout">
            <a:avLst>
              <a:gd name="adj1" fmla="val 31138"/>
              <a:gd name="adj2" fmla="val 12720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 you 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08720" y="1413000"/>
            <a:ext cx="2879640" cy="720720"/>
          </a:xfrm>
          <a:prstGeom prst="cloudCallout">
            <a:avLst>
              <a:gd name="adj1" fmla="val -46856"/>
              <a:gd name="adj2" fmla="val 13369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Jac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551664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n and his dog, Jack, are good friends. They play toge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0920" y="189000"/>
            <a:ext cx="76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el 2: What’s John doing? When does he brush his teeth?   What does Jack do while John brushes his teet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27280" y="1197000"/>
            <a:ext cx="5329440" cy="3887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8360" y="1413000"/>
            <a:ext cx="3095640" cy="503280"/>
          </a:xfrm>
          <a:prstGeom prst="wedgeRoundRectCallout">
            <a:avLst>
              <a:gd name="adj1" fmla="val 40254"/>
              <a:gd name="adj2" fmla="val 9416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ush, brush, bru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5640" y="551664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morning, John brushes his teeth and washes his face. Jack watches 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anel 3: What do you see in this picture?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561672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254560" y="1125360"/>
            <a:ext cx="3889440" cy="576360"/>
          </a:xfrm>
          <a:prstGeom prst="cloudCallout">
            <a:avLst>
              <a:gd name="adj1" fmla="val -52287"/>
              <a:gd name="adj2" fmla="val 6267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have breakfa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2637000"/>
            <a:ext cx="1439640" cy="431640"/>
          </a:xfrm>
          <a:prstGeom prst="wedgeRoundRectCallout">
            <a:avLst>
              <a:gd name="adj1" fmla="val 38314"/>
              <a:gd name="adj2" fmla="val 7867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o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486900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have breakfast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47628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el 4: What do they do in the aftern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4397400" cy="2733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254560" y="1125360"/>
            <a:ext cx="1909800" cy="576360"/>
          </a:xfrm>
          <a:prstGeom prst="cloudCallout">
            <a:avLst>
              <a:gd name="adj1" fmla="val -54652"/>
              <a:gd name="adj2" fmla="val 6267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g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637000"/>
            <a:ext cx="1439640" cy="431640"/>
          </a:xfrm>
          <a:prstGeom prst="wedgeRoundRectCallout">
            <a:avLst>
              <a:gd name="adj1" fmla="val 38314"/>
              <a:gd name="adj2" fmla="val 7867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or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530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afternoon, John goes home with J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24000" y="260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nel 5: What is the boy playing with? Whe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5184720" cy="3311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356000" y="1197000"/>
            <a:ext cx="1909800" cy="576360"/>
          </a:xfrm>
          <a:prstGeom prst="cloudCallout">
            <a:avLst>
              <a:gd name="adj1" fmla="val -54652"/>
              <a:gd name="adj2" fmla="val 6267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530064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Saturday, they play catch with a ball. John throws the ba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9640" y="26028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el 6: What happens now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19640" y="981000"/>
            <a:ext cx="5040000" cy="863640"/>
          </a:xfrm>
          <a:prstGeom prst="cloudCallout">
            <a:avLst>
              <a:gd name="adj1" fmla="val -42722"/>
              <a:gd name="adj2" fmla="val 11286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are you, Jac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35280" y="3716280"/>
            <a:ext cx="3457800" cy="576360"/>
          </a:xfrm>
          <a:prstGeom prst="cloudCallout">
            <a:avLst>
              <a:gd name="adj1" fmla="val -56060"/>
              <a:gd name="adj2" fmla="val -9600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e back, J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5229360"/>
            <a:ext cx="7272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ck runs to catch the ball, but  he doesn’t come 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11280" y="47628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nel 7: What do you see in the gr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48000" y="1557360"/>
            <a:ext cx="4176720" cy="863640"/>
          </a:xfrm>
          <a:prstGeom prst="cloudCallout">
            <a:avLst>
              <a:gd name="adj1" fmla="val -39509"/>
              <a:gd name="adj2" fmla="val 4613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you ar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3357720"/>
            <a:ext cx="1439640" cy="790560"/>
          </a:xfrm>
          <a:prstGeom prst="wedgeRoundRectCallout">
            <a:avLst>
              <a:gd name="adj1" fmla="val -62569"/>
              <a:gd name="adj2" fmla="val -2951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of!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of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465300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ck is watching a little bird in the gra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13:53Z</dcterms:created>
  <dc:creator/>
  <dc:description/>
  <dc:language>en-US</dc:language>
  <cp:lastModifiedBy>微软用户</cp:lastModifiedBy>
  <dcterms:modified xsi:type="dcterms:W3CDTF">2017-05-22T07:15:09Z</dcterms:modified>
  <cp:revision>2</cp:revision>
  <dc:subject/>
  <dc:title/>
</cp:coreProperties>
</file>