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6BA-2674-48DB-948B-BDC380DB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A2D-2B7F-4715-BBB8-D2FFFA9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4EF-901B-437A-AC75-AA3950FD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6E6-7171-42D2-AC2C-4F26F73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90EA-D4E9-42FA-AB1E-FAADE99C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7397-09C2-4CB5-8544-73766DF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43D-2DAF-4939-A726-BA990943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1160-D9FE-40F0-8936-920336A1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682-77FF-4FE8-A3A4-9A62CE0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79F-38F2-4210-BD66-07919BB4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2A4-D669-40F7-800B-FA4EA82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141-9A16-4CAF-A455-7589EC71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9D26-160B-4ABE-B2DB-C24B4B0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A35-5C40-42DD-9D05-59DFD9AF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18CB-9303-4B56-BC63-CB7FABA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E3F-7CDB-41DE-966D-6482070C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A551-2FE1-4E1E-B322-8BA0BCA5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10A9-5AC7-4065-BD71-958B7137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1194-2A33-4FD5-91F9-AAD09D47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2054-32DA-404F-A123-B1C42DB5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924C-11BC-4DFB-8700-59D4584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E7D4-5972-4278-8AA0-1F72AEA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0CF-EF2A-432F-8073-E416658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A7C2-FDA3-4D95-9FB0-67524BB8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BE6B-5FFE-468C-A376-D4B6F5F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2A9B-AB01-453A-968C-E462771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A893-74CB-45BF-9E29-703436A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6940-C90F-4736-A678-920226B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71FA-BC9A-4012-B7A5-6049A112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5188-5FBE-4D93-8523-B9EE55C8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526-9A64-4565-BED5-AD7589C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21C-8941-4D26-982B-D391BFE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99F-03E5-4E5C-8679-80F1DB9A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344-6D01-4981-95BE-9D4CE94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590-7349-4119-AE10-0B78B0A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05F-7CBE-453D-9E77-EB01B6C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29FF-0DB4-4E50-A272-2769DF145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B32-F908-4835-BDED-EB911D967D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F1F-D7BF-4D34-9099-FBDF64B785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Lesson 5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Days of the Week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周七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35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14440" y="1832040"/>
            <a:ext cx="4572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7920" y="182880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33520" y="1523880"/>
            <a:ext cx="4603680" cy="3527640"/>
          </a:xfrm>
          <a:prstGeom prst="wedgeEllipseCallout">
            <a:avLst>
              <a:gd name="adj1" fmla="val -67870"/>
              <a:gd name="adj2" fmla="val 44810"/>
            </a:avLst>
          </a:prstGeom>
          <a:solidFill>
            <a:srgbClr val="ffffff">
              <a:alpha val="81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2666880"/>
            <a:ext cx="863640" cy="38880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600" y="2854440"/>
            <a:ext cx="455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36232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Tues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48001" t="40667" r="0" b="2432"/>
          <a:stretch/>
        </p:blipFill>
        <p:spPr>
          <a:xfrm>
            <a:off x="1752480" y="246708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19320" y="228600"/>
            <a:ext cx="754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:What day is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B:Today i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2209680"/>
            <a:ext cx="860400" cy="41022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792000" cy="144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-720" y="2286000"/>
            <a:ext cx="4608360" cy="2482920"/>
          </a:xfrm>
          <a:prstGeom prst="wedgeEllipseCallout">
            <a:avLst>
              <a:gd name="adj1" fmla="val -59819"/>
              <a:gd name="adj2" fmla="val 31199"/>
            </a:avLst>
          </a:prstGeom>
          <a:solidFill>
            <a:srgbClr val="ffffff">
              <a:alpha val="7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297180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92000" cy="143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189000"/>
            <a:ext cx="7672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: What day is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B: Today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35280" y="2204640"/>
            <a:ext cx="936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635280" y="3141360"/>
            <a:ext cx="10098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635280" y="3789360"/>
            <a:ext cx="1009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414972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4292640"/>
            <a:ext cx="865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09960" y="598176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1844640"/>
            <a:ext cx="29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68920" y="2840040"/>
            <a:ext cx="21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68920" y="357984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tu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15000" y="4395960"/>
            <a:ext cx="27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5135400"/>
            <a:ext cx="27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Let’s play:(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我会玩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)  </a:t>
            </a:r>
            <a:br>
              <a:rPr sz="3400"/>
            </a:b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         Chan Chan Chan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ules:       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两行为一组，每组前两排的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站起来，第一排的同学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day is today 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排的同学回答，然后转身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一排的同学，以此类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先完成的大组里的每个小组都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得一颗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ay is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oday is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48001" t="40667" r="0" b="2432"/>
          <a:stretch/>
        </p:blipFill>
        <p:spPr>
          <a:xfrm>
            <a:off x="0" y="0"/>
            <a:ext cx="9144000" cy="5935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91120" y="2362320"/>
            <a:ext cx="863640" cy="838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08000" y="190440"/>
            <a:ext cx="649080" cy="117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971800" y="2362320"/>
            <a:ext cx="863640" cy="838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2362320"/>
            <a:ext cx="863640" cy="838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65960" y="838080"/>
            <a:ext cx="2514600" cy="1189080"/>
          </a:xfrm>
          <a:prstGeom prst="wedgeEllipseCallout">
            <a:avLst>
              <a:gd name="adj1" fmla="val -43375"/>
              <a:gd name="adj2" fmla="val 100064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990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yeste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656880" y="762120"/>
            <a:ext cx="1981080" cy="1189080"/>
          </a:xfrm>
          <a:prstGeom prst="wedgeEllipseCallout">
            <a:avLst>
              <a:gd name="adj1" fmla="val 2481"/>
              <a:gd name="adj2" fmla="val 94324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9907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942880" y="838080"/>
            <a:ext cx="2514600" cy="1189080"/>
          </a:xfrm>
          <a:prstGeom prst="wedgeEllipseCallout">
            <a:avLst>
              <a:gd name="adj1" fmla="val 43430"/>
              <a:gd name="adj2" fmla="val 82175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990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omorr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48001" t="40667" r="0" b="2432"/>
          <a:stretch/>
        </p:blipFill>
        <p:spPr>
          <a:xfrm>
            <a:off x="1752480" y="2465280"/>
            <a:ext cx="6769080" cy="439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220760" y="206280"/>
            <a:ext cx="716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: What day is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today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B: Today i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2362320"/>
            <a:ext cx="1004760" cy="410184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08000" y="190440"/>
            <a:ext cx="792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0" y="1752480"/>
            <a:ext cx="4681440" cy="2449800"/>
          </a:xfrm>
          <a:prstGeom prst="wedgeEllipseCallout">
            <a:avLst>
              <a:gd name="adj1" fmla="val -56138"/>
              <a:gd name="adj2" fmla="val 47018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3623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da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48001" t="40667" r="0" b="2432"/>
          <a:stretch/>
        </p:blipFill>
        <p:spPr>
          <a:xfrm>
            <a:off x="1752480" y="2286000"/>
            <a:ext cx="6769080" cy="4394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7080" y="260280"/>
            <a:ext cx="808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: What day was yester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B: It wa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362320"/>
            <a:ext cx="863640" cy="402084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8000" y="190440"/>
            <a:ext cx="649080" cy="117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>
            <a:off x="0" y="2438280"/>
            <a:ext cx="3581280" cy="1417680"/>
          </a:xfrm>
          <a:prstGeom prst="wedgeEllipseCallout">
            <a:avLst>
              <a:gd name="adj1" fmla="val -69902"/>
              <a:gd name="adj2" fmla="val 44620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5909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Tues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48001" t="40667" r="0" b="2432"/>
          <a:stretch/>
        </p:blipFill>
        <p:spPr>
          <a:xfrm>
            <a:off x="1447920" y="2463840"/>
            <a:ext cx="6769080" cy="4394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20760" y="206280"/>
            <a:ext cx="76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: What day is tomorrow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B: 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</a:rPr>
              <a:t> It is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ursday </a:t>
            </a:r>
            <a:r>
              <a:rPr b="1" lang="zh-CN" sz="4400" spc="-1" strike="noStrike">
                <a:solidFill>
                  <a:srgbClr val="d9d8ec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2438280"/>
            <a:ext cx="861840" cy="4089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792000" cy="1439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>
            <a:off x="-720" y="2438280"/>
            <a:ext cx="3956040" cy="2305080"/>
          </a:xfrm>
          <a:prstGeom prst="wedgeEllipseCallout">
            <a:avLst>
              <a:gd name="adj1" fmla="val -92861"/>
              <a:gd name="adj2" fmla="val 26717"/>
            </a:avLst>
          </a:prstGeom>
          <a:solidFill>
            <a:srgbClr val="ffffff">
              <a:alpha val="76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89548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ursd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What day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 is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Today 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What day 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was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It 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was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What day 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is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It </a:t>
            </a:r>
            <a:r>
              <a:rPr b="0" lang="en-US" sz="3200" spc="-1" strike="noStrike">
                <a:solidFill>
                  <a:srgbClr val="0033cc"/>
                </a:solidFill>
                <a:latin typeface="Eras Bold ITC"/>
                <a:ea typeface="Gungsuh"/>
              </a:rPr>
              <a:t>is</a:t>
            </a:r>
            <a:r>
              <a:rPr b="0" lang="en-US" sz="3200" spc="-1" strike="noStrike">
                <a:solidFill>
                  <a:srgbClr val="ff0000"/>
                </a:solidFill>
                <a:latin typeface="Eras Bold ITC"/>
                <a:ea typeface="Gungsuh"/>
              </a:rPr>
              <a:t> Thur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52680"/>
            <a:ext cx="9144000" cy="35053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ras Bold ITC"/>
                <a:ea typeface="Gungsuh"/>
              </a:rPr>
              <a:t>Wha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tomorrow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？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明天是星期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4800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？昨天是星期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434340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4114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oday?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今天星期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720" y="1430280"/>
            <a:ext cx="7086600" cy="54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9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8000" y="-92160"/>
            <a:ext cx="9001080" cy="66970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et's cha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ursday,Thursday,Thur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i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riday,Friday,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was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dnesday,Wednesday,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day,Tomorrow,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ursday,Friday,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23117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ow, try to make a new chant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ith othe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参照前面的小诗，试试用其他的词再自己编一首新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8000" y="-92160"/>
            <a:ext cx="9001080" cy="66970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Let‘s do: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我会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i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day was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day,Tomorrow,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001000" y="762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3048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how ti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281952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Share your poem with your classmates.</a:t>
            </a:r>
            <a:endParaRPr b="0" i="1" lang="en-US" sz="4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600200" y="4876920"/>
            <a:ext cx="6172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和同学们分享一下你的诗吧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828800"/>
            <a:ext cx="8534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What we have learned in this class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37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学到了什么呢？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today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yesterday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Sunday, Monday, Tuesday, Wednes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Thursday, Friday,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Today is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What day was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It’s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What day i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Eras Bold ITC"/>
              </a:rPr>
              <a:t>It’s Thur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Let’s summary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352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Eras Bold ITC"/>
              </a:rPr>
              <a:t>Words</a:t>
            </a:r>
            <a:r>
              <a:rPr b="0" lang="zh-CN" sz="3200" spc="-1" strike="noStrike">
                <a:solidFill>
                  <a:srgbClr val="0033cc"/>
                </a:solidFill>
                <a:latin typeface="Eras Bold ITC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429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Eras Bold ITC"/>
              </a:rPr>
              <a:t>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同学们多读读单词，自己和朋友练习练一练句子，不要忘了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Practice makes perf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熟能生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124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一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二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三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四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五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六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期天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34320" y="609480"/>
            <a:ext cx="142848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8600" y="2057400"/>
            <a:ext cx="8610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What is missing?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962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7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257800"/>
            <a:ext cx="346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u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8480" y="4876920"/>
            <a:ext cx="37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360" y="198108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atur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520" y="3048120"/>
            <a:ext cx="385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u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7120" y="457200"/>
            <a:ext cx="311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Fri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120" y="380880"/>
            <a:ext cx="442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ur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000" y="371628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atur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2360" y="3573360"/>
            <a:ext cx="311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Fri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60" y="189000"/>
            <a:ext cx="442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ur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8920" y="1916280"/>
            <a:ext cx="52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Wedn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92280"/>
            <a:ext cx="346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u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1280" y="4941720"/>
            <a:ext cx="37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7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00360" y="530064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atur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280" y="2708280"/>
            <a:ext cx="442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ur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720" y="4365720"/>
            <a:ext cx="52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Wedn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360" y="3357720"/>
            <a:ext cx="385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u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762120"/>
            <a:ext cx="346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u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7640" y="1197000"/>
            <a:ext cx="37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22096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7ff"/>
                </a:solidFill>
                <a:latin typeface="Arial"/>
              </a:rPr>
              <a:t>Fri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entatio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609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新知呈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09680" y="2438280"/>
            <a:ext cx="4229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hat are they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38280" y="41911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这是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3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14440" y="1832040"/>
            <a:ext cx="4572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471680" y="184464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0" y="1447920"/>
            <a:ext cx="4603680" cy="3527280"/>
          </a:xfrm>
          <a:prstGeom prst="wedgeEllipseCallout">
            <a:avLst>
              <a:gd name="adj1" fmla="val -67870"/>
              <a:gd name="adj2" fmla="val 44810"/>
            </a:avLst>
          </a:prstGeom>
          <a:solidFill>
            <a:srgbClr val="ffffff">
              <a:alpha val="81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743200"/>
            <a:ext cx="863640" cy="388764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600" y="2854440"/>
            <a:ext cx="455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2349360"/>
            <a:ext cx="42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Mon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2:29:20Z</dcterms:created>
  <dc:creator/>
  <dc:description/>
  <dc:language>en-US</dc:language>
  <cp:lastModifiedBy>微软用户</cp:lastModifiedBy>
  <dcterms:modified xsi:type="dcterms:W3CDTF">2017-05-22T07:07:57Z</dcterms:modified>
  <cp:revision>13</cp:revision>
  <dc:subject/>
  <dc:title/>
</cp:coreProperties>
</file>