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019-983C-4EC6-915E-FAAC6C59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FF0-629E-4125-ACC0-B3800A33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0F8-FE30-4574-A7D5-8192FD59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2A1-B57B-4137-AB6C-949BA313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4F32-A087-404F-9F6B-6078A08B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035B-0BF2-4F78-A497-D55FC911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1C4F-2973-41DA-933F-2A976D25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F36E-118B-4F14-B836-5D614FB5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B37A-FFFC-4DAD-86F3-1D22CD5F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3558-2B03-4739-BB34-B4F141FC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8A2B-D4D6-4C37-9765-52161F53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185-8CB6-440A-9516-7C9ADB77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EB3B-5917-4BEF-AF61-EB633C57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5D2C-0ECA-437C-BA6D-8A1DEF1E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79F7-5BCF-44CA-953D-CE9C01F2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6525-5713-45F2-8187-75871449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025F-D001-42B2-B4ED-CEDDC147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3757-ECB9-43AA-AEAB-1FAB0732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AD28-0F5F-43E3-8FB8-14B7B061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841C-25CA-4444-9A75-53C75D38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D8889-1D81-4C84-BB00-D4F18861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60FA2-E639-4AC1-B020-822A68BA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922-DD4C-423D-A85B-04D1C7F9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3F5D-ED96-4554-B003-D759B198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67533-39B0-4E34-8F2E-AFF9D761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4614-49D7-4656-A677-64D84730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B9190-3E45-4FBD-8726-1CA6199C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84145-128E-4D98-9C4A-364B58DB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16C91-DFD9-470A-A5D8-A0FDD6C4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2B0ED-8AEE-4FEA-A7BA-EA88E9CF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D31-3A78-485A-A501-FD22390F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518-0DB9-4CCD-A740-2C311FD6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36F-C53D-4977-89CC-472755F6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FE1-750D-4B2E-BFA6-5090463E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094-1202-4CE5-851E-9279B3E1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833-55BF-46AF-93FE-4E34F994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170C-EA1A-4088-97AF-119D9D1805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D63F-38DE-42F9-9295-5B30AF18EC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A864-6B89-4F08-81EC-84408AC114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835280" y="206064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Days of  the  wee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4000" y="404640"/>
            <a:ext cx="75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0464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English  Children’s 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413000"/>
            <a:ext cx="8893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星期有七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家都来数数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星期一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nday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背着书包去学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星期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esday,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伙伴们齐努力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星期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dnesday,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好本领为自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星期四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ursday,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天天取得好成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星期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iday, Saturday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做游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星期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nday,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做完作业干家务，干家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020000" y="1187280"/>
            <a:ext cx="1944720" cy="14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4000" y="404640"/>
            <a:ext cx="75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星期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ay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　 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星期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ues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  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星期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ednes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ay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星期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urs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星期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ri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星期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atur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ay 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星期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97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3333ff"/>
                </a:solidFill>
                <a:latin typeface="Arial"/>
              </a:rPr>
              <a:t>你知道吗？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773360"/>
            <a:ext cx="9144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在加拿大，每周的第一天是星期日，人们不工作，一般去教堂或走亲访友，周一到周五工作，周六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Saturday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是一周的最后一天，也是放假的日子。如果大家留心观察的话，现在我们的日历也是把周日放在第一位的。</a:t>
            </a:r>
            <a:r>
              <a:rPr b="0" lang="zh-CN" sz="3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574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4000" y="404640"/>
            <a:ext cx="75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197000"/>
            <a:ext cx="8497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完全形式　          缩写            中文意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Sun .   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星期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y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.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星期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e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es.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星期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dne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y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星期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ur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urs.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星期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.     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星期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ur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y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.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星期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5977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33ff"/>
                </a:solidFill>
                <a:latin typeface="Arial"/>
              </a:rPr>
              <a:t>你知道吗？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4000" y="404640"/>
            <a:ext cx="75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0"/>
            <a:ext cx="82803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小试牛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找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126828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全形式　             缩写            中文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y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es.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星期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e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d.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星期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dne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y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urs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星期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ur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.    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星期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.  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星期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2637000"/>
            <a:ext cx="1656000" cy="26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716360" y="2565360"/>
            <a:ext cx="1368360" cy="273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195640" y="2565000"/>
            <a:ext cx="1584360" cy="79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2565360"/>
            <a:ext cx="1297080" cy="79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916360" y="3499920"/>
            <a:ext cx="1008000" cy="505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3500280"/>
            <a:ext cx="1081080" cy="64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484360" y="4221000"/>
            <a:ext cx="1440000" cy="64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4221000"/>
            <a:ext cx="1297080" cy="79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763640" y="4941360"/>
            <a:ext cx="208764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00720" y="5013360"/>
            <a:ext cx="1511280" cy="64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cc00ff"/>
                </a:solidFill>
                <a:latin typeface="Arial"/>
              </a:rPr>
              <a:t>Let’s  sing  a  song 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241440" cy="5113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03640" y="1052640"/>
            <a:ext cx="6121440" cy="58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’s wearing red  trousers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nda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morni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e’s wearing a green dress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morni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’s wearing a white  sweater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morni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’s wearing blue  coat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dnesda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morni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5280" y="26028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cc00ff"/>
                </a:solidFill>
                <a:latin typeface="Arial"/>
              </a:rPr>
              <a:t>Let’s  sing  a  song 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241440" cy="5113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92360" y="1341360"/>
            <a:ext cx="565164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’s wearing purple shorts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morni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e’s wearing red shoes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ida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morni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’s wearing a yellow hat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urda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morni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32000" y="981000"/>
            <a:ext cx="6769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900000" y="3110040"/>
            <a:ext cx="7559640" cy="305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7:01:05Z</dcterms:created>
  <dc:creator/>
  <dc:description/>
  <dc:language>en-US</dc:language>
  <cp:lastModifiedBy>微软用户</cp:lastModifiedBy>
  <dcterms:modified xsi:type="dcterms:W3CDTF">2017-06-23T02:54:42Z</dcterms:modified>
  <cp:revision>81</cp:revision>
  <dc:subject/>
  <dc:title>幻灯片 1</dc:title>
</cp:coreProperties>
</file>