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34FB-956B-49BC-9CDB-AA4A9268DD7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CDA6-E17B-4087-9396-BCF7A0D0849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51E5-85CA-43D9-8B7E-3769DB4F359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374-D1B9-4C36-B0DB-6701EB3E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9B3-D5F7-4FFD-8B1D-BA1E06C8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E76-DC95-45A2-AEAA-8E57038C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53D-6F03-4E85-861C-FA4AF41B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3776-0271-47BF-9BEB-110D6D5C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EDF2-B8A3-4674-B251-8AD1616D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EA99-BA02-4828-8F54-E32DAE6D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5C84-C09C-4AC9-BC25-CE52D33B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0535-F2BD-40C9-AB5C-B05F51E2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35E5-7627-401C-88E5-46434E45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DEE3-95B5-4041-B211-94ABB152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64E-7962-48BE-8002-7934046E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1BDA-5E3A-4C46-BEA3-2179B282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6B6B-3A90-476A-9549-C85CD733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EA6D-B0D0-4536-A712-EFF51967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8BE9-3358-4947-8548-AB3BA8A0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4EEF-371F-4D5E-8476-07A40FCB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39F1-AD31-4CC6-A4B9-B75D56F5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EEC8D-7CCE-456E-9387-B064B018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8FDA0-46DF-486F-9EA5-37ED5740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7254E-5D71-4864-8513-34589CFA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98974-D6F0-4160-AC45-70412B98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0AD-6485-4690-883E-AC9CA2FD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B597F-811A-4665-B32B-0F29064C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BD3F-9741-482C-84C3-E23A128B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E73B1-9B27-4F51-95EA-5B287B9B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C1311-2B3B-4354-94B0-1A82B388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6849E-B518-42D9-A6EE-52B98A17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835FE-2D87-477E-81AB-55296FF7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2F78A-195C-40AB-AFB2-2979892C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46CA-B63D-49E1-ACFC-3BF0497D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390-B552-46E1-9B8D-1FA1A96C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595-B62A-478C-A73C-5EF814C1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152-0FBE-4FA3-9BB0-66CF2358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C38-2D25-4C17-8CEE-A9A7415C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D2C-296E-4E0F-A150-FEE005B8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061A-A60E-4C4B-A6AA-C812E2F1CA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AEAE-E973-41CF-B936-741D93A4777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4869-50F1-41B0-BB84-88DB37D1DDA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3.gi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3"/>
          <p:cNvSpPr txBox="1"/>
          <p:nvPr/>
        </p:nvSpPr>
        <p:spPr>
          <a:xfrm rot="21322200">
            <a:off x="380520" y="1828440"/>
            <a:ext cx="829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Arial Black"/>
              </a:rPr>
              <a:t>Welcome to our class!</a:t>
            </a:r>
            <a:endParaRPr b="1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3"/>
          <p:cNvSpPr/>
          <p:nvPr/>
        </p:nvSpPr>
        <p:spPr>
          <a:xfrm>
            <a:off x="133200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24000" y="76500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本节课我学会了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u=3608941386,329640890&amp;fm=0&amp;gp=0"/>
          <p:cNvPicPr/>
          <p:nvPr/>
        </p:nvPicPr>
        <p:blipFill>
          <a:blip r:embed="rId1"/>
          <a:stretch/>
        </p:blipFill>
        <p:spPr>
          <a:xfrm>
            <a:off x="468360" y="765000"/>
            <a:ext cx="6191280" cy="554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u=1143497098,2466259508&amp;fm=15&amp;gp=0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4005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想一想1"/>
          <p:cNvPicPr/>
          <p:nvPr/>
        </p:nvPicPr>
        <p:blipFill>
          <a:blip r:embed="rId3"/>
          <a:stretch/>
        </p:blipFill>
        <p:spPr>
          <a:xfrm>
            <a:off x="5410080" y="914400"/>
            <a:ext cx="12859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539640" y="404640"/>
            <a:ext cx="77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9" descr="图片6"/>
          <p:cNvPicPr/>
          <p:nvPr/>
        </p:nvPicPr>
        <p:blipFill>
          <a:blip r:embed="rId1"/>
          <a:srcRect l="16750" t="25079" r="10401" b="21002"/>
          <a:stretch/>
        </p:blipFill>
        <p:spPr>
          <a:xfrm>
            <a:off x="2743200" y="4495680"/>
            <a:ext cx="6400800" cy="2362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85800" y="5335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u=1143497098,2466259508&amp;fm=15&amp;gp=0"/>
          <p:cNvPicPr/>
          <p:nvPr/>
        </p:nvPicPr>
        <p:blipFill>
          <a:blip r:embed="rId2"/>
          <a:stretch/>
        </p:blipFill>
        <p:spPr>
          <a:xfrm>
            <a:off x="0" y="0"/>
            <a:ext cx="1219320" cy="5105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u=1143497098,2466259508&amp;fm=15&amp;gp=0"/>
          <p:cNvPicPr/>
          <p:nvPr/>
        </p:nvPicPr>
        <p:blipFill>
          <a:blip r:embed="rId3"/>
          <a:stretch/>
        </p:blipFill>
        <p:spPr>
          <a:xfrm rot="2779200">
            <a:off x="517320" y="4284360"/>
            <a:ext cx="1328760" cy="2818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7"/>
          <p:cNvSpPr/>
          <p:nvPr/>
        </p:nvSpPr>
        <p:spPr>
          <a:xfrm>
            <a:off x="1143000" y="137160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一、补全下列单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1.sh_es            2.cl_t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3.to_               4.bo_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5.b_ke            6.sh_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066680" y="228600"/>
            <a:ext cx="49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鲤鱼跳龙门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cc"/>
                </a:solidFill>
                <a:latin typeface="Arial"/>
              </a:rPr>
              <a:t>我会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99216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(   )1. Let's_____shopp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. go          B.going         C. to  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(   )2. I like_____very  mu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.tomato    B.tomatos     C.tomat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(   )3. How____some  can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.with         B.about         C.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(   )4. We  have____ba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. us           B. we            C. 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(   )5. He  want____some  potat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.buy          B. to  buy      C. bu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55" name="Picture 4" descr="BAS00275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411280" y="404640"/>
            <a:ext cx="543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Lesson 2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752480" y="1905120"/>
            <a:ext cx="678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hopping Onl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1143000" y="590400"/>
            <a:ext cx="812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57200" y="609480"/>
            <a:ext cx="7391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shop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现在分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)sh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p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shopping on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take              4.f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.easy              6.how m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ice crean      8.a story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9.buy a story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0.go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the book 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-1768320" y="236520"/>
            <a:ext cx="1839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685800" y="5335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380880"/>
            <a:ext cx="8763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t’s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go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to the book sho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28880" indent="-1028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28880" indent="-1028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We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ca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shop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on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28880" indent="-1028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28880" indent="-1028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Ca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buy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ice cream on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28880" indent="-1028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28880" indent="-1028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A:How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much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28880" indent="-1028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t's 40 yua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gg"/>
          <p:cNvPicPr/>
          <p:nvPr/>
        </p:nvPicPr>
        <p:blipFill>
          <a:blip r:embed="rId1"/>
          <a:stretch/>
        </p:blipFill>
        <p:spPr>
          <a:xfrm>
            <a:off x="0" y="0"/>
            <a:ext cx="216540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3"/>
          <p:cNvSpPr/>
          <p:nvPr/>
        </p:nvSpPr>
        <p:spPr>
          <a:xfrm>
            <a:off x="2590920" y="533520"/>
            <a:ext cx="4572000" cy="990360"/>
          </a:xfrm>
          <a:prstGeom prst="wedgeRoundRectCallout">
            <a:avLst>
              <a:gd name="adj1" fmla="val -60277"/>
              <a:gd name="adj2" fmla="val 775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1676520" y="4495680"/>
            <a:ext cx="5105160" cy="1219320"/>
          </a:xfrm>
          <a:prstGeom prst="wedgeRoundRectCallout">
            <a:avLst>
              <a:gd name="adj1" fmla="val 47106"/>
              <a:gd name="adj2" fmla="val -7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438280" y="312408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600200" y="46483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wan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to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bu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 story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a_(002)"/>
          <p:cNvPicPr/>
          <p:nvPr/>
        </p:nvPicPr>
        <p:blipFill>
          <a:blip r:embed="rId2"/>
          <a:srcRect l="63212" t="0" r="0" b="0"/>
          <a:stretch/>
        </p:blipFill>
        <p:spPr>
          <a:xfrm>
            <a:off x="6226200" y="2209680"/>
            <a:ext cx="2917800" cy="3651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658960" y="57312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do you want to bu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320" y="1066680"/>
            <a:ext cx="89154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Let’s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____(go) to the book sho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We can ____(shop) on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.Can I ___(buy) ice cream on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want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____(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y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 story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北京1"/>
          <p:cNvPicPr/>
          <p:nvPr/>
        </p:nvPicPr>
        <p:blipFill>
          <a:blip r:embed="rId1"/>
          <a:stretch/>
        </p:blipFill>
        <p:spPr>
          <a:xfrm>
            <a:off x="-150840" y="0"/>
            <a:ext cx="9294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468360" y="3573360"/>
            <a:ext cx="790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9640" y="2781360"/>
            <a:ext cx="7907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900000" y="1471680"/>
            <a:ext cx="1843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39640" y="2060640"/>
            <a:ext cx="79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508720" y="2757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5334120" y="1371600"/>
            <a:ext cx="183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4572000" y="268272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4429080" y="347508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4572000" y="4365720"/>
            <a:ext cx="184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788000" y="5084640"/>
            <a:ext cx="183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250920" y="4437000"/>
            <a:ext cx="79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24000" y="5157720"/>
            <a:ext cx="7905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457200" y="3808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大显身手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连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6"/>
          <p:cNvSpPr/>
          <p:nvPr/>
        </p:nvSpPr>
        <p:spPr>
          <a:xfrm>
            <a:off x="457200" y="1905120"/>
            <a:ext cx="259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7"/>
          <p:cNvSpPr/>
          <p:nvPr/>
        </p:nvSpPr>
        <p:spPr>
          <a:xfrm>
            <a:off x="4267080" y="1905120"/>
            <a:ext cx="167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星期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星期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星期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星期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4:00:19Z</dcterms:created>
  <dc:creator/>
  <dc:description/>
  <dc:language>en-US</dc:language>
  <cp:lastModifiedBy>微软用户</cp:lastModifiedBy>
  <dcterms:modified xsi:type="dcterms:W3CDTF">2017-05-05T07:11:00Z</dcterms:modified>
  <cp:revision>2</cp:revision>
  <dc:subject/>
  <dc:title/>
</cp:coreProperties>
</file>