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870-07D1-4CFC-A4E2-C39A9CA6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529-2E6A-4389-8747-5F5DA1AD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CB9-012C-4C89-829E-C4F06338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AA8-BB23-4410-8773-07656545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071B-40A9-4581-8245-0918EEA3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E7A8-6B5B-41A1-B080-EC095609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1716-2076-4CA6-A358-9268CC59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3568-C173-42CB-82EA-EFBACCDF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D53E-5BA1-4739-A85D-9CAA8A04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BD3E-BC10-4DC2-B36B-54B4CBF9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8597-388F-48BF-8A08-A947A38E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4C7-8721-427A-8FE2-1DE92956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D84F-F640-412E-9243-825F7694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2BA3-F7BC-4C71-BC94-B0312732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079B-A1B1-4A95-B4E5-8268FF84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C22A-D810-4F0C-BBD4-21DF164B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4D64-5ED8-49AB-8172-9F5AF508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58381-FEB5-410F-877E-38028BF5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59F6-E407-4FF5-A4BD-3B1ABC0E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08865-2F06-4F5A-BF71-01D1EC20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7E56F-7E9D-428E-AEE0-BE88C722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2C0D-787D-46E9-93DD-B2BF2539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A5C-1FCC-470B-AD56-7BF1EE8A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49271-329C-4037-8628-2DA865F6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E3848-70FD-485C-BB39-404FF85E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AC51A-9C1E-42FB-966F-9FE4BDF0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BC42B-E4AD-4891-9056-D9C89FC1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2F066-263C-466F-89AE-35E80356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57E1F-CB4A-48F1-9CEF-01B52122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5E8B-9AA0-4DDC-9C62-72C8E7BF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771-E8C0-4767-8A5E-F5A74940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23F-EF6B-4F0C-B233-4BE84E61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B2D-8B95-477D-AA34-C76BE622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B33-341A-4319-BE20-0AD1E1B1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5F9-57F7-417B-8929-8AB592EA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BDE-BB57-4E0A-A9DB-3BAA4C9E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84FD-F3CA-418E-B973-FFF2C1FDE1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C49B-7DED-4876-B02F-37CF98E8065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BB44-F772-49C2-AFA5-6D0DE0E39D9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New and old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54080" y="463680"/>
            <a:ext cx="4968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.   New and ol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9080" y="2060640"/>
            <a:ext cx="23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17080" y="479736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sw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1916280"/>
            <a:ext cx="24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w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1640" y="530064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ld 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1285920" cy="2000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1552320" cy="2219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427640" y="1052640"/>
            <a:ext cx="1985760" cy="2361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rcRect l="3194" t="-1726" r="0" b="0"/>
          <a:stretch/>
        </p:blipFill>
        <p:spPr>
          <a:xfrm>
            <a:off x="4356000" y="4076640"/>
            <a:ext cx="2043360" cy="21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chan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61927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like my new shir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7640" y="4797360"/>
            <a:ext cx="63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rt and skirt, on me and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5840" y="4149720"/>
            <a:ext cx="54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and old ,old and new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8160" y="33577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fits you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6360" y="2565360"/>
            <a:ext cx="4780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like your old skir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6360" y="184464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black and whi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43280" y="333360"/>
            <a:ext cx="1800360" cy="719280"/>
          </a:xfrm>
          <a:prstGeom prst="wedgeRoundRectCallout">
            <a:avLst>
              <a:gd name="adj1" fmla="val -3703"/>
              <a:gd name="adj2" fmla="val 44337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50920" y="4005360"/>
            <a:ext cx="1285920" cy="2305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866880" cy="2314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50920" y="549360"/>
            <a:ext cx="3529080" cy="576000"/>
          </a:xfrm>
          <a:prstGeom prst="wedgeRoundRectCallout">
            <a:avLst>
              <a:gd name="adj1" fmla="val -20175"/>
              <a:gd name="adj2" fmla="val 35495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you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58920" y="1700280"/>
            <a:ext cx="2592360" cy="720720"/>
          </a:xfrm>
          <a:prstGeom prst="wedgeRoundRectCallout">
            <a:avLst>
              <a:gd name="adj1" fmla="val -27893"/>
              <a:gd name="adj2" fmla="val 29779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new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1640" y="1557360"/>
            <a:ext cx="3313080" cy="1727280"/>
          </a:xfrm>
          <a:prstGeom prst="wedgeRoundRectCallout">
            <a:avLst>
              <a:gd name="adj1" fmla="val -45449"/>
              <a:gd name="adj2" fmla="val 13400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 It was a birthday gift from my m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04000" y="3860640"/>
            <a:ext cx="1285920" cy="2305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476360" y="3860640"/>
            <a:ext cx="866880" cy="2314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0920" y="476280"/>
            <a:ext cx="3457440" cy="1112760"/>
          </a:xfrm>
          <a:prstGeom prst="wedgeRoundRectCallout">
            <a:avLst>
              <a:gd name="adj1" fmla="val -19148"/>
              <a:gd name="adj2" fmla="val 2314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your pants . are they new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000" y="765000"/>
            <a:ext cx="2808360" cy="505080"/>
          </a:xfrm>
          <a:prstGeom prst="wedgeRoundRectCallout">
            <a:avLst>
              <a:gd name="adj1" fmla="val 32532"/>
              <a:gd name="adj2" fmla="val 53836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they’re  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989000"/>
            <a:ext cx="2952720" cy="720720"/>
          </a:xfrm>
          <a:prstGeom prst="wedgeRoundRectCallout">
            <a:avLst>
              <a:gd name="adj1" fmla="val -48925"/>
              <a:gd name="adj2" fmla="val 2088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‘re 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4000" y="1628640"/>
            <a:ext cx="2303640" cy="1368720"/>
          </a:xfrm>
          <a:prstGeom prst="wedgeRoundRectCallout">
            <a:avLst>
              <a:gd name="adj1" fmla="val 12851"/>
              <a:gd name="adj2" fmla="val 1754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y’re my favourite p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419280" y="2276280"/>
            <a:ext cx="310644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Y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2:49:49Z</dcterms:created>
  <dc:creator/>
  <dc:description/>
  <dc:language>en-US</dc:language>
  <cp:lastModifiedBy>微软用户</cp:lastModifiedBy>
  <dcterms:modified xsi:type="dcterms:W3CDTF">2017-05-05T06:40:43Z</dcterms:modified>
  <cp:revision>2</cp:revision>
  <dc:subject/>
  <dc:title/>
</cp:coreProperties>
</file>