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CF7-5A44-4E29-A96E-B3E3043D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8CC-CF87-4763-BE54-01CD6A1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86E-F67A-4451-85F6-A594ECD1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3F5-B2C3-4F18-A42E-E9E2F25F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376-A4AE-438F-9904-2F83118E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4B2A-BDBC-498F-81A4-711872B9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578-9482-48A7-B208-E273B9DA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04D2-97C3-42FC-B45B-6D8D455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78A-59E9-4245-9A6E-E1FC2E0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900-3539-4A54-8D02-AA05B279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7095-D1DE-4444-9E42-079F681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9B8-F19B-487D-818B-B571857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3626-95FE-4F1F-8939-0B71DCE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A692-0718-40E3-BB21-DBBE4A6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CE3-0D97-4824-972C-14AA3B7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9DD0-2605-46A2-96B0-28CFA047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90CD-2144-498B-B7DB-502CAD41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91B0-721D-4AF5-B41E-B2C6F2E8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8FEB-D3A8-48C3-A3B5-CCEEFE4F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CBF3-0AE2-4416-87ED-E7AEAE7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B6E4-D86D-44E5-A220-589AEAD1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8A57-C4B1-49F4-943E-C75CC62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F6F-B4C6-4992-9E17-C5D0A98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62FD-579A-4F67-8593-B95E5108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B416-DCCB-4F5F-AE6B-E9B26D4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56FA-1C7A-4216-9B41-0EF7BDB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053F-404D-4D12-9C29-238EC02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904B-EB58-440D-ABC0-F4EAEDCC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C5EF-5CE4-49B1-88EB-479660B3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3DCE-58B7-4508-9840-9CD3BE32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8FA-0629-4D4E-9967-FCE2EC1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FA0-8062-43E8-947F-5778F5EA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86-5017-4007-A769-0D702762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79E-CEF2-4ACB-B06C-5F842EF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EA5-1328-4585-9692-612CB0E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DD7-F226-487A-B8BF-5F7C3984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8BC4-1863-4775-BC19-5114770B5C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8F18-1845-49B6-97FF-05B8CABA55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BE67-EE0B-4859-AD84-FF1159C132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626920" y="1557000"/>
            <a:ext cx="4691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st in the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ory 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have a sister. Her name is Kit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e lives in the city. I miss her very much. Today, I am going to visit 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many new streets in the city. Where is my sister’s ho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meet a nice dog. The dog says, “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ok! Go straight and turn lef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549360"/>
            <a:ext cx="244944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use 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2205000"/>
            <a:ext cx="1800000" cy="863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060640"/>
            <a:ext cx="3600360" cy="1368360"/>
          </a:xfrm>
          <a:prstGeom prst="wedgeRoundRectCallout">
            <a:avLst>
              <a:gd name="adj1" fmla="val -43518"/>
              <a:gd name="adj2" fmla="val 9524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lost. Where is the NIC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en I get there, I see the MICE house, not the NICE house. Oh 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149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eet an old bird. The old bird says, “Go straight and turn right at the traffic lights. Then you will see the NICE house on the lef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692280"/>
            <a:ext cx="29530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use me, where is the NICE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852640"/>
            <a:ext cx="237492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0836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ll show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75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I get to the NICE house. My sister is happy to see me. I say, “What a big city! I got lost, but a dog and a bird helpe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1268280"/>
            <a:ext cx="2592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isse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2133720"/>
            <a:ext cx="338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missed you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lk and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7756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helps the cat find the NICE h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 out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8:08:07Z</dcterms:created>
  <dc:creator/>
  <dc:description/>
  <dc:language>en-US</dc:language>
  <cp:lastModifiedBy>微软用户</cp:lastModifiedBy>
  <dcterms:modified xsi:type="dcterms:W3CDTF">2017-05-22T07:23:50Z</dcterms:modified>
  <cp:revision>6</cp:revision>
  <dc:subject/>
  <dc:title/>
</cp:coreProperties>
</file>