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DC79-E76D-4C94-B94F-249E85213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D6AB-C703-40D7-8D47-22A7F54D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4F15-A628-4824-AFC4-825509CB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DBE2-E7FF-42F6-AA3F-6AF88B88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54DA-BD63-40FC-85B7-8950CA0BA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2A0F-FD20-42C0-8A1A-8FD49D2E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5937-5DFF-45C6-B285-E075188F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8DCF-4313-4BF1-8A47-C5F7D0DD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A6E4-E304-4705-A540-30BA66BA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AB42-01B6-485E-8744-808664FC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27D4-2B70-476A-8218-F13EFC3C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9A91-D126-4BAA-B657-8FA08C18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85DA-8322-4A56-988D-D3E30F7D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B24C-E409-474B-B191-AA36A1D4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4BE2-128A-4A58-8879-447BB25E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F400-0744-4CDD-86A3-43E1CBA3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C41A-D07A-4BBC-BA50-629CB651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E7165-15F5-4085-BE8A-3DB853F3D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A7798-5A10-4D51-99BA-83DCA981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69008-3B6F-4C9E-8882-64E271CE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E2962-28A9-46B2-BF05-55D8F90E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6B6B7-4127-4B96-A1E7-887A8834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AC65-2971-4601-BEFF-9DE0930C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137FB-151C-4AFF-A1C5-763C546A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05C84-E9A0-4BB1-915E-4475F8C8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68748-6D0D-4B25-8BF6-1D8DE73A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E16E0-DA37-4CF9-BC37-6EFC6B32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2B1AE-CFE7-41E6-97B7-7E5A0F88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4E6B5-0D49-4A76-8E45-94911C62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61549-C1DB-4720-9B62-57F9BCF58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589C-8C7D-4EC9-A8E0-881E8BDD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ECE8-3552-4BC2-9CDA-8D02965E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676E-001B-4F33-A7FA-71F0C955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2A5F-F235-4312-B492-21957BA8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B5B7-5057-4030-AE27-5F6B6DD5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9C7D-079F-483A-96B2-73A75400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A053-7647-4994-BC64-062713471A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868D-31F6-4857-A31D-2651DECEFBB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FE3E-26C8-4E69-9BA4-1F9CED15C18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2130120"/>
            <a:ext cx="432108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8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t in the 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11T03:34:42Z</dcterms:created>
  <dc:creator/>
  <dc:description/>
  <dc:language>en-US</dc:language>
  <cp:lastModifiedBy>微软用户</cp:lastModifiedBy>
  <dcterms:modified xsi:type="dcterms:W3CDTF">2017-05-05T07:04:28Z</dcterms:modified>
  <cp:revision>2</cp:revision>
  <dc:subject/>
  <dc:title/>
</cp:coreProperties>
</file>