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cashreg.wav" ContentType="audio/x-wav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projctor.wav" ContentType="audio/x-wav"/>
  <Override PartName="/ppt/media/image16.jpeg" ContentType="image/jpeg"/>
  <Override PartName="/ppt/media/image13.jpeg" ContentType="image/jpeg"/>
  <Override PartName="/ppt/media/image21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32F-CD5D-4E92-8D6B-86B406ED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F4C-590C-4800-B717-656106A4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103-05C7-4894-B9AB-EE5BABC2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557-18B4-459C-84F2-0A54C410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F81E-B821-4B9E-BE0A-F5488B81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F2AE-976C-4EF4-A8C6-9A21C1C9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38CF-10B0-4474-8CD9-97733460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7199-827B-4D4A-B0CD-B6068B5B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578E-3475-4AE4-9BFB-4A8858F0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A4D8-7F9D-447B-B001-9C1F860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D182-161C-4E89-B3E8-D452487D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521-8C10-47B6-A135-838209A6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FE5B-5E11-45FA-8DF0-D64A722E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2A13-F462-4DC0-BA25-721B198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63F5-D114-4C1F-9AAB-920C0443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7E6D-6665-47E5-80DB-FC94323B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DDD1-E195-4FDD-B231-A6DD5CD5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3D97-A47A-4324-BF7C-1B2D1AEA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34FE-8D11-42F1-908D-C53336E8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C20D-A65F-43FF-ABA3-440BA098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42A1-B776-4AB8-AAF6-5A832824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8B08-617E-454F-B4A2-65F0DBD3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8FF-58C1-4E98-9D46-11757306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AAF63-F61C-41C7-85DD-62A547B3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85EC-6D42-4B59-B1D7-A75C62AE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BF9E-6703-47BE-90ED-A7985AAA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D33E-15C7-4B16-8ABA-1F10F925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1740-FFE5-482D-89E4-6E0B1B04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DABE-5DD6-4936-8DD6-49E57FC0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9A68-685D-49A9-8B52-CC1600BE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C49-B542-4CA9-BDBA-B61F6212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0A0-5BEB-4927-A84E-AD863DBA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8C8-BE02-4FC9-96FF-8714BD67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BA1-A031-461D-A4C5-645EC9E0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098-3824-43DC-A06B-7F891E33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E67-4C58-495D-AB4F-73D78F50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A063-8866-422B-B938-182A748232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E950-3B02-44A1-862C-9D0C9A9026D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6ABC-8F78-4BCE-95A9-42AA4532CA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audio" Target="file:///tmp/home/.config/libreoffice/4/user/gallery/&#24778;.WAV" TargetMode="External"/><Relationship Id="rId6" Type="http://schemas.microsoft.com/office/2007/relationships/media" Target="file:///tmp/home/.config/libreoffice/4/user/gallery/&#24778;.WAV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audio" Target="file:///tmp/home/.config/libreoffice/4/user/gallery/cashreg.wav" TargetMode="External"/><Relationship Id="rId5" Type="http://schemas.microsoft.com/office/2007/relationships/media" Target="file:///tmp/home/.config/libreoffice/4/user/gallery/cashreg.wav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" Target="slide26.xml"/><Relationship Id="rId4" Type="http://schemas.openxmlformats.org/officeDocument/2006/relationships/image" Target="../media/image1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file:///tmp/home/.config/libreoffice/4/user/gallery/projctor.wav" TargetMode="External"/><Relationship Id="rId6" Type="http://schemas.microsoft.com/office/2007/relationships/media" Target="file:///tmp/home/.config/libreoffice/4/user/gallery/projctor.wav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611280" y="1052640"/>
            <a:ext cx="777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Lesson 21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Cinema and Pa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1640" y="5013360"/>
            <a:ext cx="522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771640" y="836640"/>
            <a:ext cx="5399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长城"/>
          <p:cNvPicPr/>
          <p:nvPr/>
        </p:nvPicPr>
        <p:blipFill>
          <a:blip r:embed="rId1"/>
          <a:stretch/>
        </p:blipFill>
        <p:spPr>
          <a:xfrm>
            <a:off x="2987640" y="4005360"/>
            <a:ext cx="1579680" cy="136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超市"/>
          <p:cNvPicPr/>
          <p:nvPr/>
        </p:nvPicPr>
        <p:blipFill>
          <a:blip r:embed="rId2"/>
          <a:stretch/>
        </p:blipFill>
        <p:spPr>
          <a:xfrm>
            <a:off x="971640" y="4043520"/>
            <a:ext cx="1711080" cy="1373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电影院"/>
          <p:cNvPicPr/>
          <p:nvPr/>
        </p:nvPicPr>
        <p:blipFill>
          <a:blip r:embed="rId3"/>
          <a:stretch/>
        </p:blipFill>
        <p:spPr>
          <a:xfrm>
            <a:off x="2916360" y="2349360"/>
            <a:ext cx="1800000" cy="1347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zoo"/>
          <p:cNvPicPr/>
          <p:nvPr/>
        </p:nvPicPr>
        <p:blipFill>
          <a:blip r:embed="rId4"/>
          <a:stretch/>
        </p:blipFill>
        <p:spPr>
          <a:xfrm>
            <a:off x="971640" y="2349360"/>
            <a:ext cx="1728720" cy="1312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1835280" y="836640"/>
            <a:ext cx="53290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 Black"/>
              </a:rPr>
              <a:t>What’s Mis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baseline="30000">
                <a:solidFill>
                  <a:srgbClr val="000099"/>
                </a:solidFill>
                <a:latin typeface="Arial Black"/>
                <a:ea typeface="幼圆"/>
              </a:rPr>
              <a:t>看看缺了哪幅图片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6877080" y="3645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公园"/>
          <p:cNvPicPr/>
          <p:nvPr/>
        </p:nvPicPr>
        <p:blipFill>
          <a:blip r:embed="rId8"/>
          <a:stretch/>
        </p:blipFill>
        <p:spPr>
          <a:xfrm>
            <a:off x="5580000" y="2781360"/>
            <a:ext cx="259416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343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8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35280" y="836640"/>
            <a:ext cx="53290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 Black"/>
              </a:rPr>
              <a:t>What’s Mis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baseline="30000">
                <a:solidFill>
                  <a:srgbClr val="000099"/>
                </a:solidFill>
                <a:latin typeface="Arial Black"/>
                <a:ea typeface="幼圆"/>
              </a:rPr>
              <a:t>看看缺了哪幅图片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长城"/>
          <p:cNvPicPr/>
          <p:nvPr/>
        </p:nvPicPr>
        <p:blipFill>
          <a:blip r:embed="rId1"/>
          <a:stretch/>
        </p:blipFill>
        <p:spPr>
          <a:xfrm>
            <a:off x="971640" y="2382840"/>
            <a:ext cx="1579320" cy="137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公园"/>
          <p:cNvPicPr/>
          <p:nvPr/>
        </p:nvPicPr>
        <p:blipFill>
          <a:blip r:embed="rId2"/>
          <a:stretch/>
        </p:blipFill>
        <p:spPr>
          <a:xfrm>
            <a:off x="2916360" y="2349360"/>
            <a:ext cx="1766880" cy="1373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超市"/>
          <p:cNvPicPr/>
          <p:nvPr/>
        </p:nvPicPr>
        <p:blipFill>
          <a:blip r:embed="rId3"/>
          <a:stretch/>
        </p:blipFill>
        <p:spPr>
          <a:xfrm>
            <a:off x="971640" y="4076640"/>
            <a:ext cx="1711080" cy="1373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30072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zoo"/>
          <p:cNvPicPr/>
          <p:nvPr/>
        </p:nvPicPr>
        <p:blipFill>
          <a:blip r:embed="rId7"/>
          <a:stretch/>
        </p:blipFill>
        <p:spPr>
          <a:xfrm>
            <a:off x="2987640" y="4076640"/>
            <a:ext cx="1712880" cy="1359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电影院"/>
          <p:cNvPicPr/>
          <p:nvPr/>
        </p:nvPicPr>
        <p:blipFill>
          <a:blip r:embed="rId8"/>
          <a:stretch/>
        </p:blipFill>
        <p:spPr>
          <a:xfrm>
            <a:off x="5148360" y="2708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4486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4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619280" y="981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Can   you   sa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2362320"/>
            <a:ext cx="815364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ff66ff"/>
                </a:solidFill>
                <a:latin typeface="Times New Roman"/>
              </a:rPr>
              <a:t>I want  to  go  to  the</a:t>
            </a:r>
            <a:r>
              <a:rPr b="0" lang="zh-CN" sz="3200" spc="-1" strike="noStrike">
                <a:solidFill>
                  <a:srgbClr val="3366cc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3366cc"/>
                </a:solidFill>
                <a:latin typeface="Times New Roman"/>
                <a:ea typeface="Dotum"/>
              </a:rPr>
              <a:t>＿</a:t>
            </a:r>
            <a:r>
              <a:rPr b="0" lang="zh-CN" sz="5400" spc="-1" strike="noStrike">
                <a:solidFill>
                  <a:srgbClr val="3366cc"/>
                </a:solidFill>
                <a:latin typeface="Times New Roman"/>
                <a:ea typeface="Dotum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cc"/>
                </a:solidFill>
                <a:latin typeface="Times New Roman"/>
                <a:ea typeface="Dotum"/>
              </a:rPr>
              <a:t> </a:t>
            </a:r>
            <a:r>
              <a:rPr b="0" lang="zh-CN" sz="5400" spc="-1" strike="noStrike">
                <a:solidFill>
                  <a:srgbClr val="3366cc"/>
                </a:solidFill>
                <a:latin typeface="Times New Roman"/>
                <a:ea typeface="Dotum"/>
              </a:rPr>
              <a:t>Where do you want to g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D10256_"/>
          <p:cNvPicPr/>
          <p:nvPr/>
        </p:nvPicPr>
        <p:blipFill>
          <a:blip r:embed="rId1"/>
          <a:stretch/>
        </p:blipFill>
        <p:spPr>
          <a:xfrm>
            <a:off x="1219320" y="1981080"/>
            <a:ext cx="6858000" cy="114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zoo"/>
          <p:cNvPicPr/>
          <p:nvPr/>
        </p:nvPicPr>
        <p:blipFill>
          <a:blip r:embed="rId1"/>
          <a:stretch/>
        </p:blipFill>
        <p:spPr>
          <a:xfrm>
            <a:off x="684360" y="333360"/>
            <a:ext cx="7488000" cy="4175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547640" y="4508640"/>
            <a:ext cx="633744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I want to go to</a:t>
            </a:r>
            <a:r>
              <a:rPr b="1" lang="en-US" sz="4000" spc="-1" strike="noStrike">
                <a:solidFill>
                  <a:srgbClr val="9933ff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the z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Where do you want to go?</a:t>
            </a:r>
            <a:r>
              <a:rPr b="1" lang="en-US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电影院"/>
          <p:cNvPicPr/>
          <p:nvPr/>
        </p:nvPicPr>
        <p:blipFill>
          <a:blip r:embed="rId1"/>
          <a:stretch/>
        </p:blipFill>
        <p:spPr>
          <a:xfrm>
            <a:off x="1332000" y="441360"/>
            <a:ext cx="6264360" cy="42829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258920" y="4508640"/>
            <a:ext cx="691344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I want to go to</a:t>
            </a:r>
            <a:r>
              <a:rPr b="1" lang="en-US" sz="4000" spc="-1" strike="noStrike">
                <a:solidFill>
                  <a:srgbClr val="9933ff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the cine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Where do you want to go?</a:t>
            </a:r>
            <a:r>
              <a:rPr b="1" lang="en-US" sz="5400" spc="-1" strike="noStrike">
                <a:solidFill>
                  <a:srgbClr val="9933ff"/>
                </a:solidFill>
                <a:latin typeface="方正舒体"/>
                <a:ea typeface="方正舒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超市"/>
          <p:cNvPicPr/>
          <p:nvPr/>
        </p:nvPicPr>
        <p:blipFill>
          <a:blip r:embed="rId1"/>
          <a:stretch/>
        </p:blipFill>
        <p:spPr>
          <a:xfrm>
            <a:off x="1908000" y="549360"/>
            <a:ext cx="5472360" cy="43894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755640" y="4797360"/>
            <a:ext cx="1058544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I want to go to</a:t>
            </a:r>
            <a:r>
              <a:rPr b="1" lang="en-US" sz="4000" spc="-1" strike="noStrike">
                <a:solidFill>
                  <a:srgbClr val="9933ff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the supermark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Where do you want to go?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公园"/>
          <p:cNvPicPr/>
          <p:nvPr/>
        </p:nvPicPr>
        <p:blipFill>
          <a:blip r:embed="rId1"/>
          <a:stretch/>
        </p:blipFill>
        <p:spPr>
          <a:xfrm>
            <a:off x="1619280" y="476280"/>
            <a:ext cx="5761080" cy="448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08000" y="4869000"/>
            <a:ext cx="82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 want to go to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the p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Where do you want to 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9"/>
          <p:cNvSpPr/>
          <p:nvPr/>
        </p:nvSpPr>
        <p:spPr>
          <a:xfrm>
            <a:off x="468360" y="170028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: Hello / Hi, 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B: Hello / Hi, 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: I want to go to th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ark , zoo , supermarket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Where do you want to g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:I want to go to th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A: All right.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Good.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OK.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Gr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16720" y="7650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Let’s go to eat some ice cream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176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284720" y="2205000"/>
            <a:ext cx="4859280" cy="2016000"/>
          </a:xfrm>
          <a:prstGeom prst="wedgeEllipseCallout">
            <a:avLst>
              <a:gd name="adj1" fmla="val -52416"/>
              <a:gd name="adj2" fmla="val 620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Let’s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go to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 eat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some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 ice crea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282840" cy="5472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0920" y="1125360"/>
            <a:ext cx="5184720" cy="3529080"/>
          </a:xfrm>
          <a:prstGeom prst="wedgeEllipseCallout">
            <a:avLst>
              <a:gd name="adj1" fmla="val 62337"/>
              <a:gd name="adj2" fmla="val 3799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No,Danny!</a:t>
            </a:r>
            <a:r>
              <a:rPr b="1" i="1" lang="zh-CN" sz="4400" spc="-1" strike="noStrike">
                <a:solidFill>
                  <a:srgbClr val="ff00ff"/>
                </a:solidFill>
                <a:latin typeface="Times New Roman"/>
              </a:rPr>
              <a:t>Not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zh-CN" sz="4400" spc="-1" strike="noStrike">
                <a:solidFill>
                  <a:srgbClr val="ff00ff"/>
                </a:solidFill>
                <a:latin typeface="Times New Roman"/>
              </a:rPr>
              <a:t>now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.I want </a:t>
            </a: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to buy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 a dr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Gues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42960" y="1285560"/>
            <a:ext cx="8501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It's big. It's fat. It's black and whi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It likes eating bamboo le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What's it? Do you know?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2786040" y="5286240"/>
            <a:ext cx="37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a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230640" cy="4464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80000" y="1700280"/>
            <a:ext cx="4824360" cy="3744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I’m tired.I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don’t want to buy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a dres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867280" y="836640"/>
            <a:ext cx="2938680" cy="5257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68360" y="1773360"/>
            <a:ext cx="4464000" cy="3456000"/>
          </a:xfrm>
          <a:prstGeom prst="wedgeEllipseCallout">
            <a:avLst>
              <a:gd name="adj1" fmla="val 84388"/>
              <a:gd name="adj2" fmla="val 1582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ell,I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don’t want to eat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ice crea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020760" cy="4176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211640" y="476280"/>
            <a:ext cx="4176720" cy="3600360"/>
          </a:xfrm>
          <a:prstGeom prst="wedgeRoundRectCallout">
            <a:avLst>
              <a:gd name="adj1" fmla="val -82458"/>
              <a:gd name="adj2" fmla="val 2685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Let’s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go to</a:t>
            </a: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 the cinema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to see</a:t>
            </a: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 a fil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93080" y="3357720"/>
            <a:ext cx="1609560" cy="2879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132000" y="4437000"/>
            <a:ext cx="1944720" cy="1297080"/>
          </a:xfrm>
          <a:prstGeom prst="wedgeRoundRectCallout">
            <a:avLst>
              <a:gd name="adj1" fmla="val 113018"/>
              <a:gd name="adj2" fmla="val 4534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ff"/>
                </a:solidFill>
                <a:latin typeface="Times New Roman"/>
              </a:rPr>
              <a:t>No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67040" cy="396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635280" y="549360"/>
            <a:ext cx="4392720" cy="2305080"/>
          </a:xfrm>
          <a:prstGeom prst="wedgeRoundRectCallout">
            <a:avLst>
              <a:gd name="adj1" fmla="val -75768"/>
              <a:gd name="adj2" fmla="val 4979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Let’s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go to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 the park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to fly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 kit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659640" y="2924280"/>
            <a:ext cx="2012760" cy="3600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419640" y="4005360"/>
            <a:ext cx="2304720" cy="1584360"/>
          </a:xfrm>
          <a:prstGeom prst="wedgeRoundRectCallout">
            <a:avLst>
              <a:gd name="adj1" fmla="val 78444"/>
              <a:gd name="adj2" fmla="val 2425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867040" cy="3960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348000" y="692280"/>
            <a:ext cx="5148360" cy="2232000"/>
          </a:xfrm>
          <a:prstGeom prst="wedgeRoundRectCallout">
            <a:avLst>
              <a:gd name="adj1" fmla="val -43185"/>
              <a:gd name="adj2" fmla="val 6742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Let’s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go to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 the library </a:t>
            </a:r>
            <a:r>
              <a:rPr b="1" i="1" lang="en-US" sz="4400" spc="-1" strike="noStrike">
                <a:solidFill>
                  <a:srgbClr val="ff00ff"/>
                </a:solidFill>
                <a:latin typeface="Times New Roman"/>
              </a:rPr>
              <a:t>to read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 a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659640" y="2924280"/>
            <a:ext cx="2012760" cy="3600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835280" y="4508640"/>
            <a:ext cx="4176720" cy="1728720"/>
          </a:xfrm>
          <a:prstGeom prst="wedgeRoundRectCallout">
            <a:avLst>
              <a:gd name="adj1" fmla="val 74023"/>
              <a:gd name="adj2" fmla="val -5844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Times New Roman"/>
              </a:rPr>
              <a:t>No,Dann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Times New Roman"/>
              </a:rPr>
              <a:t>Stop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655720" cy="4753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76720" y="1052640"/>
            <a:ext cx="4824360" cy="1655640"/>
          </a:xfrm>
          <a:prstGeom prst="wedgeRoundRectCallout">
            <a:avLst>
              <a:gd name="adj1" fmla="val -63884"/>
              <a:gd name="adj2" fmla="val 8087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 you 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is d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724360" y="2997360"/>
            <a:ext cx="3165480" cy="3627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763640" y="4221000"/>
            <a:ext cx="3313080" cy="1729080"/>
          </a:xfrm>
          <a:prstGeom prst="wedgeEllipseCallout">
            <a:avLst>
              <a:gd name="adj1" fmla="val 78462"/>
              <a:gd name="adj2" fmla="val -80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公园"/>
          <p:cNvPicPr/>
          <p:nvPr/>
        </p:nvPicPr>
        <p:blipFill>
          <a:blip r:embed="rId1"/>
          <a:stretch/>
        </p:blipFill>
        <p:spPr>
          <a:xfrm>
            <a:off x="2928960" y="2143080"/>
            <a:ext cx="2286000" cy="1266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电影院"/>
          <p:cNvPicPr/>
          <p:nvPr/>
        </p:nvPicPr>
        <p:blipFill>
          <a:blip r:embed="rId2"/>
          <a:stretch/>
        </p:blipFill>
        <p:spPr>
          <a:xfrm>
            <a:off x="3071880" y="3929040"/>
            <a:ext cx="2047680" cy="1533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4eed8d9522648e5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88000" y="1773360"/>
            <a:ext cx="2556000" cy="13507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6877080" y="335772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84360" y="2205000"/>
            <a:ext cx="291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724360" y="2349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3571920" y="16430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63640" y="6093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我们乘公共汽车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zoo"/>
          <p:cNvPicPr/>
          <p:nvPr/>
        </p:nvPicPr>
        <p:blipFill>
          <a:blip r:embed="rId5"/>
          <a:stretch/>
        </p:blipFill>
        <p:spPr>
          <a:xfrm>
            <a:off x="2928960" y="285840"/>
            <a:ext cx="2386080" cy="14698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3571920" y="342900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429000" y="55008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0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39a4127e5ac4807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84720" y="2349360"/>
            <a:ext cx="2700360" cy="1611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971640" y="2133720"/>
            <a:ext cx="2448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Let’s go to  the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1979640" y="4076640"/>
            <a:ext cx="1403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zoo"/>
          <p:cNvPicPr/>
          <p:nvPr/>
        </p:nvPicPr>
        <p:blipFill>
          <a:blip r:embed="rId3"/>
          <a:stretch/>
        </p:blipFill>
        <p:spPr>
          <a:xfrm>
            <a:off x="2987640" y="1125360"/>
            <a:ext cx="2664000" cy="1641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公园"/>
          <p:cNvPicPr/>
          <p:nvPr/>
        </p:nvPicPr>
        <p:blipFill>
          <a:blip r:embed="rId4"/>
          <a:stretch/>
        </p:blipFill>
        <p:spPr>
          <a:xfrm>
            <a:off x="3132000" y="3068640"/>
            <a:ext cx="2952720" cy="1635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超市"/>
          <p:cNvPicPr/>
          <p:nvPr/>
        </p:nvPicPr>
        <p:blipFill>
          <a:blip r:embed="rId5"/>
          <a:stretch/>
        </p:blipFill>
        <p:spPr>
          <a:xfrm>
            <a:off x="3132000" y="4869000"/>
            <a:ext cx="2664000" cy="16048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43640" y="4437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y ca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看图说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et’s  go  to  the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 OK,Let’s 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zoo      B.park    C.cin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a zoo"/>
          <p:cNvPicPr/>
          <p:nvPr/>
        </p:nvPicPr>
        <p:blipFill>
          <a:blip r:embed="rId1"/>
          <a:stretch/>
        </p:blipFill>
        <p:spPr>
          <a:xfrm>
            <a:off x="2484360" y="3860640"/>
            <a:ext cx="2952720" cy="2535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403280" y="21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A:Let’s  go  to  the 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Great.But how? By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car      B.plane     C.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a bike"/>
          <p:cNvPicPr/>
          <p:nvPr/>
        </p:nvPicPr>
        <p:blipFill>
          <a:blip r:embed="rId1"/>
          <a:stretch/>
        </p:blipFill>
        <p:spPr>
          <a:xfrm>
            <a:off x="2771640" y="3500280"/>
            <a:ext cx="3384720" cy="3097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87280" y="765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Gues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71720" y="1071360"/>
            <a:ext cx="8501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It's small. It's lovely. It's brown and blac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It like eating bananas.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2571840" y="4500720"/>
            <a:ext cx="285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monk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64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et’s  go  to  the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All  right.let’s 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BeiJing  B. Xi’an  C.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a park"/>
          <p:cNvPicPr/>
          <p:nvPr/>
        </p:nvPicPr>
        <p:blipFill>
          <a:blip r:embed="rId1"/>
          <a:stretch/>
        </p:blipFill>
        <p:spPr>
          <a:xfrm>
            <a:off x="2627280" y="2924280"/>
            <a:ext cx="3960720" cy="3413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042920" y="1125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Gues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28800" y="1071360"/>
            <a:ext cx="8501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It's small. It's brown and black, to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It likes eating fish.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2643120" y="4286160"/>
            <a:ext cx="250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zoo"/>
          <p:cNvPicPr/>
          <p:nvPr/>
        </p:nvPicPr>
        <p:blipFill>
          <a:blip r:embed="rId1"/>
          <a:stretch/>
        </p:blipFill>
        <p:spPr>
          <a:xfrm>
            <a:off x="971640" y="620640"/>
            <a:ext cx="7056360" cy="4392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484360" y="5157720"/>
            <a:ext cx="39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a zo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超市"/>
          <p:cNvPicPr/>
          <p:nvPr/>
        </p:nvPicPr>
        <p:blipFill>
          <a:blip r:embed="rId1"/>
          <a:stretch/>
        </p:blipFill>
        <p:spPr>
          <a:xfrm>
            <a:off x="1428840" y="500040"/>
            <a:ext cx="6357960" cy="509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1476360" y="5229360"/>
            <a:ext cx="66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a supermark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电影院"/>
          <p:cNvPicPr/>
          <p:nvPr/>
        </p:nvPicPr>
        <p:blipFill>
          <a:blip r:embed="rId1"/>
          <a:stretch/>
        </p:blipFill>
        <p:spPr>
          <a:xfrm>
            <a:off x="1332000" y="441360"/>
            <a:ext cx="62643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2411280" y="5229360"/>
            <a:ext cx="43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a cin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公园"/>
          <p:cNvPicPr/>
          <p:nvPr/>
        </p:nvPicPr>
        <p:blipFill>
          <a:blip r:embed="rId1"/>
          <a:stretch/>
        </p:blipFill>
        <p:spPr>
          <a:xfrm>
            <a:off x="1619280" y="476280"/>
            <a:ext cx="5761080" cy="448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908000" y="5157720"/>
            <a:ext cx="49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a pa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835280" y="836640"/>
            <a:ext cx="53290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 Black"/>
              </a:rPr>
              <a:t>What’s Mis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baseline="30000">
                <a:solidFill>
                  <a:srgbClr val="000099"/>
                </a:solidFill>
                <a:latin typeface="Arial Black"/>
                <a:ea typeface="幼圆"/>
              </a:rPr>
              <a:t>看看缺了哪幅图片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长城"/>
          <p:cNvPicPr/>
          <p:nvPr/>
        </p:nvPicPr>
        <p:blipFill>
          <a:blip r:embed="rId1"/>
          <a:stretch/>
        </p:blipFill>
        <p:spPr>
          <a:xfrm>
            <a:off x="971640" y="2382840"/>
            <a:ext cx="157932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公园"/>
          <p:cNvPicPr/>
          <p:nvPr/>
        </p:nvPicPr>
        <p:blipFill>
          <a:blip r:embed="rId2"/>
          <a:stretch/>
        </p:blipFill>
        <p:spPr>
          <a:xfrm>
            <a:off x="2916360" y="2349360"/>
            <a:ext cx="1766880" cy="1373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超市"/>
          <p:cNvPicPr/>
          <p:nvPr/>
        </p:nvPicPr>
        <p:blipFill>
          <a:blip r:embed="rId3"/>
          <a:stretch/>
        </p:blipFill>
        <p:spPr>
          <a:xfrm>
            <a:off x="971640" y="4076640"/>
            <a:ext cx="1711080" cy="13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电影院"/>
          <p:cNvPicPr/>
          <p:nvPr/>
        </p:nvPicPr>
        <p:blipFill>
          <a:blip r:embed="rId4"/>
          <a:stretch/>
        </p:blipFill>
        <p:spPr>
          <a:xfrm>
            <a:off x="2987640" y="407664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630072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zoo"/>
          <p:cNvPicPr/>
          <p:nvPr/>
        </p:nvPicPr>
        <p:blipFill>
          <a:blip r:embed="rId8"/>
          <a:stretch/>
        </p:blipFill>
        <p:spPr>
          <a:xfrm>
            <a:off x="5219640" y="2924280"/>
            <a:ext cx="259092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486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43:37Z</dcterms:created>
  <dc:creator/>
  <dc:description/>
  <dc:language>en-US</dc:language>
  <cp:lastModifiedBy>微软用户</cp:lastModifiedBy>
  <dcterms:modified xsi:type="dcterms:W3CDTF">2017-05-22T07:31:32Z</dcterms:modified>
  <cp:revision>3</cp:revision>
  <dc:subject/>
  <dc:title/>
</cp:coreProperties>
</file>