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D6A-CA56-47F5-BC6A-940EB595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54E-407C-4672-9305-4C047BC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CEB-4F5C-4CB3-A78D-8C276983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86F-8B3A-4AB5-BC71-54AF5528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8615-2C02-4AA1-AAE4-489C1018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038-C894-4F0D-A39B-92C2C2B0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ADB5-AC29-4494-BE15-4D0C4A9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5B00-47FA-4A01-B1BE-C01D98DD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DCD-C083-4D15-AE33-51F3D3E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10BD-D70A-4369-97B7-434A7FFE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B9EF-5651-44B0-A371-E0D3BEE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E89-B270-408D-9162-B5A4939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D9BF-ED78-44AF-BB58-2AEEC00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654C-B882-4252-A4C9-47B97A1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2465-A041-41CC-8B2C-622366C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6699-3812-4D3F-B28D-7444C21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0007-F128-43E7-B80E-DFE13DB8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84BF-955E-46D8-8C1F-CC9B4BCA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F1AC-6879-4F57-B2D3-1C8DEBF1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2A29-9151-4A28-85E9-035AA2B3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5DB9-1B11-4FC3-A6E8-9EED4F1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D83F-694E-40C6-B004-5558E07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C92-A0D4-4288-9CEE-BEAB5242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2F57-49E3-4B8B-B37D-BA430D4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4CF5-7527-4E51-9C54-5A34073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250E-CBFB-4056-984A-6882840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DF31-5966-433B-9CD9-7BAF963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4B2E-1437-4A27-8889-392DB07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3E6A-3C92-499F-9137-5DCC179C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A8B5-EE23-4729-93EE-16E55584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349-2B68-42B2-A181-141BBB2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46F-738F-452B-B062-DF57CFD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92A-AD1E-42C5-8E36-0A93E007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D01-CDB8-4371-878D-6B667A3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B5A-4E1D-49F2-9E2B-3177A00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3E6-520A-4BFE-BDB1-C0B97EF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D3E-D850-4B07-A011-260AC621B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2D81-7190-49EF-953D-82B5F21F70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F3C-B950-4E3A-AF15-8718B6D202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1523880"/>
            <a:ext cx="49528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6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s and B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o stra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urn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urn le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am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bu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52280"/>
            <a:ext cx="28954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交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轿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程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着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右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左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迷路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交车在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you go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 to school by b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 to the zoo by tax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 to the restaurant by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 home by b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7621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怎样去上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3664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骑车去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482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坐计程车去动物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3276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乘车去餐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114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乘公交车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twenty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twenty-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twen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wenty-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twenty-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 twenty-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twenty-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twenty-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 twenty-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th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2666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轿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计程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物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8400"/>
            <a:ext cx="29718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骑车去图书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乘计程车去学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开车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乘公交车去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乘计程车去操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书馆在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物园在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80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to the library b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to school by tax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057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home b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666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to the classroom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41148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429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the playground by tax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6483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灯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灯亮了等一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交车站在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可以乘公交车去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，它很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30:35Z</dcterms:created>
  <dc:creator/>
  <dc:description/>
  <dc:language>en-US</dc:language>
  <cp:lastModifiedBy>微软用户</cp:lastModifiedBy>
  <dcterms:modified xsi:type="dcterms:W3CDTF">2017-05-05T07:02:05Z</dcterms:modified>
  <cp:revision>4</cp:revision>
  <dc:subject/>
  <dc:title/>
</cp:coreProperties>
</file>