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4CC-3D25-4EEC-86DC-E18EABE0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08E-97EB-47D3-97EA-FA1A401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209-CB25-4D97-B33C-596A0850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B96-83D2-40C5-8DDF-C1F6E0D8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0202-5874-4C4B-8F68-1360D5CD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8131-BB61-42EA-A2C3-20310E20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E35-A1DB-42F0-8E72-0D2D474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8A3-BA0E-49F4-A318-B66EC9AA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44E-C261-4C6C-918A-C222965E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476-CCD4-4C2F-A7FF-7C28F91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686A-DC1E-4160-9285-F8BD818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D8F-7755-414F-ACB8-63B0DB3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0EC-CB0D-46F9-84C5-046BAFD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E977-1423-4A35-AEA4-1C28B39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DAB5-ABA8-46FA-B287-4C6CFD59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34DA-87FF-4132-B0AB-30674A40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D65-BEE5-4490-86DD-194EBC64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314D-6E6D-438B-822C-66E047FF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C810-1601-4E1D-9E04-388F6E3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EEA5-DD4B-44B5-B1DE-E0071961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B6DB-E86A-4ACA-9A85-4F71D59E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5C77-0CFD-4B86-8094-CF998C44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DA7-4B40-409C-B9B1-99A4B29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AA4A-C425-431C-AF47-5D7E1798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309A-42AA-4872-ADFE-5F28B1D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04CE-B112-4BEA-9C3D-5D84B45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568F-FCA7-4279-A5F9-BA0A19EB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86CC-5FFE-4F15-97C8-1DA80E6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D0F1-BCC0-4445-B07A-03CB1118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F45C-764C-4803-8D54-63B4CC31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B6F-FA77-463C-BA3C-8F3C65C6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F5A-3028-4BCC-823F-EF56BAB0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2E8-3933-4705-9C06-0DCE681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AF1-20CE-4DC4-97A8-571C29D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A56-357D-494F-9603-C463E7D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7B7-B24A-4B7A-85A3-83AE31DA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FF3-2DC3-49FF-80F7-16306B112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566-9045-473A-B411-C817C6DD85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91D-53FB-4886-81F9-ADDEB349D3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&amp;tn=baiduimagedetail&amp;word=%BC%BD%BD&#816;%E6%C8%FD%C4&#44854;&#1250;%D3%EF%CF&#178;%E1%C8%CB%CE%EF&#892;&#428;&amp;in=12230&amp;cl=2&amp;lm=-1&amp;pn=276&amp;rn=1&amp;di=30413998230&amp;ln=1479&amp;fr=ala0&amp;fmq=&amp;ic=&amp;s=&amp;se=&amp;sme=0&amp;tab=&amp;width=&amp;height=&amp;face=&amp;is=&amp;istype=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33720" y="198108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Lesson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Shoes and s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276720"/>
            <a:ext cx="3002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2571840" cy="3305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86200" y="388620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are you wear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’m wearing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905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19920" y="1182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259092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0" b="5463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762120"/>
            <a:ext cx="838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et’s sing a song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wea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w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aring , wearing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’m wearing (a) ____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’m wearing (a) 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漂亮，真漂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481800"/>
            <a:ext cx="9144000" cy="37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4100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5105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586728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5715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388620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6680" y="10666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5867280"/>
            <a:ext cx="6933960" cy="764280"/>
          </a:xfrm>
          <a:prstGeom prst="rect">
            <a:avLst/>
          </a:prstGeom>
          <a:solidFill>
            <a:srgbClr val="e5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nny wea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72000" y="3352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971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838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666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48120" y="3581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457200"/>
            <a:ext cx="2895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57200"/>
            <a:ext cx="8153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展示交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s this your/his/her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shoe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re these your/his/her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sho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Yes/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1066680"/>
            <a:ext cx="60958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习下一课，并自己制作一个课程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2:58:02Z</dcterms:created>
  <dc:creator/>
  <dc:description/>
  <dc:language>en-US</dc:language>
  <cp:lastModifiedBy>微软用户</cp:lastModifiedBy>
  <dcterms:modified xsi:type="dcterms:W3CDTF">2017-05-05T06:44:5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