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546C-4E66-4AD7-B11B-D3EFC1BC7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9659-77D1-42CC-8A5B-5AB0B2C70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3F7D-BAF0-4490-9ABB-961EAA355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2A6E-7F36-4FC7-825B-4310A4217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80F1B-6660-41A7-85B9-E1D8C816E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BA657-EEF7-48F3-B8B5-309197FBA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E5E65-BCF5-4B54-8135-DF47445CD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C554C-B56A-4574-A025-B1A43CA96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8A2EE-F105-4346-9418-639D9CA4D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704AF-BA7D-46AC-8ABF-2A1BC4F9A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259DE-7729-4D2F-9396-55DC94933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2D64-937B-4A42-B07A-E1ED9D92C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80F27-509B-4986-9EE4-A8E4A6840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C86C8-6568-4676-B633-A1CD9E5DB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AB941-31BB-4AD3-8518-2665C7EDA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6539A-117A-4FB4-908F-1DDECF5C8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12144-1AF4-4B9A-9AA3-1240CD754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A9B26E-1278-4C91-B5B8-E5FB6F6D2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02C750-0B9E-4F6E-BDA4-A5343ACC5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8DBCA5-1754-4ACC-BE69-70EE3FFB6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B104C0-35B4-428E-8C8C-04B83285B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5D0CF2-13C5-4827-A099-43B1889E7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9F2D-24FC-4117-8664-F274C4041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8E1914-19DA-4714-85E0-0C014582D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008A8F-5179-4673-B980-350F13F23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3969C0-E032-4505-85D9-B6E92A727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AF4001-3E13-4946-B040-5E11FBFB7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B913DE-9FA6-4D13-AF8A-F2120DC51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46F8C0-4C60-4B4F-BA63-BE93AEAD0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AA0253-86BE-4813-9141-8781EBB95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2F42-9807-459B-B65D-92AA1B61B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C0CB-26DD-41E9-97C8-1F25DF884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75F4-C049-44A4-B2B5-E03A31E55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A169-2605-4E5E-BEF7-B8FCF88C6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426D-59E6-47A7-9AD9-980F40318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B660-1C9B-415B-9C53-AF9DE3E59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A674D-91E2-4F86-9C0C-A1ED20B44A4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42" name="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43" name="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668A8-0BDF-449E-9100-612262C6BA88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1658520" y="1600200"/>
            <a:ext cx="6837840" cy="3200400"/>
            <a:chOff x="1658520" y="1600200"/>
            <a:chExt cx="6837840" cy="3200400"/>
          </a:xfrm>
        </p:grpSpPr>
        <p:sp>
          <p:nvSpPr>
            <p:cNvPr id="90" name=""/>
            <p:cNvSpPr/>
            <p:nvPr/>
          </p:nvSpPr>
          <p:spPr>
            <a:xfrm flipH="1">
              <a:off x="697212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3390120" y="160020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339012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6972120" y="327672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22EB1-8564-4546-970E-2F62613E8C40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5486400" y="1143000"/>
            <a:ext cx="2819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 the C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600200" y="2133720"/>
            <a:ext cx="5268960" cy="400356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2743200" y="1066680"/>
            <a:ext cx="2666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Times New Roman"/>
              </a:rPr>
              <a:t>Shopp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14400" y="1066680"/>
            <a:ext cx="1752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ni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"/>
          <p:cNvGrpSpPr/>
          <p:nvPr/>
        </p:nvGrpSpPr>
        <p:grpSpPr>
          <a:xfrm>
            <a:off x="762120" y="1905120"/>
            <a:ext cx="7467480" cy="4511520"/>
            <a:chOff x="762120" y="1905120"/>
            <a:chExt cx="7467480" cy="4511520"/>
          </a:xfrm>
        </p:grpSpPr>
        <p:sp>
          <p:nvSpPr>
            <p:cNvPr id="141" name=""/>
            <p:cNvSpPr/>
            <p:nvPr/>
          </p:nvSpPr>
          <p:spPr>
            <a:xfrm>
              <a:off x="762120" y="1905120"/>
              <a:ext cx="746748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8000"/>
                  </a:solidFill>
                  <a:latin typeface="Times New Roman"/>
                </a:rPr>
                <a:t>Lesson 19  Let’s Go Shopping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2" name="" descr=""/>
            <p:cNvPicPr/>
            <p:nvPr/>
          </p:nvPicPr>
          <p:blipFill>
            <a:blip r:embed="rId1"/>
            <a:stretch/>
          </p:blipFill>
          <p:spPr>
            <a:xfrm>
              <a:off x="5105520" y="2819520"/>
              <a:ext cx="2925720" cy="35971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3352680" y="457200"/>
            <a:ext cx="5570640" cy="61182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304920" y="198108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Times New Roman"/>
              </a:rPr>
              <a:t>What is it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04920" y="2863800"/>
            <a:ext cx="259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Times New Roman"/>
              </a:rPr>
              <a:t>It is a ____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457200" y="351000"/>
            <a:ext cx="8132760" cy="46782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1523880" y="5257800"/>
            <a:ext cx="205740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book sh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523880" y="579132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toy sh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800600" y="518148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clothes sh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800600" y="5867280"/>
            <a:ext cx="175248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tea sh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" dur="1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" dur="1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1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" dur="1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" dur="1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1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" dur="1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" dur="1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" dur="1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" dur="1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" dur="1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1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609480" y="1523880"/>
            <a:ext cx="8077320" cy="46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Danny:  What do you want to bu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Times New Roman"/>
              </a:rPr>
              <a:t>Jenny:  I want to buy a new dr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Times New Roman"/>
              </a:rPr>
              <a:t>Jenny: Let’s go to the clothes sho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Danny:  No, please! I don’t want to buy a new dr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Times New Roman"/>
              </a:rPr>
              <a:t>Jenny:  Well, what do you want to bu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Danny: Ice cream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362320" y="5791320"/>
            <a:ext cx="419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=I want to buy i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ream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990720" y="2133720"/>
            <a:ext cx="58672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What does Jenny want to buy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Where does she want to go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What does Danny want to buy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752480" y="1447920"/>
            <a:ext cx="5562720" cy="369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Times New Roman"/>
              </a:rPr>
              <a:t>Let’s go shoppi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Times New Roman"/>
              </a:rPr>
              <a:t>What do you want to bu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Times New Roman"/>
              </a:rPr>
              <a:t>I want to buy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a new dress</a:t>
            </a:r>
            <a:r>
              <a:rPr b="1" lang="en-US" sz="3600" spc="-1" strike="noStrike">
                <a:solidFill>
                  <a:srgbClr val="008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Times New Roman"/>
              </a:rPr>
              <a:t>Let’s go to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the clothes shop</a:t>
            </a:r>
            <a:r>
              <a:rPr b="1" lang="en-US" sz="3600" spc="-1" strike="noStrike">
                <a:solidFill>
                  <a:srgbClr val="008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52280" y="1523880"/>
            <a:ext cx="8991720" cy="533412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1828800" y="41112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Talk and </a:t>
            </a:r>
            <a:r>
              <a:rPr b="1" lang="en-US" sz="3600" spc="-1" strike="noStrike">
                <a:solidFill>
                  <a:srgbClr val="008000"/>
                </a:solidFill>
                <a:latin typeface="Times New Roman"/>
              </a:rPr>
              <a:t>wri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1143000" y="2362320"/>
            <a:ext cx="693432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Thank you!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7-11T03:37:04Z</dcterms:created>
  <dc:creator/>
  <dc:description/>
  <dc:language>en-US</dc:language>
  <cp:lastModifiedBy>微软用户</cp:lastModifiedBy>
  <dcterms:modified xsi:type="dcterms:W3CDTF">2017-05-05T07:05:51Z</dcterms:modified>
  <cp:revision>2</cp:revision>
  <dc:subject/>
  <dc:title/>
</cp:coreProperties>
</file>