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8AC1-4542-4AE8-8578-2B1A027F7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FE34-51AA-4FF1-AA62-553671EE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CE85-CD4E-4C9D-9368-5CF42E0E2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DC6B-5437-41CB-BCA5-FC7648D80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0DCF-5CAF-4582-BCCC-6AE9E1415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DB4B-809C-4BC0-AEFD-81A3708A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05FF-6CCF-42B3-A5A0-2BE4883C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70D4-EB8D-4EDC-B253-B18FE8DA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3D73-80DF-4CF2-A784-ACC5C4CD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590E-7EE5-4999-B05F-EF94419F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D86E-6E15-4BD0-B2F9-9AB41A5E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78D0-F69E-4FB3-9A96-E89A1340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D991-ACF9-47DC-B493-EB082D97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F9E8-297D-4492-9F5F-05C660F6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54EB-AD54-4800-8741-6883660A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6BEE-73D4-42B7-A451-748957483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8E42-E7E7-4584-AC4C-F13C19839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146EF-35BE-4D56-A37D-BE7183FF0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7B682-0B96-4896-A32B-63983577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76CA0-C2F0-44EB-BC3E-F895DF86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706ED-A839-496D-BFFE-D0880AC9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73D2F-637D-46AF-BB3F-98623596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DD65-83F9-4B58-95F4-A518696F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5674C-DA21-4336-BD67-962FCFA2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E1A36-64D6-4687-98A2-AC491FFC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892EA-F431-4132-B275-A6FBDF9F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14EF7-2BAA-4040-8140-F63D08D1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8746D-BD6D-489A-AC6F-3DE3ED15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77A4A-68DD-4293-BB19-F5AD08C88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12F31-B4A9-4A87-9A26-3558AAC81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2763-29EC-40BC-82FC-199A8D31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B705-21FA-40D9-A388-7CA7DE69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65BA-3C79-4C67-A734-E3509B63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487A-4A7D-48E5-81AF-E58E002C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6309-39F6-4BD7-A9C4-A406E12C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3F06-3729-46EF-AB76-460E606A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DB00-B1C3-485C-BA0E-776AE20B9D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3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2E70-9769-4E2B-AB33-891F21B1279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0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1394-CDFD-4EC1-804C-94FF1BEFB7A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057400" y="1978200"/>
            <a:ext cx="51055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esson</a:t>
            </a:r>
            <a:r>
              <a:rPr b="0" lang="zh-CN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inema and Pa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0" lang="en-US" sz="8400" spc="-1" strike="noStrike">
                <a:solidFill>
                  <a:srgbClr val="0000ff"/>
                </a:solidFill>
                <a:latin typeface="黑体"/>
                <a:ea typeface="黑体"/>
              </a:rPr>
              <a:t>Let's Go!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qi1"/>
          <p:cNvPicPr/>
          <p:nvPr/>
        </p:nvPicPr>
        <p:blipFill>
          <a:blip r:embed="rId1"/>
          <a:stretch/>
        </p:blipFill>
        <p:spPr>
          <a:xfrm>
            <a:off x="825480" y="1557360"/>
            <a:ext cx="7461360" cy="40528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732720" y="5157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" dur="indefinite" restart="never" nodeType="tmRoot">
          <p:childTnLst>
            <p:seq>
              <p:cTn id="295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9" dur="35016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2 拷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609200" y="1798200"/>
            <a:ext cx="7007400" cy="29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5651640" y="4508640"/>
            <a:ext cx="349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124000" y="2276640"/>
            <a:ext cx="5616720" cy="19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Home   work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5280" y="-96840"/>
            <a:ext cx="899964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atch  and  match:(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看看连连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7" descr="超市"/>
          <p:cNvPicPr/>
          <p:nvPr/>
        </p:nvPicPr>
        <p:blipFill>
          <a:blip r:embed="rId1"/>
          <a:stretch/>
        </p:blipFill>
        <p:spPr>
          <a:xfrm>
            <a:off x="395280" y="836640"/>
            <a:ext cx="2089080" cy="136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cinema"/>
          <p:cNvPicPr/>
          <p:nvPr/>
        </p:nvPicPr>
        <p:blipFill>
          <a:blip r:embed="rId2"/>
          <a:stretch/>
        </p:blipFill>
        <p:spPr>
          <a:xfrm>
            <a:off x="5942160" y="2638440"/>
            <a:ext cx="2160360" cy="1440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0" descr="公园"/>
          <p:cNvPicPr/>
          <p:nvPr/>
        </p:nvPicPr>
        <p:blipFill>
          <a:blip r:embed="rId3"/>
          <a:stretch/>
        </p:blipFill>
        <p:spPr>
          <a:xfrm>
            <a:off x="324000" y="4511520"/>
            <a:ext cx="2158920" cy="1582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325440" y="2637000"/>
            <a:ext cx="2160720" cy="14396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133800" y="98100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y ping-p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3640" y="1844640"/>
            <a:ext cx="23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y  a  shi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771640" y="2565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tch the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05080" y="3357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d  a  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9440" y="42940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y   a     k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133800" y="508644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e    a      fi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268000" y="3716280"/>
            <a:ext cx="71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5870520" y="838080"/>
            <a:ext cx="2160720" cy="1440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5942160" y="4511520"/>
            <a:ext cx="2160360" cy="13669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332000" y="6021360"/>
            <a:ext cx="76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Let's go to the______to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Make a plan</a:t>
            </a:r>
            <a:r>
              <a:rPr b="0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br>
              <a:rPr sz="2100"/>
            </a:br>
            <a:r>
              <a:rPr b="0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结合实际，和朋友一起制定一周的学习或生活计划，并持之以恒。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57200" y="1600200"/>
          <a:ext cx="8229240" cy="4530240"/>
        </p:xfrm>
        <a:graphic>
          <a:graphicData uri="http://schemas.openxmlformats.org/drawingml/2006/table">
            <a:tbl>
              <a:tblPr/>
              <a:tblGrid>
                <a:gridCol w="2306880"/>
                <a:gridCol w="5922360"/>
              </a:tblGrid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’s go to the library to read a boo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es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dnes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urs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WordArt 5" descr=""/>
          <p:cNvPicPr/>
          <p:nvPr/>
        </p:nvPicPr>
        <p:blipFill>
          <a:blip r:embed="rId1"/>
          <a:stretch/>
        </p:blipFill>
        <p:spPr>
          <a:xfrm>
            <a:off x="2262240" y="1341360"/>
            <a:ext cx="5126040" cy="293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0" lang="en-US" sz="8400" spc="-1" strike="noStrike">
                <a:solidFill>
                  <a:srgbClr val="0000ff"/>
                </a:solidFill>
                <a:latin typeface="黑体"/>
                <a:ea typeface="黑体"/>
              </a:rPr>
              <a:t>Let's Go!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qi1"/>
          <p:cNvPicPr/>
          <p:nvPr/>
        </p:nvPicPr>
        <p:blipFill>
          <a:blip r:embed="rId1"/>
          <a:stretch/>
        </p:blipFill>
        <p:spPr>
          <a:xfrm>
            <a:off x="825480" y="1557360"/>
            <a:ext cx="7461360" cy="4052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732720" y="5157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016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3"/>
          <p:cNvSpPr/>
          <p:nvPr/>
        </p:nvSpPr>
        <p:spPr>
          <a:xfrm>
            <a:off x="1403280" y="260280"/>
            <a:ext cx="6050160" cy="1224000"/>
          </a:xfrm>
          <a:prstGeom prst="cloudCallout">
            <a:avLst>
              <a:gd name="adj1" fmla="val -64092"/>
              <a:gd name="adj2" fmla="val 8813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快乐旅行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站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 flipV="1" rot="10828200">
            <a:off x="826920" y="4580280"/>
            <a:ext cx="201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6637320" y="136692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6335640" cy="3276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419640" y="5013360"/>
            <a:ext cx="178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763640" y="2781360"/>
            <a:ext cx="228600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高阳电影院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46" name=""/>
          <p:cNvSpPr/>
          <p:nvPr/>
        </p:nvSpPr>
        <p:spPr>
          <a:xfrm>
            <a:off x="2034720" y="5564160"/>
            <a:ext cx="677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Let’s 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go to th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_n_m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92960" y="5516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93080" y="551664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utoShape 3"/>
          <p:cNvSpPr/>
          <p:nvPr/>
        </p:nvSpPr>
        <p:spPr>
          <a:xfrm>
            <a:off x="1908000" y="0"/>
            <a:ext cx="6048720" cy="1368360"/>
          </a:xfrm>
          <a:prstGeom prst="cloudCallout">
            <a:avLst>
              <a:gd name="adj1" fmla="val -76875"/>
              <a:gd name="adj2" fmla="val 7679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快乐旅行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站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049480" y="5013360"/>
            <a:ext cx="70945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o to th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___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24360" y="458136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400720" cy="30891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508720" y="5445000"/>
            <a:ext cx="69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7" descr="超市"/>
          <p:cNvPicPr/>
          <p:nvPr/>
        </p:nvPicPr>
        <p:blipFill>
          <a:blip r:embed="rId1"/>
          <a:stretch/>
        </p:blipFill>
        <p:spPr>
          <a:xfrm>
            <a:off x="1692360" y="1484280"/>
            <a:ext cx="6048360" cy="31687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8"/>
          <p:cNvSpPr/>
          <p:nvPr/>
        </p:nvSpPr>
        <p:spPr>
          <a:xfrm>
            <a:off x="2843280" y="4797360"/>
            <a:ext cx="4176720" cy="29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s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u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perm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ar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ket</a:t>
            </a:r>
            <a:r>
              <a:rPr b="1" lang="zh-CN" sz="40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 u="sng">
                <a:solidFill>
                  <a:srgbClr val="000000"/>
                </a:solidFill>
                <a:uFillTx/>
                <a:latin typeface="方正舒体"/>
                <a:ea typeface="方正舒体"/>
              </a:rPr>
              <a:t>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619280" y="5516640"/>
            <a:ext cx="880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Le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s 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go to the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s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_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perm__ket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2411280" y="0"/>
            <a:ext cx="4897440" cy="1268280"/>
          </a:xfrm>
          <a:prstGeom prst="cloudCallout">
            <a:avLst>
              <a:gd name="adj1" fmla="val -85074"/>
              <a:gd name="adj2" fmla="val 7615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快乐旅行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站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96000" y="5445000"/>
            <a:ext cx="46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236000" y="5445000"/>
            <a:ext cx="742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 flipV="1" rot="10828200">
            <a:off x="6012000" y="5546520"/>
            <a:ext cx="201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6637320" y="136692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2663640" cy="23828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11280" y="3429000"/>
            <a:ext cx="187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11280" y="1700280"/>
            <a:ext cx="938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高阳电影院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65" name=""/>
          <p:cNvSpPr/>
          <p:nvPr/>
        </p:nvSpPr>
        <p:spPr>
          <a:xfrm>
            <a:off x="1476360" y="5877000"/>
            <a:ext cx="766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Let’s 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go to the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____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to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005360"/>
            <a:ext cx="305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see a fil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3203640" y="907920"/>
            <a:ext cx="2663640" cy="2376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超市"/>
          <p:cNvPicPr/>
          <p:nvPr/>
        </p:nvPicPr>
        <p:blipFill>
          <a:blip r:embed="rId5"/>
          <a:stretch/>
        </p:blipFill>
        <p:spPr>
          <a:xfrm>
            <a:off x="5940360" y="907920"/>
            <a:ext cx="2448000" cy="23767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875400" y="33638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__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4005360"/>
            <a:ext cx="287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fly k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67280" y="3357720"/>
            <a:ext cx="33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_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perm__k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12000" y="4005360"/>
            <a:ext cx="339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buy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f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76360" y="4653000"/>
            <a:ext cx="766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A: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Where do you want to 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6920" y="3429000"/>
            <a:ext cx="32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29480" y="342900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11640" y="3357720"/>
            <a:ext cx="68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86520" y="3357720"/>
            <a:ext cx="4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51640" y="335772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76360" y="5164200"/>
            <a:ext cx="723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B:I want to go to the par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黑体"/>
                <a:ea typeface="黑体"/>
              </a:rPr>
              <a:t>Let’s Chant!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05788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ark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rk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go to th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r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go to the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r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t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y kit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2565360"/>
            <a:ext cx="77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Cinema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inema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go to the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inem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Let’s 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go to the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cinema 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to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see a fil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 rot="10800000">
            <a:off x="534600" y="3643920"/>
            <a:ext cx="8218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upermarket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，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upermarket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go to th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upermar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t’s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go to th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upermarket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t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uy      some  f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isten and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5840" y="642600"/>
            <a:ext cx="857232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Jenny wants to buy a dress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  (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Danny wants to go to the restaur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Danny wants to go to the zoo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Danny wants to eat some ice cr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Danny wants to go to the park.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812000" y="6165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198200" y="1125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236000" y="2276640"/>
            <a:ext cx="52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黑体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259760" y="2852640"/>
            <a:ext cx="44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69480" y="4076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69480" y="4797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3" dur="42005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920" y="152280"/>
            <a:ext cx="8208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ad and talk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读读说说）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9721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you want to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 want 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th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inema,supermarket,park,school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rary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room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auran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k!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e_______to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e a film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y kites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a boo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 have supp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Arial"/>
              </a:rPr>
              <a:t>C:I’m tired. I don’t want to go to the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008080"/>
                </a:solidFill>
                <a:latin typeface="Arial"/>
              </a:rPr>
              <a:t>Good by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11T03:42:42Z</dcterms:created>
  <dc:creator/>
  <dc:description/>
  <dc:language>en-US</dc:language>
  <cp:lastModifiedBy>微软用户</cp:lastModifiedBy>
  <dcterms:modified xsi:type="dcterms:W3CDTF">2017-05-22T07:30:47Z</dcterms:modified>
  <cp:revision>3</cp:revision>
  <dc:subject/>
  <dc:title/>
</cp:coreProperties>
</file>